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137-EA43-45D7-8B78-C87B88A00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EFB1-1102-4A98-9697-397CDAB9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98E1-1080-492F-827C-462D35011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BE7F-1D0A-4E6A-9F73-10F52183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392A-42E9-4CAF-8763-22098192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9E3-2A2D-49C7-B027-6678AA14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B5C0-E90E-45ED-A296-7A2CEEFF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499-852E-4030-A9D6-3F72058E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7D38-AB82-4242-8A4C-354B5A81A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4DBA-E9ED-4718-9C46-97529738A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8141-1039-486E-9494-7EE51501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FF2E-786C-4178-981D-AF3FB618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580D-A2E8-41E7-88A5-211673C65B2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440" y="946080"/>
            <a:ext cx="7585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Э К О Н О М И Ч Е С К И 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А Н А Л И 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773440" y="-2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2880" y="311040"/>
            <a:ext cx="1046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КАЗАТЕЛИ КОМПЛЕКСНОГО ЭКОНОМИЧЕСКОГО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14640" y="903240"/>
            <a:ext cx="481464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ПОКАЗАТЕЛИ ОРГАНИЗАЦИОННО-ТЕХНИЧЕСКОГ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РОВНЯ  РАЗВИТИЯ 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69880" y="1836720"/>
            <a:ext cx="2133720" cy="63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ПОКАЗА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НАБЖ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13240" y="1817640"/>
            <a:ext cx="211428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ПОКАЗАТЕЛ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397560" y="1817640"/>
            <a:ext cx="219564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ПОКАЗАТЕЛ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БЫ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99360" y="2832120"/>
            <a:ext cx="2195280" cy="11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 ПОКАЗА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СПОЛЬЗОВА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РУДОВ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ЕСУРС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73280" y="2832120"/>
            <a:ext cx="2175120" cy="11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 ПОКАЗАТЕЛ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СПОЛЬЗОВА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ЕДМЕ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6640" y="2832120"/>
            <a:ext cx="2133720" cy="11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ПОКАЗА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СПОЛЬЗОВА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РЕДСТ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0480" y="4389480"/>
            <a:ext cx="483552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ПОКАЗАТЕЛИ СЕБЕСТОИМОСТИ ПРОДУ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5203800"/>
            <a:ext cx="483552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 ПОКАЗАТЕЛИ  ПРИБЫЛИ  И  РЕНТАБЕ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30480" y="5975280"/>
            <a:ext cx="483552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 ПОКАЗАТЕЛИ ФИНАНСОВОГО СОСТОЯ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813880" y="1246320"/>
            <a:ext cx="1440" cy="503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01320" y="1225440"/>
            <a:ext cx="20520" cy="507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2200" y="1225440"/>
            <a:ext cx="175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50160" y="12254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2200" y="6284880"/>
            <a:ext cx="177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950160" y="6284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69240" y="5492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2200" y="5492880"/>
            <a:ext cx="1770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69240" y="47214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2200" y="4721400"/>
            <a:ext cx="1790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68760" y="154476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68760" y="24591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68760" y="3962520"/>
            <a:ext cx="0" cy="42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67320" y="4886280"/>
            <a:ext cx="1440" cy="3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68760" y="571032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461960" y="1674720"/>
            <a:ext cx="6459840" cy="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482840" y="2668680"/>
            <a:ext cx="631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40800" y="2506680"/>
            <a:ext cx="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862760" y="1687680"/>
            <a:ext cx="180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0000" y="2459160"/>
            <a:ext cx="0" cy="36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440000" y="166680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6329520" y="685800"/>
            <a:ext cx="18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80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ма 2.    АНАЛИЗ ТРУДА И ЗАРАБОТНОЙ ПЛА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0880" y="15238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274320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40384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ТОЧНИКИ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0" y="1143000"/>
            <a:ext cx="41911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ИЗУЧЕНИЕ ПОКАЗАТЕЛЕЙ ЧИСЛЕННОСТИ, ДИНАМИКИ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СОСТАВА, СТРУКТУРЫ, КВАЛИФИКАЦИОННОГО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УРОВНЯ ПЕРСОНАЛА, ВЕЛИЧИНЫ ТРУДОЕМКОСТИ ПРОДУКЦИИ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 ИССЛЕДОВАНИЕ УРОВНЯ ПРОИЗВОДИТЕЛЬНОСТИ ТРУДА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 ОЦЕНКА СТЕПЕНИ ОБОСНОВАННОСТИ ПРИМЕНЯЕМЫ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ФОРМ И СИСТЕМ ОПЛАТЫ ТРУДА; ОПРЕДЕЛЕНИЕ РАЗМЕР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И ДИНАМИКИ СРЕДНЕЙ ЗАРАБОТНОЙ ПЛАТЫ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2514600"/>
            <a:ext cx="41911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ЧИСЛЕННОСТЬ РАБОТНИКОВ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ФОНД РАБОЧЕГО ВРЕМЕН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ФОНД ЗАРАБОТНОЙ ПЛ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0" y="5181480"/>
            <a:ext cx="41911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 АНАЛИЗ ОБЕСПЕЧЕННОСТИ ПРЕДПРИЯТИЯ ТРУДОВЫМ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РЕСУРСАМ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 АНАЛИЗ ТРУДОЕМКОСТИ ПРОДУКЦ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 АНАЛИЗ ПРОИЗВОДИТЕЛЬНОСТИ ТРУД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 АНАЛИЗ ЭФФЕКТИВНОСТИ ИСПОЛЬЗОВАНИЯ ПЕРСОНАЛ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 АНАЛИЗ ФОНДА ЗАРАБОТНОЙ ПЛАТЫ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0880" y="2895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ЪЕКТЫ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5334120"/>
            <a:ext cx="38102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ТАПЫ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3809880"/>
            <a:ext cx="41911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 ДАННЫЕ ФОРМЫ №5 ГОДОВОГО ОТЧЕТА, ОТЧЕТА О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ЧИСЛЕННОСТИ, ЗАРАБОТНОЙ ПЛАТЕ И ДВИЖЕНИИ ПЕРСОНАЛА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 ШТАТНЫЕ РАСПИСАНИЯ СПЕЦИАЛИСТОВ И СЛУЖАЩИХ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 ДАННЫЕ ТАБЕЛЬНОГО УЧЕТА О ДВИЖЕНИИ РАБОТНИКОВ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 ДАННЫЕ О НАЧИСЛЕННОЙ ЗАРАБОТНОЙ ПЛАТЕ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83200" y="192888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02280" y="3154320"/>
            <a:ext cx="36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83200" y="443880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83200" y="5722920"/>
            <a:ext cx="36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355760" y="-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27000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 ОБЕСПЕЧЕННОСТИ ПРЕДПРИЯТИЯ ПЕРСОНАЛ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685800"/>
            <a:ext cx="99057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СРАВНЕНИЕ ФАКТИЧЕСКОГО КОЛИЧЕСТВА РАБОТНИКОВ ПО КАТЕГОРИЯМ  ПРОФЕССИЯ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 ПЛАНОВОЙ ПОТРЕБНОСТЬЮ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АНАЛИЗ КАЧЕСТВЕННОГО СОСТАВА ПЕРСОНАЛА ПО УРОВНЮ КВАЛИФИКАЦИИ, СТАЖ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БОТЫ, ОБРАЗОВАНИЮ, ВОЗРАСТУ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 АНАЛИЗ ДВИЖЕНИЯ ПЕРСОНАЛ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ОБОРОТА                            КОЛИЧЕСТВО ПЕРСОНАЛА, ПРИНЯТОГО НА РАБОТ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ПРИЕМУ РАБОТНИК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(Кпр) =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ЕСПИСОЧНАЯ ЧИСЛЕННОСТ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БО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ОБОРОТА                            КОЛИЧЕСТВО УВОЛИВШИХСЯ РАБО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ВЫБЫТИ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(Кв)   =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ЕСПИСОЧНАЯ ЧИСЛЕННОСТЬ РАБО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ТЕКУЧЕСТИ                       КОЛИЧЕСТВО УВОЛИВШИХСЯ  ПО СОБСТВЕННОМУ ЖЕЛА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ДР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(Ктк)  =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ЕСПИСОЧНАЯ ЧИСЛЕННОСТЬ РАБО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ПОСТОЯНСТВА                КОЛИЧЕСТВО РАБОТНИКОВ, ПРОРАБОТАВШИХ ВЕСЬ Г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СОНАЛ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(Кпп)  =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ЕСПИСОЧНАЯ ЧИСЛЕННОСТЬ РАБО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. АНАЛИЗ РЕЗЕРВОВ УВЕЛИЧЕНИЯ ОБЪЕМА ПРОИЗВОДСТВ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86200" y="220968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09880" y="28954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86200" y="35053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9880" y="411480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0880" y="533412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 ТРУДОЕМКОСТИ ПРОДУ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ТРУДОЕМКОСТЬ –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ТРАТЫ ВРЕМЕНИ НА ВЫПОЛНЕНИЕ ОПРЕДЕЛЕННОГО ВИДА РАБО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133720" y="48006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  Об.Пр. =  Р  Кол.Раб.мест * П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24382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40384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27360" y="6095880"/>
            <a:ext cx="6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429000" y="590868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Р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.П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9568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59436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ЧР * Д * 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.П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29000" y="6324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29200" y="63244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762120" y="19368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 ЭФФЕКТИВНОСТИ ИСПОЛЬЗОВАНИЯ ПЕРСОН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8380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ЕНТАБЕЛЬНОС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ЕРСОН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438280" y="914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95480" y="838080"/>
            <a:ext cx="51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ИБЫЛЬ ОТ РЕАЛИЗАЦИИ ПРОДУК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РЕДНЕСПИСОЧНАЯ ЧИСЛЕННОСТЬ ПЕРСОН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48120" y="114300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001000" y="914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981080" y="1905120"/>
            <a:ext cx="53341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НТАБЕЛЬНОСТЬ  ПЕРСОНАЛА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R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3048120"/>
            <a:ext cx="3048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РЕДНЕГОДОВАЯ ВЫРАБОТ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ДУКЦИИ ОДНИ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БОТНИКОМ   (ПТ)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15000" y="4419720"/>
            <a:ext cx="3048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НТАБЕЛЬНОСТЬ ПРОДАЖ  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4419720"/>
            <a:ext cx="5105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ЛЯ РЕАЛИЗОВАННОЙ ПРОДУКЦИИ В ОБЩЕМ ОБЪЕМ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ПУСКА   (Дрп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15000" y="3048120"/>
            <a:ext cx="3048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НТАБЕЛЬНОСТЬ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ИЗВОДСТВА  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61760" y="55278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19520" y="5527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8120" y="5334120"/>
            <a:ext cx="7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5562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66680" y="5527800"/>
            <a:ext cx="6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33720" y="5334120"/>
            <a:ext cx="606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53341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.П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00600" y="53341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.П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5562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3720" y="5791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62520" y="5783400"/>
            <a:ext cx="6094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276720" y="5791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52880" y="5791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638680" y="5486400"/>
            <a:ext cx="32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. * Дрп * П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V="1">
            <a:off x="114300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2133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800100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731484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731520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86200" y="35053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886200" y="3505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898560" y="270000"/>
            <a:ext cx="748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 ПРОИЗВОДИТЕЛЬНОСТИ ТРУ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89080" y="838080"/>
            <a:ext cx="80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ОИЗВОДИТЕЛЬНОСТЬ ТРУД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КОЛИЧЕСТВО ПРОДУКЦИИ (ТОВАРОВ, РАБОТ, УСЛУГ)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ИЗВЕДЕННОЙ (РЕАЛИЗОВАННОЙ) В ЕДИНИЦУ ВРЕМЕНИ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743200" y="1676520"/>
            <a:ext cx="37339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ЕГОДОВАЯ ВЫРАБОТ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ДНОГО РАБОТНИКА (Выр) (П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0880" y="2666880"/>
            <a:ext cx="28195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ДЕЛЬНЫЙ ВЕС РАБОЧИХ В ОБЩ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ЧИСЛЕННОСТИ ПЕРСОНАЛА  (У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38680" y="2666880"/>
            <a:ext cx="3124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ЕДНЕВНАЯ ВЫРАБОТКА  (ДВы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334120" y="3429000"/>
            <a:ext cx="3429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ЕЧАСОВАЯ ВЫРАБОТКА (ЧВы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3429000"/>
            <a:ext cx="4343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ЕДНЯЯ ПРОДОЛЖИТЕЛЬНОСТЬ РАБОЧЕГО  ДНЯ    (П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52680" y="2666880"/>
            <a:ext cx="2057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ЛИЧЕСТВ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ТРАБОТАННЫХ ДНЕЙ (Д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4191120"/>
            <a:ext cx="15242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ХНИК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ХНОЛОГ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4191120"/>
            <a:ext cx="1523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ВТОМАТ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 МЕХ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191120" y="4191120"/>
            <a:ext cx="1523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РОВЕН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ВАЛИФИК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БО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41911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РУДОВ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Т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 ВОЗРАС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БО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0120" y="4191120"/>
            <a:ext cx="1143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ОТИВ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880" y="568008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Т = Уд * Д * П *ЧВы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95680" y="5715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  ПТ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08640" y="5527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486400" y="56386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.Пр. ф +Р  Об.П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РВ ф – Р  ФРВ + ФРВ 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848720" y="556272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077320" y="5638680"/>
            <a:ext cx="106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.Пр. 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РВ 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562720" y="5943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29600" y="5943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670572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80060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553080" y="59432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066680" y="403848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30481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9528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7057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82296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7391520" y="380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24280" y="3581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05520" y="3352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5105520" y="335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64008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7391520" y="3048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905120" y="2057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7238880" y="20570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05120" y="20574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64771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4419720" y="2362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80880" y="117360"/>
            <a:ext cx="913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 ФОНДА ЗАРАБОТНОЙ ПЛАТ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880" y="6094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773280"/>
            <a:ext cx="999792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РАСЧЕТ АБСОЛЮТНОГО ОТКЛОНЕНИЯ ФАКТИЧЕСКОЙ ВЕЛИЧИНЫ ФОНДА ЗАРАБОТНОЙ ПЛА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ПЛАНОВОЙ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ЗПабс  =  ФЗПф  –  ФЗПп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РАСЧЕТ АБСОЛЮТНОГО ОТКЛОНЕНИЯ ФАКТИЧЕСКОЙ ВЕЛИЧИНЫ ФОНДА ЗАРАБОТНОЙ ПЛА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Т ПЛАНОВОЙ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ЗПотн =  ФЗПф - (ФЗПпл.пер * К + ФЗПпл.пос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 ФАКТОРНЫЙ АНАЛИЗ ФОНДА ЗАРАБОТНОЙ ПЛА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514600" y="2286000"/>
            <a:ext cx="4114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ОНД ЗАРАБОТНОЙ ПЛАТЫ  (ФЗП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0880" y="2971800"/>
            <a:ext cx="33530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РЕДНЕСПИСОЧНАЯ ЧИСЛЕН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БОТНИКОВ  (ЧР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105520" y="2971800"/>
            <a:ext cx="3657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РЕДНЕМЕСЯЧНАЯ  ЗАРПЛАТА  (ЗП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95280" y="3657600"/>
            <a:ext cx="24386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ОЛИЧЕСТВ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ТРАБОТАННЫХ ДНЕЙ (Д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14800" y="3657600"/>
            <a:ext cx="22096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ДОЛЖИТЕ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БОЧЕГО ДНЯ  (П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553080" y="3657600"/>
            <a:ext cx="21337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РЕДНЕЧАСОВ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РПЛАТА (ЧЗП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19520" y="43084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ЗП = ЧР * Д * П * ЧЗ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28600" y="4800600"/>
            <a:ext cx="85345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. РАСЧЕТ ЭКОНОМИИ (ПЕРЕРАСХОДА) ФОНДА ЗАРАБОТН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ЛАТЫ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 = ФЗПф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. АНАЛИЗ ЭФФЕКТИВНОСТИ ИСПОЬЗОВАНИЯ СРЕДСТВ НА ОПЛАТУ ТРУ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ЪЕМ ПРОИЗВОДСТВА НА РУБЛЬ ЗАРПЛАТЫ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.Пр. : ФЗ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РУЧКА НА РУБЛЬ ЗАРПЛАТЫ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: ФЗ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БЫЛЬ НА РУБЛЬ ЗАРПЛАТЫ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. : ФЗ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48720" y="472428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– 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924680" y="5105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35320" y="3583080"/>
            <a:ext cx="546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6573960" y="2492280"/>
            <a:ext cx="99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20840" y="2492280"/>
            <a:ext cx="117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7605720" y="2492280"/>
            <a:ext cx="0" cy="42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320840" y="2491920"/>
            <a:ext cx="0" cy="44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351160" y="3560760"/>
            <a:ext cx="0" cy="7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7797960" y="3560400"/>
            <a:ext cx="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5094360" y="3579480"/>
            <a:ext cx="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6456240" y="3443400"/>
            <a:ext cx="0" cy="15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6329520" y="685800"/>
            <a:ext cx="18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-304920" y="380880"/>
            <a:ext cx="9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ма 3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АЛИЗ ИСПОЛЬЗОВАНИЯ ОСНОВНЫХ СРЕДСТ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0880" y="15238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274320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0880" y="40384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ТОЧНИКИ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72000" y="1066680"/>
            <a:ext cx="41911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ОПРЕДЕЛЕНИЕ ОБЕСПЕЧЕННОСТИ ОРГАНИЗАЦИИ ОСНОВНЫМ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СРЕДСТВАМИ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УСТАНОВЛЕНИЕ ПРИЧИН ИЗМЕНЕНИЯ ИХ УРОВНЯ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РАСЧЕТ ВЛИЯНИЯ ИСПОЛЬЗОВАНИЯ ОСНОВНЫХ СРЕДСТ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НА ОБЪЕМ ПРОИЗВОДСТВА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ИЗУЧЕНИЕ СТЕПЕНИ ИСПОЛЬЗОВАНИЯ ПРОИЗВОДСТВЕННО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МОЩНОСТИ ОРГАНИЗАЦИИ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ВЫЯВЛЕНИЕ РЕЗЕРВОВ ПОВЫШЕНИЯ ЭФФЕКТИВНОСТ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ИСПОЛЬЗОВАНИЯ ОСНОВНЫХ СРЕДСТ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0" y="2743200"/>
            <a:ext cx="4191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СНОВНЫЕ ПРОИЗВОДСТВЕ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ОНДЫ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572000" y="5181480"/>
            <a:ext cx="41911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 АНАЛИЗ ОБЕСПЕЧЕННОСТИ ПРЕДПРИЯТИЯ ОСНОВНЫМ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СРЕДСТВАМ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 АНАЛИЗ ЭФФЕКТИВНОСТИ ИСПОЛЬЗОВАНИЯ ОСНОВНЫ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ФОНД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80880" y="2895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ЪЕКТЫ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80880" y="5334120"/>
            <a:ext cx="38102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ТАПЫ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0" y="3809880"/>
            <a:ext cx="41911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 БИЗНЕ-ПЛАН ОРГАНИЗАЦИИ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 ПЛАН ТЕХНИЧЕСКОГО РАЗВИТИЯ ОРГАНИЗАЦИИ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 ФОРМА №1 «БАЛАНС ПРЕДПРИЯТИЯ»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 ФОРМА №5, РАЗДЕЛ 3 «АМОРТИЗИРУЕМОЕ ИМУЩЕСТВО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 ФОРМА  №11 «ОТЧЕТ О НАЛИЧИИ И ДВИЖЕНИИ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ОСНОВНЫХ СРЕДСТВ»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ИНВЕНТАРНЫЕ КАРТОЧКИ УЧЕТА ОСНОВНЫХ СРЕДСТВ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164120" y="192888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02280" y="3154320"/>
            <a:ext cx="40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164120" y="443880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183200" y="5762520"/>
            <a:ext cx="36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355760" y="-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4920" y="30492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 ОБЕСПЕЧЕННОСТИ  ОСНОВНЫМИ СРЕДСТВ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747720"/>
            <a:ext cx="990576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АНАЛИЗ ОБЪЕМА ОСНОВНЫХ СРЕДСТВ, ИХ ДИНАМИКИ И СТРУКТУРЫ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АНАЛИЗ ДВИЖЕНИЯ И ТЕХНИЧЕСКОГО СОСТОЯНИЯ ОСНОВНЫХ СРЕДСТВ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                                   СТОИМОСТЬ ПОСТУПИВШИХ ОСНОВНЫХ СРЕДСТ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НОВЛЕНИЯ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Кобн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=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СТОИМОСТЬ ОСНОВНЫХ СРЕДСТВ НА КОНЕЦ Г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ОК                                                        СТОИМОСТЬ ОСНОВНЫХ СРЕДСТВ НА НАЧАЛО ПЕРИОД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НОВЛ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(Тоб)    =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СТОИМОСТЬ ПОСТУПИВШИХ ОСНОВНЫХ СРЕДСТ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                                         СТОИМОСТЬ ВЫБЫВШИХ ОСНОВНЫХ СРЕДСТ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ЫТ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(Кв)      =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ОСНОВНЫХ СРЕДСТВ НА НАЧАЛО ПЕРИ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                                                 СУММА ПРИРОСТА ОСНОВНЫХ СРЕДСТ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С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(Кпр)    =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ОИМОСТЬ ОСНОВНЫХ СРЕДСТВ НА НАЧАЛО ПЕРИОД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                                                 СУММА ИЗНОСА ОСНОВНЫХ СРЕДСТ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НОС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(Киз)    =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ОНАЧАЛЬНАЯ СТОИМОСТЬ ОСНОВНЫХ СРЕДСТ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                                      ОСТАТОЧНАЯ СТОИМОСТЬ  ОСНОВНЫХ СРЕДСТ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ДНОСТИ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Киз)    =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ВОНАЧАЛЬНАЯ СТОИМОСТЬ ОСНОВНЫХ СРЕДСТ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 АНАЛИЗ УРОВНЯ ОБЕСПЕЧЕННОСТИ ПРЕДПРИЯТИЯ ОСНОВНЫМИ ПРОИЗВОДСТВЕННЫ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НД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                                      СРЕДНЕГОДОВАЯ СУММА ОСНОВНЫХ ПРОИЗВОДСТВЕННЫХ ФОН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ДОВООРУЖЕННОСТИ                    СРЕДНЕСПИСОЧНАЯ ЧИСЛЕННОСТЬ РАБОТНИ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29000" y="590868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05320" y="1676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505320" y="22860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05320" y="28954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505320" y="41911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505320" y="480060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05320" y="350532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481560" y="605628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193680"/>
            <a:ext cx="9345600" cy="36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ЭФФЕКТИВНОСТИ ИСПОЛЬЗОВАНИЯ ОСНОВНЫХ ФОНД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ОИМОСТЬ ПРОИЗВЕДЕННОЙ ПРОДУКЦИИ  (Об.Пр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ФОНДООТДАЧА                     (Фо)    =      СРЕДНЕГОДОВАЯ СТОИМОСТЬ ОСНОВ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ИЗВОДСТВЕННЫХ ФОНДОВ  (ОПФ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ЕДНЕГОДОВАЯ СТОИМОСТЬ ОСНОВ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ИЗВОДСТВЕННЫХ ФОНДОВ  (ОПФ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ФОНДОЕМКОСТЬ                  (Фе)    =      СТОИМОСТЬ ПРОИЗВЕДЕННОЙ ПРОДУКЦИИ  (Об.Пр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 ОТНОСИТЕЛЬНАЯ ЭКОНОМИЯ ОСНОВНЫХ ФОНДОВ  =  ОПФ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– ОПФ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0  *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В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ИБЫ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. ФОНДОРЕНТАБЕЛЬНОСТЬ 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ф)  =   СРЕДНЕГОДОВАЯ СТОИМОСТЬ ОСНОВ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ИЗВОДСТВЕННЫХ ФОНДОВ  (ОПФ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124080" y="3809880"/>
            <a:ext cx="3124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0880" y="4419720"/>
            <a:ext cx="2514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НДООТДАЧ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НОВНЫХ ФОНДОВ  (Фо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705720" y="4419720"/>
            <a:ext cx="2057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НТАБЕ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ОТА 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00400" y="380988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НДОРЕНТАБЕЛЬНОСТЬ 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ф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048120" y="4419720"/>
            <a:ext cx="3504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ЛЯ РЕАЛИЗОВАННОЙ ПРОДУКЦИ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ВАЛОВОЙ ПРОДУКЦИИ  (Дрп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5181480"/>
            <a:ext cx="2514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ОИМОСТЬ ОСНОВ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ОНД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5181480"/>
            <a:ext cx="2667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РЕМЯ РАБОТЫ ОСНОВ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ОНД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19920" y="518148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ИЗВОДИТЕ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НОВНЫХ ФОНД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447920" y="5029200"/>
            <a:ext cx="624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1447920" y="502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4572000" y="50288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76960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4572000" y="4190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47920" y="4038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248160" y="40384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696080" y="4038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1447920" y="4038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21680" y="5943600"/>
            <a:ext cx="34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пф  =  Фо * Дрп *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657600" y="106668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57600" y="2133720"/>
            <a:ext cx="464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33920" y="3200400"/>
            <a:ext cx="3809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329520" y="685800"/>
            <a:ext cx="18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-304920" y="152280"/>
            <a:ext cx="9677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ма  4.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АЛИЗ ИСПОЛЬЗОВАНИЯ МАТЕРИАЛЬНЫХ РЕСУР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80880" y="15238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274320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80880" y="40384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ТОЧНИКИ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572000" y="1066680"/>
            <a:ext cx="41911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2743200"/>
            <a:ext cx="4191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МАТЕРИАЛЬНЫЕ РЕСУРСЫ ПРЕДПРИЯТ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ЫРЬЁ, МАТЕРИАЛ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ОМПЛЕКТУЮЩИЕ ИЗДЕЛИЯ, ПОЛУФАБРИКАТ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ОПЛИВО, ЭНЕРГ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572000" y="5396040"/>
            <a:ext cx="4191120" cy="98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АНАЛИЗ ОБЕСПЕЧЕННОСТИ ПРЕДПРИЯТ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АТЕРИАЛЬНЫМИ РЕСУРС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НАЛИЗ ЭФФЕКТИВНОСТИ ИСПОЛЬЗ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АТЕРИАЛЬНЫХ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895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ЪЕКТЫ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880" y="5334120"/>
            <a:ext cx="38102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ТАПЫ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572000" y="3790800"/>
            <a:ext cx="4191120" cy="14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ПЛАН МАТЕРИАЛЬНО-ТЕХНИЧЕСКОГО СНАБЖ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ДОГОВОРЫ НА ПОСТАВКУ СЫРЬЯ И МАТЕРИАЛ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ФОРМЫ СТАТИСТИЧЕСКОЙ ОТЧЕТНОСТИ О НАЛИ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ЧИИ И ИСПОЛЬЗОВАНИИ МАТЕРИАЛЬНЫХ РЕСУР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СВЕДЕНИЯ АНАЛИТИЧЕСКОГО БУХГАЛТЕРСК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ЧЕТА О ПОСТУПЛЕНИИ, РАСХОДЕ И ОСТАТК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АТЕРИАЛЬНЫХ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56160" y="1031760"/>
            <a:ext cx="4587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ОЦЕНКА РЕАЛЬНОСТИ ПЛАНОВ МАТЕРИАЛЬНО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ХНИЧЕСКОГО  СНАБЖЕНИЯ, СТЕПЕНИ ИХ ВЫПОЛНЕНИЯ И ВЛИЯНИЯ НА ОБЪЕМ ПРОИЗВОДСТВА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ОЦЕНКА УРОВНЯ ЭФФЕКТИВНОСТИ ИСПОЛЬЗОВ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ИЯ МАТЕРИАЛЬНЫХ РЕСУРС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ВЫЯВЛЕНИЕ ВНУТРИПРОИЗВОДСТВЕННЫХ РЕЗЕРВ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В ЭКОНОМИИ МАТЕРИАЛЬНЫХ РЕСУРС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183200" y="1909800"/>
            <a:ext cx="36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183200" y="3173400"/>
            <a:ext cx="36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64120" y="447660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83200" y="580068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329520" y="685800"/>
            <a:ext cx="18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3808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ма 1 ТЕОРИЯ ЭКОНОМИЧЕСКОГО АНАЛИ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427040"/>
            <a:ext cx="3132360" cy="71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УЩНОСТЬ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666880"/>
            <a:ext cx="313236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581280"/>
            <a:ext cx="3132360" cy="4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ЪЕКТЫ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79720" y="1143000"/>
            <a:ext cx="48834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9720" y="2514600"/>
            <a:ext cx="488340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ЧИННО-СЛЕДСТВЕННЫЕ СВЯЗИ ЭКОНОМИЧЕСКИ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ЯВЛЕНИЙ И ПРОЦЕССОВ В РАМКАХ ОРГАНИЗАЦИЙ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ТРАСЛЕЙ И ПР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79720" y="4307040"/>
            <a:ext cx="4897440" cy="2226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9840" y="27068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РЕДМЕТ 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5334120"/>
            <a:ext cx="31323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ТОЧНИКИ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79720" y="3486240"/>
            <a:ext cx="4883400" cy="6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79720" y="1225440"/>
            <a:ext cx="5264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УЧНЫЙ СПОСОБ  ПОЗНАНИЯ СУЩНОСТИ ЭКОНО-МИЧЕСКИХ ЯВЛЕНИЙ И ПРОЦЕССОВ, ОСНОВАННЫЙ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 РАЗДЕЛЕНИИ  ИХ НА СОСТАВНЫЕ ЧАСТИ И ИЗУЧЕНИИ ВО ВСЁМ МНОГООБРАЗИИ СВЯЗЕЙ  И ЗАВИСИМОСТ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79720" y="3500280"/>
            <a:ext cx="68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ЭКОНОМИЧЕСКИЕ  РЕЗУЛЬТАТЫ ХОЗЯЙСТВЕННО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ЕЯТЕЛЬНОСТИ  ОРГАНИЗ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70360" y="43545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30480" y="429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17800" y="4297320"/>
            <a:ext cx="5442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ДАННЫЕ БУХГАЛТЕРСКОГО УЧЕТА И ОТЧЕТ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ДАННЫЕ СТАТИСТИЧЕСКОГО УЧЕТА И ОТЧЕТ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ДАННЫЕ ОПЕРАТИВНОГО УЧЕТА И ОТЧЕТ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ПЛАНЫ ПЕРСПЕКТИВНЫЕ, ТЕКУЩИЕ, ОПЕРАТИВ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НОРМАТИВНЫЕ МАТЕРИАЛ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СМЕТЫ, ЦЕННИКИ, ПРОЕКТНЫЕ ЗАД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ОФИЦИАЛЬНЫЕ ДОКУМЕНТЫ ДЕЯТЕ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ХОЗЯЙСТВЕННО-ПРАВОВЫЕ ДОКУМЕН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ТЕХНИЧЕСКИЕ И ТЕХНОЛОГИЧЕСКИЕ  ДОКУМЕН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 ДАННЫЕ О СОСТОЯНИИ  РЫН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02080" y="293832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21160" y="3794040"/>
            <a:ext cx="35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83000" y="1792440"/>
            <a:ext cx="36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21160" y="5742000"/>
            <a:ext cx="35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152280" y="152280"/>
            <a:ext cx="9220320" cy="68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ОБЕСПЕЧЕННОСТИ МАТЕРИАЛЬНЫМИ РЕСУРСА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. АНАЛИЗ ВЫПОЛНЕНИЯ ПЛАНА МАТЕРИАЛЬНО-ТЕХНИЧЕСКОГО ОБЕСПЕЧЕНИЯ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АНАЛИЗ КАЧЕСТВА ПОЛУЧЕННЫХ МАТЕРИАЛОВ, СООТВЕТСТВИЯ ИХ СТАНДАРТАМ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ХНИЧЕСКИМ УСЛОВИЯМ, УСЛОВИЯМ ДОГОВОРОВ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 АНАЛИЗ ВЫПОЛНЕНИЯ ПЛАНА ПО СРОКАМ ПОСТАВК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. РАСЧЕТ ПРИРОСТА (УМЕНЬШЕНИЯ) ОБЪЕМА ПРОИЗВОДСТВА  (Об.Пр) ЗА СЧЕТ ИЗМЕНЕ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ТЕРИАЛЬНЫХ РЕСУРСОВ – КОЛИЧЕСТВА ЗАКУПЛЕННОГО СЫРЬЯ И МАТЕРИАЛОВ (КЗ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ХОДЯЩИХ ОСТАТКОВ СЫРЬЯ И МАТЕРИАЛОВ (Ост), СВЕРХНОРМАТИВНЫХ ОТХОДОВ (Отх)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ДЕЛЬНОГО РАСХОДА СЫРЬЯ НА ЕДИНИЦУ ПРОДУКЦИИ (УР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З + Ост - Отх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.Пр.  =            У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ФФЕКТИВНОСТЬ ИСПОЛЬЗОВАНИЯ МАТЕРИАЛЬНЫХ РЕСУР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НТАБЕЛЬНОСТЬ                                                     ПРИБЫ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ТЕРИАЛЬНЫХ ЗАТРАТ       =      СУММА МАТЕРИАЛЬНЫХ ЗАТРАТ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з=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*Дрп*М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ОИМОСТЬ ПРОИЗВЕДЕННОЙ ПРОДУ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ТЕРИАЛООТДАЧА               =            СУММА МАТЕРИАЛЬНЫХ ЗАТРА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ММА МАТЕРИАЛЬНЫХ ЗАТРА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ТЕРИАЛОЕМКОСТЬ            =       СТОИМОСТЬ ПРОИЗВЕДЕННОЙ ПРОДУ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ДЕЛЬНЫЙ ВЕС                                              СУММА МАТЕРИАЛЬНЫХ ЗАТРАТ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ТЕРИАЛЬНЫХ ЗАТРАТ       =       СЕБЕСТОИМОСТЬ ПРОИЗВЕДЕННОЙ  ПРОДУ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ЭФФИЦИЕНТ                                          СУММА МАТЕРИАЛЬНЫХ ЗАТРАТ ФАКТИЧЕСК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ТЕРИАЛЬНЫХ ЗАТРАТ       =       СУММА МАТЕРИАЛЬНЫХ ЗАТРАТ  ПЛАНОВАЯ  *  ОбПр фак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191120" y="28195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1280" y="39625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581280" y="46101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581280" y="590544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62200" y="5238720"/>
            <a:ext cx="381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562200" y="65152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"/>
          <p:cNvGrpSpPr/>
          <p:nvPr/>
        </p:nvGrpSpPr>
        <p:grpSpPr>
          <a:xfrm>
            <a:off x="2818440" y="662040"/>
            <a:ext cx="3582000" cy="403920"/>
            <a:chOff x="2818440" y="662040"/>
            <a:chExt cx="3582000" cy="403920"/>
          </a:xfrm>
        </p:grpSpPr>
        <p:sp>
          <p:nvSpPr>
            <p:cNvPr id="443" name=""/>
            <p:cNvSpPr/>
            <p:nvPr/>
          </p:nvSpPr>
          <p:spPr>
            <a:xfrm>
              <a:off x="2819520" y="685800"/>
              <a:ext cx="3580920" cy="380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18440" y="662040"/>
              <a:ext cx="323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МАТЕРИАЛОЁМКОСТЬ ПРОДУКЦИИ (МЕ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380880" y="1371600"/>
            <a:ext cx="36576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ЯМЫЕ  МАТЕРИАЛЬНЫЕ  ЗАТРАТЫ (МЗ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81480" y="1371600"/>
            <a:ext cx="35816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ТОИМОСТЬ ВЫПУЩЕННОЙ ПРОДУКЦИИ (ВП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1981080"/>
            <a:ext cx="3200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ЪЁМ ПРОИЗВОДСТВА ПРОДУК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Об.Пр.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62120" y="2438280"/>
            <a:ext cx="3200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ТРУКТУРА ПРОДУКЦИИ (Уд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2120" y="2895480"/>
            <a:ext cx="3200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СХОД МАТЕРИАЛОВ НА ЕДИНИЦ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ДУКЦИИ (УР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3352680"/>
            <a:ext cx="32004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ЦЕНЫ НА МАТЕРИАЛЬНЫЕ РЕСУРС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ЦМ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143000" y="4419720"/>
            <a:ext cx="1523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143000" y="4876920"/>
            <a:ext cx="1523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КВАЛИФИКАЦ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РАБОЧИ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143000" y="5334120"/>
            <a:ext cx="1523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БРАК ПРОИЗВОДСТВ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43000" y="5791320"/>
            <a:ext cx="1523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ОТХОДЫ, ПОТЕРИ 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8080" y="396252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1143000" y="3962520"/>
            <a:ext cx="1523880" cy="398520"/>
            <a:chOff x="1143000" y="3962520"/>
            <a:chExt cx="1523880" cy="398520"/>
          </a:xfrm>
        </p:grpSpPr>
        <p:sp>
          <p:nvSpPr>
            <p:cNvPr id="457" name=""/>
            <p:cNvSpPr/>
            <p:nvPr/>
          </p:nvSpPr>
          <p:spPr>
            <a:xfrm>
              <a:off x="1143000" y="3962520"/>
              <a:ext cx="15238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84400" y="3962520"/>
              <a:ext cx="1460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КАЧЕСТВО СЫРЬЯ И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МАТЕРИАЛОВ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2971800" y="3962520"/>
            <a:ext cx="1752480" cy="398520"/>
            <a:chOff x="2971800" y="3962520"/>
            <a:chExt cx="1752480" cy="398520"/>
          </a:xfrm>
        </p:grpSpPr>
        <p:sp>
          <p:nvSpPr>
            <p:cNvPr id="460" name=""/>
            <p:cNvSpPr/>
            <p:nvPr/>
          </p:nvSpPr>
          <p:spPr>
            <a:xfrm>
              <a:off x="2971800" y="3962520"/>
              <a:ext cx="17524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27680" y="3962520"/>
              <a:ext cx="1460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КАЧЕСТВО СЫРЬЯ И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МАТЕРИАЛОВ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2971800" y="4419720"/>
            <a:ext cx="1752480" cy="380880"/>
            <a:chOff x="2971800" y="4419720"/>
            <a:chExt cx="1752480" cy="380880"/>
          </a:xfrm>
        </p:grpSpPr>
        <p:sp>
          <p:nvSpPr>
            <p:cNvPr id="463" name=""/>
            <p:cNvSpPr/>
            <p:nvPr/>
          </p:nvSpPr>
          <p:spPr>
            <a:xfrm>
              <a:off x="2971800" y="4419720"/>
              <a:ext cx="17524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14880" y="4419720"/>
              <a:ext cx="108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РЫНКИ СЫРЬ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971800" y="4876920"/>
            <a:ext cx="1752480" cy="380880"/>
            <a:chOff x="2971800" y="4876920"/>
            <a:chExt cx="1752480" cy="380880"/>
          </a:xfrm>
        </p:grpSpPr>
        <p:sp>
          <p:nvSpPr>
            <p:cNvPr id="466" name=""/>
            <p:cNvSpPr/>
            <p:nvPr/>
          </p:nvSpPr>
          <p:spPr>
            <a:xfrm>
              <a:off x="2971800" y="4876920"/>
              <a:ext cx="17524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409560" y="4876920"/>
              <a:ext cx="900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ИНФЛЯЦИ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5029200" y="3962520"/>
            <a:ext cx="1752480" cy="532800"/>
            <a:chOff x="5029200" y="3962520"/>
            <a:chExt cx="1752480" cy="532800"/>
          </a:xfrm>
        </p:grpSpPr>
        <p:sp>
          <p:nvSpPr>
            <p:cNvPr id="469" name=""/>
            <p:cNvSpPr/>
            <p:nvPr/>
          </p:nvSpPr>
          <p:spPr>
            <a:xfrm>
              <a:off x="5029200" y="3962520"/>
              <a:ext cx="1752480" cy="53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233680" y="3962520"/>
              <a:ext cx="1370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РЕЦЕПТУРА СЫРЬЯ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029200" y="4648320"/>
            <a:ext cx="1752480" cy="609120"/>
            <a:chOff x="5029200" y="4648320"/>
            <a:chExt cx="1752480" cy="609120"/>
          </a:xfrm>
        </p:grpSpPr>
        <p:sp>
          <p:nvSpPr>
            <p:cNvPr id="472" name=""/>
            <p:cNvSpPr/>
            <p:nvPr/>
          </p:nvSpPr>
          <p:spPr>
            <a:xfrm>
              <a:off x="5029200" y="4648320"/>
              <a:ext cx="1752480" cy="609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315040" y="4648320"/>
              <a:ext cx="1204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ТРАНСПОРТНЫ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РАСХОДЫ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5181480" y="2133720"/>
            <a:ext cx="3200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ЪЁМ ПРОИЗВОДСТВА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Об.Пр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181480" y="2666880"/>
            <a:ext cx="3200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ТРУКТУРА ПРОДУКЦИИ (Уд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81480" y="3200400"/>
            <a:ext cx="32004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ТПУСКНЫЕ ЦЕНЫ НА ПРОДУКЦИЮ (ОЦ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7086600" y="3962520"/>
            <a:ext cx="1676520" cy="398520"/>
            <a:chOff x="7086600" y="3962520"/>
            <a:chExt cx="1676520" cy="398520"/>
          </a:xfrm>
        </p:grpSpPr>
        <p:sp>
          <p:nvSpPr>
            <p:cNvPr id="478" name=""/>
            <p:cNvSpPr/>
            <p:nvPr/>
          </p:nvSpPr>
          <p:spPr>
            <a:xfrm>
              <a:off x="7086600" y="3962520"/>
              <a:ext cx="1676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21760" y="3962520"/>
              <a:ext cx="1023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РАССТОЯНИЕ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ПЕРЕВОЗК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7086600" y="4419720"/>
            <a:ext cx="1676520" cy="398520"/>
            <a:chOff x="7086600" y="4419720"/>
            <a:chExt cx="1676520" cy="398520"/>
          </a:xfrm>
        </p:grpSpPr>
        <p:sp>
          <p:nvSpPr>
            <p:cNvPr id="481" name=""/>
            <p:cNvSpPr/>
            <p:nvPr/>
          </p:nvSpPr>
          <p:spPr>
            <a:xfrm>
              <a:off x="7086600" y="4419720"/>
              <a:ext cx="1676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426440" y="4419720"/>
              <a:ext cx="1017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ВИД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ТРАНСПОРТА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7086600" y="4876920"/>
            <a:ext cx="1676520" cy="398520"/>
            <a:chOff x="7086600" y="4876920"/>
            <a:chExt cx="1676520" cy="398520"/>
          </a:xfrm>
        </p:grpSpPr>
        <p:sp>
          <p:nvSpPr>
            <p:cNvPr id="484" name=""/>
            <p:cNvSpPr/>
            <p:nvPr/>
          </p:nvSpPr>
          <p:spPr>
            <a:xfrm>
              <a:off x="7086600" y="4876920"/>
              <a:ext cx="16765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192800" y="4876920"/>
              <a:ext cx="1482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ТАРИФЫ НА УСЛУГИ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ТРАНСПОРТА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533520" y="152280"/>
            <a:ext cx="82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  МАТЕРИАЛОЕМКОСТИ  ПРОДУКЦИ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184560" y="5791320"/>
            <a:ext cx="88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Е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75280" y="5638680"/>
            <a:ext cx="60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52880" y="5791320"/>
            <a:ext cx="5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34120" y="5562720"/>
            <a:ext cx="372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.Пр. * Уд * УР * Ц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.Пр. * Уд * О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191120" y="6019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410080" y="601992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30481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876920" y="3657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3520" y="6019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3352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3352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33520" y="4648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52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352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96252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724280" y="41148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724280" y="4648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7242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76920" y="42670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876920" y="5029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43000" y="914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6400440" y="914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495680" y="1523880"/>
            <a:ext cx="0" cy="19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flipH="1">
            <a:off x="40384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962520" y="2133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62520" y="25909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96252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9625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724280" y="15238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724280" y="3429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724280" y="2895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47242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724280" y="1523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43000" y="914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001000" y="914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934320" y="4191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6781680" y="51055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934320" y="41911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934320" y="4648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934320" y="4952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6329520" y="685800"/>
            <a:ext cx="18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-304920" y="152280"/>
            <a:ext cx="9677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ма  5.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АЛИЗ ПРОИЗВОДСТВА И РЕАЛИЗАЦИИ ПРОДУ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0880" y="15238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0880" y="274320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0880" y="40384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ТОЧНИКИ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494240" y="1066680"/>
            <a:ext cx="4268880" cy="15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94240" y="2743200"/>
            <a:ext cx="4268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БЪЕМ ПРОИЗВОДСТВА И РЕАЛ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КАЧЕСТВО И КОНКУРЕНТОСПОСОБ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СТРУКТУРА ПРОИЗВОДСТВА И РЕАЛ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РИТМИЧНОСТЬ ПРОИЗВОДСТВА И РЕАЛ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494240" y="5181480"/>
            <a:ext cx="4268880" cy="13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0880" y="2895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ЪЕКТЫ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0880" y="5334120"/>
            <a:ext cx="38102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ТАПЫ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94240" y="3809880"/>
            <a:ext cx="42688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35640" y="1073160"/>
            <a:ext cx="6883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ОЦЕНКА ДИНАМИКИ И СТЕПЕНИ ВЫПОЛ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ЛАНА ПРОИЗВОДСТВА И РЕАЛИЗАЦИИ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ОПРЕДЕЛЕНИЕ ВЛИЯНИЯ ФАКТОРОВ НА ИЗМЕН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ЕЛИЧИНЫ ЭТИХ ПОКАЗАТЕЛ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ВЫЯВЛЕНИЕ РЕЗЕРВОВ УВЕЛИЧЕНИЯ ВЫПУСКА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АЛИЗАЦИИ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РАЗРАБОТКА РЕКОМЕНДАЦИЙ ПО ОСВОЕН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ЫЯВЛЕННЫХ РЕЗЕР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494240" y="3833640"/>
            <a:ext cx="4208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БИЗНЕС-ПЛАН ПРЕДПРИЯТ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ОПЕРАТИВНЫЕ ПЛАНЫ-ГРАФИ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ФОРМА №1 «ОТЧЕТ ПО ПРОДУКЦИИ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ФОРМА №2 «ОТЧЕТ О ПРИБЫЛИ И УБЫТКАХ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ВЕДОМОСТЬ №16 «ДВИЖЕНИЕ ГОТОВЫХ ИЗДЕЛИ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ИХ ОТГРУЗКА И РЕАЛИЗАЦИЯ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494240" y="5176800"/>
            <a:ext cx="476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АНАЛИЗ  ДИНАМИКИ ПРОИЗВОДСТВА И РЕАЛ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ОЦЕНКА РИСКА НЕВОСТРЕБОВАННОЙ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АНАЛИЗ СТРУКТУРЫ И АССОРТИМЕНТА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АНАЛИЗ КАЧЕСТВА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АНАЛИЗ КОНКУРЕНТОСПОСОБНОСТИ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ВЛИЯНИЕ ФАКТОРОВ НА ИЗМЕНЕНИЕ ОБЪЕМА ПРОИЗВОДСТВА И РЕАЛИЗАЦИИ 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83200" y="194940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183200" y="319392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164120" y="443880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164120" y="580068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37960" y="404640"/>
            <a:ext cx="893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НАЛИЗ ДИНАМИКИ ВЫПУСКА И РЕАЛИЗАЦИИ ПРОДУКЦИИ,  РАСЧЕТ БАЗИСНЫХ И ЦЕП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ЕМПОВ РОСТА И ПРИРОСТ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ОЦЕНКА РИСКА НЕВОСТРЕБОВАННОЙ ПРОДУ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31920" y="1965240"/>
            <a:ext cx="1438200" cy="441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ИС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ЕВОСТРЕБО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АНН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ДУ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179800" y="2162160"/>
            <a:ext cx="181116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ЧИ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00320" y="3870360"/>
            <a:ext cx="1790640" cy="50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И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200320" y="4862520"/>
            <a:ext cx="179064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Д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ЗНИКНИВ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437000" y="1461960"/>
            <a:ext cx="4452840" cy="20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.ВНУТРЕННИЕ –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ЕПРАВИЛЬНО СОСТАВЛЕН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ЫЙ  ПРОГНОЗ СПРОСА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ЕПРАВИЛЬНАЯ  ЦЕНОВАЯ  ПОЛИТИК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НИЖЕНИЕ КОНКУРЕНТОСПОСОБ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ДУКЦИИ;  НЕЭФФЕКТИВНАЯ  ОРГАНИ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ЦИЯ СБЫТА И РЕКЛАМ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. ВНЕШНИЕ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НЕПЛАТЕЖЕСПОСОБ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КУПАТЕЛЯ; ПОВЫШЕНИЕ ПРОЦЕНТНЫХ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ВОК; ПОЛИТИЧЕСКИЕ, СОЦИАЛЬ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37000" y="3714840"/>
            <a:ext cx="4435560" cy="7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ЕОДОЛИМ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НЕПРЕОДОЛИМ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37000" y="4648320"/>
            <a:ext cx="4435560" cy="93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ПРЕДПРОИЗВОДСТВЕНН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ПРОИЗВОДСТВЕНН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ПОСЛЕПРОИЗВОДСТВЕНН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219400" y="5935680"/>
            <a:ext cx="1771560" cy="53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ПОСО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ЦЕН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437000" y="5740560"/>
            <a:ext cx="4435560" cy="85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РЕДНИЕ ОСТАТКИ ГОТОВОЙ ПРОДУ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ДНОДНЕВНЫЙ ОБЪЕМ ПРОДА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751040" y="260820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987720" y="260820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987720" y="4125960"/>
            <a:ext cx="46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770120" y="5195520"/>
            <a:ext cx="449280" cy="2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008600" y="5195880"/>
            <a:ext cx="46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751040" y="6188040"/>
            <a:ext cx="4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008600" y="618804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770120" y="4167360"/>
            <a:ext cx="44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272880" y="404640"/>
            <a:ext cx="8871120" cy="70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 АНАЛИЗ СТРУКТУРЫ  И  АССОРТИМЕНТА ПРОДУ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                                    ОБЪЕМ  ВЫПУСКА  НОВЫХ  ИЗДЕЛ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НОВЛЕНИЯ АССОРТИМЕН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=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Й ОБЪЕМ ВЫПУСКА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ЭФФИЦИЕНТ С ТРУКТУРНОЙ  АКТИВНОСТИ   = 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√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НИЕ СТРУКТУРЫ ПРОДУКЦИИ НА ЭКОНОМИЧЕСКИЕ ПОКАЗАТЕЛИ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П  =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б.Пр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д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. АНАЛИЗ КАЧЕСТВА ПРОДУ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ЕЛЬНЫЙ ВЕС НОВОЙ ПРОДУКЦИИ В ОБЩЕМ ОБЪЕМЕ ВЫПУСК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ЕЛЬНЫЙ ВЕС ПРОДУКЦИИ ВЫСШЕЙ КАТЕГОРИИ КАЧЕСТВ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ЕЛЬНЫЙ ВЕС АТТЕСТОВАННОЙ И НЕАТТЕСТОВАННОЙ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ЕЛЬНЫЙ ВЕС СЕРТИФИЦИРОВАННОЙ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ДЕЛЬНЫЙ ВЕС ЭКСПОРТИРУЕМОЙ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 Об.Пр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Ц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ЭФФИЦИЕНТ СОРТНОСТИ  =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.Пр. общ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Ц1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ЛИЯНИЕ КАЧЕСТВА ПРОДУКЦИИ НА ЭКОНОМИЧЕСКИЕ ПОКАЗАТЕ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∆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П = (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Ц0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.Пр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∆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= (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Ц0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.Пр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∆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 = (Ц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Ц0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.Пр. - (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С0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.Пр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.АНАЛИЗ КОНКУРЕНТОСПОСОБНОСТИ ПРОДУ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532400" y="1281240"/>
            <a:ext cx="644400" cy="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976480" y="1050840"/>
            <a:ext cx="291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151080" y="4008600"/>
            <a:ext cx="20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277920" y="249120"/>
            <a:ext cx="9315360" cy="66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6. ВЛИЯНИЕ ФАКТОРОВ НА ИЗМЕНЕИЕ ОБЪЕМА ПРОИЗВОДСТВА И РЕАЛИЗАЦИИ ПРОДУ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РУЧКА ПО ОТГРУЗКЕ :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 + Пр = Р + Зк                  Р = Зн + Пр - Зк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ЫРУЧКА ПО ОПЛАТЕ   :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н + Пр + ОтПр н. = Р + ОтПр к.+ З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  = Зн + Пр + ОтПр н. - ОтПр к.- З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ЕСПЕЧЕННОСТЬ  ТРУДОВЫМИ  РЕСУРСАМИ  И ЭФФЕКТИВНОСТЬ  ИХ  ИСПОЛЬ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П = Ч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р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 = Ч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р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ЕСПЕЧЕННОСТЬ  ОСНОВНЫМИ ФОНДАМИ И ЭФФЕКТИВНОСТЬ  ИХ  ИСПОЛЬ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П = ОПФ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Ф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 = ОПФ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Ф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ЕСПЕЧЕННОСТЬ  СЫРЬЁМ, МАТЕРИАЛАМИ И ЭФФЕКТИВНОСТЬ  ИХ  ИСПОЛЬ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П = М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 = МЗ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7. ОПРЕДЕЛЕНИЕ РЕЗЕРВОВ УВЕЛИЧЕНИЯ ПРОИЗВОДСТВА И РЕАЛИЗАЦИИ ПРОДУ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СЧЕТ РОСТА ОБЪЕМА ПРОИЗВОДСТВА ( УЛУЧШЕНИЕ ИСПОЛЬЗОВАНИЯ ТРУДОВЫХ РЕСУРСОВ, СОЗДАНИЕ ДОПОЛНИТЕЛЬНЫХ РАБОЧИХ МЕСТ, ПОВЫШЕНИЕ ПРОИЗВОДИТЕЛЬНОСТИ ТРУДА, ОБНОВЛЕНИЯ ОБОРУДОВАНИЯ, ПОВЫШЕНИЯ ИНТЕНСИВНОСТИ ЕГО ИСПОЛЬЗОВАНИЯ, СОКРА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ЩЕНИЯ РАСХОДА СЫРЬЯ И МАТЕРИАЛОВ, СОКРАЩЕНИЯ СВЕРХНОРМАТИВНЫХ ОТХОДОВ И ПР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СЧЕТ СОКРАЩЕНИЯ ОСТАТКОВ НЕРЕАЛИЗОВАННОЙ ПРОДУ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6329520" y="685800"/>
            <a:ext cx="18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-304920" y="152280"/>
            <a:ext cx="9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ма 6.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АЛИЗ СЕБЕСТОИМОСТИ ПРОДУ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0880" y="15238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0880" y="274320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80880" y="40384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ТОЧНИКИ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572000" y="1066680"/>
            <a:ext cx="4191120" cy="13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572000" y="2608200"/>
            <a:ext cx="4191120" cy="104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ПОЛНАЯ СЕБЕСТОИМОСТЬ ПРОДУКЦИИ В ЦЕЛОМ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 ЭЛЕМЕНТАМ ЗАТР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ЗАТРАТЫ НА РУБЛЬ ВЫПУЩЕННОЙ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ОТДЕЛЬНЫЕ СТАТЬИ ЗАТР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ЦЕНТРЫ ОТВЕТ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0" y="5181480"/>
            <a:ext cx="41911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80880" y="2895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ЪЕКТЫ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0880" y="5334120"/>
            <a:ext cx="38102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ТАПЫ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572000" y="3809880"/>
            <a:ext cx="41911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574880" y="1189080"/>
            <a:ext cx="411264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ОПРЕДЕЛЕНИЕ ТЕНДЕНЦИЙ ИЗМЕНЕНИЯ ЗАТР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ОПРЕДЕЛЕНИЕ ВЛИЯНИЯ ФАКТОРОВ НА ПРИРОС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ТР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ОПРЕДЕЛЕНИЕ РЕЗЕРВОВ СНИЖЕНИЯ ЗАТР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ОПРЕДЕЛЕНИЕ РЕЗЕРВОВ СНИЖЕНИЯ СЕБЕСТОИ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ОСТИ ПРОДУКЦИ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538520" y="3765600"/>
            <a:ext cx="4762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ОТЧЕТ О ЗАТРАТАХ  НА ПРОИЗВОДСТВО 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АЛИЗ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ЦИЮ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КАЛЬКУЛЯЦИИ СЕБЕСТОИМ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ДАННЫЕ СИНТЕТИЧЕСКОГО И АНАЛИТИЧЕС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ЧЁТА  ЗАТРА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556160" y="5235480"/>
            <a:ext cx="504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ФАКТОРНЫЙ  АНАЛИЗ  ЗАТР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АНАЛИЗ ЗАТРАТ НА РУБЛЬ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АНАЛИЗ СЕБЕСТОИМОСТИ ОТДЕЛЬНЫХ ВИ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АНАЛИЗ ОТДЕЛЬНЫХ ВИДОВ ЗАТР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АНАЛИЗ  РЕЗЕРВОВ СНИЖЕНИЯ СЕБЕСТО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183200" y="580068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183200" y="4457880"/>
            <a:ext cx="36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64120" y="3154320"/>
            <a:ext cx="44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183200" y="185112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2041560" y="228600"/>
            <a:ext cx="512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 ОБЩЕЙ СУММЫ ЗАТРА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80880" y="1676520"/>
            <a:ext cx="152424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133720" y="762120"/>
            <a:ext cx="5029200" cy="53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286000" y="1676520"/>
            <a:ext cx="15238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191120" y="1676520"/>
            <a:ext cx="2286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705720" y="16765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981080" y="762120"/>
            <a:ext cx="548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ЩАЯ СУММА ЗАТРАТ НА ПРОИЗВОДСТВО ТОВАРОВ (РАБОТ, УСЛУГ)    Зобщ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2819520"/>
            <a:ext cx="213336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55308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191120" y="1752480"/>
            <a:ext cx="22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ННЫЕ ЗАТР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ЕДИНИЦУ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пе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705720" y="17524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СТОЯННЫЕ ЗАТР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 ПЕРИ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 пос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553080" y="289548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СУРСОЕМК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ДУКЦИИ    Р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191120" y="29718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ЦЕНЫ НА РЕСУРСЫ    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0880" y="1676520"/>
            <a:ext cx="1725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Ъ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ИЗВ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.П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79640" y="187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47200" y="1789200"/>
            <a:ext cx="1501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ТРУК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ИЗВЕДЕН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377496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общ. = Зпер. + Зпост. =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Об.Пр. * Уд. * зпер.) + Зпос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ДЕРЖКОЕМКОСТЬ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общ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Об.Пр. * Уд. * зпер.) + Зпос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УКЦИИ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пр. =   Об.Пр. =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Об.Пр. * Уд. * 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ЗЕРВ СНИЖЕНИЯ    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ф. – Р З + Здоп.              З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ЕБЕСТОИМОСТИ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 С = Спл. – Сф. =  Об.Пр. + Р Об.Пр.      Об.Пр. 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572000" y="495288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495680" y="6019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39152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49528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0968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5486400" y="5714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943600" y="609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031760" y="1461960"/>
            <a:ext cx="696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46760" y="2550960"/>
            <a:ext cx="272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8035920" y="144000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408640" y="145908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997360" y="144000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033560" y="145908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4594320" y="1302840"/>
            <a:ext cx="0" cy="15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22720" y="264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2720" y="264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728120" y="264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728120" y="264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946760" y="264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946760" y="2610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41720" y="2610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666200" y="2610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666200" y="2550960"/>
            <a:ext cx="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797440" y="25509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 flipV="1">
            <a:off x="7666200" y="23140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4941720" y="2335320"/>
            <a:ext cx="0" cy="4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6329520" y="685800"/>
            <a:ext cx="18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-304920" y="152280"/>
            <a:ext cx="967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ма 7.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АЛИЗ ФИНАНСОВЫХ РЕЗУЛЬТАТ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80880" y="15238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80880" y="274320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80880" y="40384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СТОЧНИКИ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72000" y="1066680"/>
            <a:ext cx="43164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572000" y="2743200"/>
            <a:ext cx="4316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ПРИБЫЛЬ ОТ РЕАЛИЗАЦИ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ВАЛОВАЯ ПРИБЫЛЬ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ПРИБЫЛЬ К РАСПРЕДЕЛЕНИЮ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МАРЖИНАЛЬНАЯ ПРИБЫ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572000" y="5025960"/>
            <a:ext cx="4316400" cy="14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80880" y="289548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ОБЪЕКТЫ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80880" y="5334120"/>
            <a:ext cx="38102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ЭТАПЫ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3809880"/>
            <a:ext cx="4316400" cy="10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513320" y="1146240"/>
            <a:ext cx="5072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ИЗУЧЕНИЕ ВОЗМОЖНОСТИ ПОЛУЧЕНИЯ ПРИБЫ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КОНТРОЛЬ ЗА ФОРМИРОВАНИЕМ ПРИБЫЛИ 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ОПРЕДЕЛЕНИЕ ВЛИЯНИЯ ФАКТОРВ НА ФИНАНСОВЫ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ЕЗУЛЬТАТЫ И КАЧЕСТВО ПРИБЫ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ПОВЫШЕНИЕ ЭФФЕКТИВНОСТИ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БЫЛЬЮ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101840" y="3848040"/>
            <a:ext cx="5260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ФОРМА №2 «ОТЧЕТ О ПРИБЫЛЯХ И УБЫТКАХ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НАКЛАДНЫЕ  НА ОТГРУЗКУ ТОВАР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ДАННЫЕ АНАЛИТИЧЕСКОГО БУХГАЛТЕРС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ОГО УЧЁТА ПО СЧЕТАМ РЕЗУЛЬТА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695840" y="5060880"/>
            <a:ext cx="5208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АНАЛИЗ СОСТАВА И  ДИНАМИКИ ПРИБЫ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АНАЛИЗ ПРИБЫЛИ ОТ РЕАЛИЗАЦИИ ПРОДУК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АНАЛИЗ  ПОКАЗАТЕЛЕЙ РЕНТАБЕ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ОЦЕНКА РЕЗЕРВОВ УВЕЛИЧЕНИЯ ПРИБЫЛИ И РЕНТА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ЕЛЬ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АНАЛИЗ  ИСПОЛЬЗОВАНИЯ ПРИБЫ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МАРЖИНАЛЬНЫЙ  АНАЛИЗ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83200" y="1889280"/>
            <a:ext cx="36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183200" y="3192480"/>
            <a:ext cx="36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202280" y="441792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202280" y="5740560"/>
            <a:ext cx="40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1220760" y="71280"/>
            <a:ext cx="742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РМИРОВАНИЕ ПОКАЗАТЕЛЕЙ ПРИБЫ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10400" y="59626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-1440" y="541440"/>
            <a:ext cx="8741160" cy="5964120"/>
            <a:chOff x="-1440" y="541440"/>
            <a:chExt cx="8741160" cy="5964120"/>
          </a:xfrm>
        </p:grpSpPr>
        <p:grpSp>
          <p:nvGrpSpPr>
            <p:cNvPr id="650" name=""/>
            <p:cNvGrpSpPr/>
            <p:nvPr/>
          </p:nvGrpSpPr>
          <p:grpSpPr>
            <a:xfrm>
              <a:off x="-1440" y="541440"/>
              <a:ext cx="8741160" cy="5964120"/>
              <a:chOff x="-1440" y="541440"/>
              <a:chExt cx="8741160" cy="5964120"/>
            </a:xfrm>
          </p:grpSpPr>
          <p:grpSp>
            <p:nvGrpSpPr>
              <p:cNvPr id="651" name=""/>
              <p:cNvGrpSpPr/>
              <p:nvPr/>
            </p:nvGrpSpPr>
            <p:grpSpPr>
              <a:xfrm>
                <a:off x="423360" y="541440"/>
                <a:ext cx="3948120" cy="473040"/>
                <a:chOff x="423360" y="541440"/>
                <a:chExt cx="3948120" cy="47304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498240" y="541440"/>
                  <a:ext cx="3873240" cy="448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23360" y="555480"/>
                  <a:ext cx="36201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ВЫРУЧКА ОТ РЕАЛИЗАЦИИ ПРОДУКЦИИ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ТОВАРОВ, РАБОТ, УСЛУГ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424800" y="1174680"/>
                <a:ext cx="3953160" cy="474840"/>
                <a:chOff x="424800" y="1174680"/>
                <a:chExt cx="3953160" cy="47484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496800" y="1174680"/>
                  <a:ext cx="3881160" cy="44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424800" y="1190520"/>
                  <a:ext cx="38764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ВЫРУЧКА (НЕТТО) ОТ РЕАЛИЗАЦИИ ПРОДУКЦИИ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ТОВАРОВ, РАБОТ, УСЛУГ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500040" y="1787400"/>
                <a:ext cx="3881520" cy="304560"/>
                <a:chOff x="500040" y="1787400"/>
                <a:chExt cx="3881520" cy="30456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500040" y="1792080"/>
                  <a:ext cx="3881520" cy="299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525240" y="1787400"/>
                  <a:ext cx="3575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МАРЖИНАЛЬНАЯ  ПРИБЫЛЬ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500040" y="2271600"/>
                <a:ext cx="3881520" cy="459000"/>
                <a:chOff x="500040" y="2271600"/>
                <a:chExt cx="3881520" cy="45900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500040" y="2276280"/>
                  <a:ext cx="3881520" cy="44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525600" y="2271600"/>
                  <a:ext cx="3631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ФИНАНСОВЫЙ РЕЗУЛЬТАТ  ОТ РЕАЛИЗАЦ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ДУКЦ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500040" y="2889360"/>
                <a:ext cx="3881160" cy="641520"/>
                <a:chOff x="500040" y="2889360"/>
                <a:chExt cx="3881160" cy="64152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500040" y="2894040"/>
                  <a:ext cx="3881160" cy="44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25240" y="2889360"/>
                  <a:ext cx="381384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ФИНАНСОВЫЙ РЕЗУЛЬТАТ  ОТ ОПЕРАЦИОННОЙ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ДЕЯТЕЛЬНОСТ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426600" y="3537000"/>
                <a:ext cx="3927600" cy="474120"/>
                <a:chOff x="426600" y="3537000"/>
                <a:chExt cx="3927600" cy="4741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487440" y="3562200"/>
                  <a:ext cx="3866760" cy="448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426600" y="3537000"/>
                  <a:ext cx="39236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ФИНАНСОВЫЙ РЕЗУЛЬТАТ ОТЧЁТНОГО ПЕРИОДА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ОТ ОБЫЧНОЙ  ДЕЯТЕЛЬНОСТ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424440" y="4162320"/>
                <a:ext cx="4018320" cy="641520"/>
                <a:chOff x="424440" y="4162320"/>
                <a:chExt cx="4018320" cy="6415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522360" y="4168440"/>
                  <a:ext cx="3881520" cy="446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24440" y="4162320"/>
                  <a:ext cx="401832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ОБЩАЯ СУММА ПРИБЫЛИ ПЕРИОДА ДО ВЫПЛАТЫ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ЦЕНТОВ И НАЛОГОВ  (БРУТТО-ПРИБЫЛЬ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500040" y="4830840"/>
                <a:ext cx="3881160" cy="453960"/>
                <a:chOff x="500040" y="4830840"/>
                <a:chExt cx="3881160" cy="45396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500040" y="4835520"/>
                  <a:ext cx="3881160" cy="44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26320" y="4830840"/>
                  <a:ext cx="6379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500040" y="5481720"/>
                <a:ext cx="3881520" cy="355680"/>
                <a:chOff x="500040" y="5481720"/>
                <a:chExt cx="3881520" cy="35568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500040" y="5481720"/>
                  <a:ext cx="3881520" cy="355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984960" y="5499000"/>
                  <a:ext cx="2311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ЧИСТАЯ ПРИБЫЛЬ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-1440" y="6032520"/>
                <a:ext cx="4374720" cy="473040"/>
                <a:chOff x="-1440" y="6032520"/>
                <a:chExt cx="4374720" cy="47304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485640" y="6032520"/>
                  <a:ext cx="3881520" cy="44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-1440" y="6046560"/>
                  <a:ext cx="43747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КАПИТАЛИЗИРОВАННАЯ (НЕРАСПРЕДЕЛЁННАЯ)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ИБЫЛЬ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4792680" y="550800"/>
                <a:ext cx="3927600" cy="449280"/>
                <a:chOff x="4792680" y="550800"/>
                <a:chExt cx="3927600" cy="44928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4846680" y="550800"/>
                  <a:ext cx="3873600" cy="44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792680" y="639720"/>
                  <a:ext cx="3402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НАЛОГИ ИЗ ВЫРУЧКИ (НДС, АКЦИЗЫ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4773600" y="1165320"/>
                <a:ext cx="3952440" cy="475200"/>
                <a:chOff x="4773600" y="1165320"/>
                <a:chExt cx="3952440" cy="4752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4844880" y="1165320"/>
                  <a:ext cx="3881160" cy="45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4773600" y="1181520"/>
                  <a:ext cx="39128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ЕРЕМЕННЫЕ РАСХОДЫ, ПРИХОДЯЩИЕСЯ Н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РЕАЛИЗОВАННУЮ ПРОДУКЦИЮ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4848120" y="1800360"/>
                <a:ext cx="3881520" cy="304560"/>
                <a:chOff x="4848120" y="1800360"/>
                <a:chExt cx="3881520" cy="30456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4848120" y="1805040"/>
                  <a:ext cx="3881520" cy="299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4873680" y="1800360"/>
                  <a:ext cx="3817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ОСТОЯННЫЕ РАСХОДЫ ОТЧЁТНОГО ПЕРИОД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4798080" y="2266920"/>
                <a:ext cx="3931560" cy="641520"/>
                <a:chOff x="4798080" y="2266920"/>
                <a:chExt cx="3931560" cy="64152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4848120" y="2271600"/>
                  <a:ext cx="3881520" cy="460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4798080" y="2266920"/>
                  <a:ext cx="363276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САЛЬДО ВНЕРЕАЛИЗ.АЦИОННЫХ  ДОХОДОВ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И РАСХОДОВ ОРГАНИЗАЦ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4799160" y="2884320"/>
                <a:ext cx="3940560" cy="466920"/>
                <a:chOff x="4799160" y="2884320"/>
                <a:chExt cx="3940560" cy="4669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4848120" y="2906640"/>
                  <a:ext cx="3881520" cy="4446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799160" y="2884320"/>
                  <a:ext cx="39405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ИБЫЛЬ ОТ ИНВЕСТИЦИОННОЙ И ФИНАНСОВОЙ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ДЕЯТЕЛЬНОСТ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4774320" y="3538440"/>
                <a:ext cx="3927960" cy="466560"/>
                <a:chOff x="4774320" y="3538440"/>
                <a:chExt cx="3927960" cy="46656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4835520" y="3563280"/>
                  <a:ext cx="3866760" cy="441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774320" y="3538440"/>
                  <a:ext cx="32302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ЧРЕЗВЫЧАЙНЫЕ ДОХОДЫ И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РАСХОДЫ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4756320" y="4170240"/>
                <a:ext cx="3976560" cy="459000"/>
                <a:chOff x="4756320" y="4170240"/>
                <a:chExt cx="3976560" cy="45900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4851360" y="4176360"/>
                  <a:ext cx="3881520" cy="446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756320" y="4170240"/>
                  <a:ext cx="37224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ЦЕНТЫ К УПЛАТЕ ЗА ИСПОЛЬЗУЕМЫЕ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ЗАЁМНЫЕ РЕСУРСЫ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4848120" y="4843440"/>
                <a:ext cx="3881160" cy="459000"/>
                <a:chOff x="4848120" y="4843440"/>
                <a:chExt cx="3881160" cy="45900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4848120" y="4848120"/>
                  <a:ext cx="3881160" cy="449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875840" y="4843440"/>
                  <a:ext cx="37299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НАЛОГ НА ПРИБЫЛЬ И ИНЫЕ ОБЯЗАТЕЛЬНЫЕ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ЛАТЕЖ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4848120" y="5477040"/>
                <a:ext cx="3881520" cy="355320"/>
                <a:chOff x="4848120" y="5477040"/>
                <a:chExt cx="3881520" cy="35532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4848120" y="5477040"/>
                  <a:ext cx="3881520" cy="355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333400" y="5493960"/>
                  <a:ext cx="2558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ОТРЕБЛЁННАЯ  ПРИБЫЛЬ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8" name=""/>
              <p:cNvSpPr/>
              <p:nvPr/>
            </p:nvSpPr>
            <p:spPr>
              <a:xfrm>
                <a:off x="4333320" y="573120"/>
                <a:ext cx="458280" cy="522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±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  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2425680" y="1008000"/>
                <a:ext cx="0" cy="149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425680" y="1658880"/>
                <a:ext cx="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425680" y="2108160"/>
                <a:ext cx="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2425680" y="2760840"/>
                <a:ext cx="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2408400" y="3340080"/>
                <a:ext cx="1728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2425680" y="4010040"/>
                <a:ext cx="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425680" y="4627440"/>
                <a:ext cx="0" cy="22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425680" y="5315040"/>
                <a:ext cx="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425680" y="583884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"/>
            <p:cNvGrpSpPr/>
            <p:nvPr/>
          </p:nvGrpSpPr>
          <p:grpSpPr>
            <a:xfrm>
              <a:off x="2391840" y="5854680"/>
              <a:ext cx="4320000" cy="87480"/>
              <a:chOff x="2391840" y="5854680"/>
              <a:chExt cx="4320000" cy="87480"/>
            </a:xfrm>
          </p:grpSpPr>
          <p:sp>
            <p:nvSpPr>
              <p:cNvPr id="719" name=""/>
              <p:cNvSpPr/>
              <p:nvPr/>
            </p:nvSpPr>
            <p:spPr>
              <a:xfrm flipH="1">
                <a:off x="2391840" y="5942160"/>
                <a:ext cx="431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711840" y="5854680"/>
                <a:ext cx="0" cy="8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"/>
            <p:cNvGrpSpPr/>
            <p:nvPr/>
          </p:nvGrpSpPr>
          <p:grpSpPr>
            <a:xfrm>
              <a:off x="2389320" y="5310360"/>
              <a:ext cx="4319280" cy="87120"/>
              <a:chOff x="2389320" y="5310360"/>
              <a:chExt cx="4319280" cy="87120"/>
            </a:xfrm>
          </p:grpSpPr>
          <p:sp>
            <p:nvSpPr>
              <p:cNvPr id="722" name=""/>
              <p:cNvSpPr/>
              <p:nvPr/>
            </p:nvSpPr>
            <p:spPr>
              <a:xfrm flipH="1">
                <a:off x="2389320" y="5397480"/>
                <a:ext cx="431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708600" y="5310360"/>
                <a:ext cx="0" cy="8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2389320" y="4648320"/>
              <a:ext cx="4319280" cy="87120"/>
              <a:chOff x="2389320" y="4648320"/>
              <a:chExt cx="4319280" cy="87120"/>
            </a:xfrm>
          </p:grpSpPr>
          <p:sp>
            <p:nvSpPr>
              <p:cNvPr id="725" name=""/>
              <p:cNvSpPr/>
              <p:nvPr/>
            </p:nvSpPr>
            <p:spPr>
              <a:xfrm flipH="1">
                <a:off x="2389320" y="4735440"/>
                <a:ext cx="431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6708600" y="4648320"/>
                <a:ext cx="0" cy="8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2389320" y="4006800"/>
              <a:ext cx="4319280" cy="87480"/>
              <a:chOff x="2389320" y="4006800"/>
              <a:chExt cx="4319280" cy="87480"/>
            </a:xfrm>
          </p:grpSpPr>
          <p:sp>
            <p:nvSpPr>
              <p:cNvPr id="728" name=""/>
              <p:cNvSpPr/>
              <p:nvPr/>
            </p:nvSpPr>
            <p:spPr>
              <a:xfrm flipH="1">
                <a:off x="2389320" y="4094280"/>
                <a:ext cx="431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6708600" y="4006800"/>
                <a:ext cx="0" cy="8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"/>
            <p:cNvGrpSpPr/>
            <p:nvPr/>
          </p:nvGrpSpPr>
          <p:grpSpPr>
            <a:xfrm>
              <a:off x="2389320" y="3382920"/>
              <a:ext cx="4319280" cy="87480"/>
              <a:chOff x="2389320" y="3382920"/>
              <a:chExt cx="4319280" cy="87480"/>
            </a:xfrm>
          </p:grpSpPr>
          <p:sp>
            <p:nvSpPr>
              <p:cNvPr id="731" name=""/>
              <p:cNvSpPr/>
              <p:nvPr/>
            </p:nvSpPr>
            <p:spPr>
              <a:xfrm flipH="1">
                <a:off x="2389320" y="3470400"/>
                <a:ext cx="431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708600" y="3382920"/>
                <a:ext cx="0" cy="8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2389320" y="2724120"/>
              <a:ext cx="4319280" cy="87480"/>
              <a:chOff x="2389320" y="2724120"/>
              <a:chExt cx="4319280" cy="87480"/>
            </a:xfrm>
          </p:grpSpPr>
          <p:sp>
            <p:nvSpPr>
              <p:cNvPr id="734" name=""/>
              <p:cNvSpPr/>
              <p:nvPr/>
            </p:nvSpPr>
            <p:spPr>
              <a:xfrm flipH="1">
                <a:off x="2389320" y="2811600"/>
                <a:ext cx="431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6708600" y="2724120"/>
                <a:ext cx="0" cy="8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2389320" y="2119320"/>
              <a:ext cx="4319280" cy="68400"/>
              <a:chOff x="2389320" y="2119320"/>
              <a:chExt cx="4319280" cy="68400"/>
            </a:xfrm>
          </p:grpSpPr>
          <p:sp>
            <p:nvSpPr>
              <p:cNvPr id="737" name=""/>
              <p:cNvSpPr/>
              <p:nvPr/>
            </p:nvSpPr>
            <p:spPr>
              <a:xfrm flipH="1">
                <a:off x="2389320" y="2187720"/>
                <a:ext cx="431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6708600" y="2119320"/>
                <a:ext cx="0" cy="6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2389320" y="1631880"/>
              <a:ext cx="4319280" cy="87480"/>
              <a:chOff x="2389320" y="1631880"/>
              <a:chExt cx="4319280" cy="8748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2389320" y="1719360"/>
                <a:ext cx="431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708600" y="1631880"/>
                <a:ext cx="0" cy="81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2389320" y="1011240"/>
              <a:ext cx="4319280" cy="66600"/>
              <a:chOff x="2389320" y="1011240"/>
              <a:chExt cx="4319280" cy="6660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2389320" y="1077840"/>
                <a:ext cx="431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708600" y="1011240"/>
                <a:ext cx="0" cy="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5" name=""/>
          <p:cNvSpPr/>
          <p:nvPr/>
        </p:nvSpPr>
        <p:spPr>
          <a:xfrm>
            <a:off x="1465560" y="4884840"/>
            <a:ext cx="167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АЛОВАЯ ПРИБЫЛ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35160" y="258840"/>
            <a:ext cx="53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ЗАДАЧИ ЭКОНОМИЧЕСКОГО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3520" y="787320"/>
            <a:ext cx="888048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ИЗУЧЕНИЕ ХАРАКТЕРА ДЕЙСТВИЯ ЭКОНОМИЧЕСКИХ ЗАКОНОВ, УСТАНОВЛЕНИЕ         ЗАКОНОМЕРНОСТЕЙ И ТЕНДЕНЦИЙ ЭКОНОМИЧЕСКИХ ЯВЛЕНИЙ И ПРОЦЕССОВ 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ОНКРЕТНЫХ УСЛОВИЯХ ПРЕДПРИЯТИЯ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КОНТРОЛЬ ЗА ВЫПОЛНЕНИЕМ ПЛАНОВ, ПРОГНОЗОВ, УПРАВЛЕНЧЕСКИХ РЕШЕНИЙ, ЗА      ЭФФЕКТИВНЫМ ИСПОЛЬЗОВАНИЕМ ЭКОНОМИЧЕСКОГО ПОТЕНЦИАЛА ПРЕДПРИЯТИЙ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 ИЗУЧЕНИЕ ВЛИЯНИЯ ОБЪЕКТИВНЫХ И СУБЪЕКТИВНЫХ, ВНЕШНИХ И ВНУТРЕННИ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АКТОРОВ НА РЕЗУЛЬТАТЫ ХОЗЯЙСТВЕННОЙ ДЕЯТЕЛЬНОСТ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ПОИСК РЕЗЕРВОВ ПОВЫШЕНИЯ ЭФФЕКТИВНОСТИ ХОЗЯЙСТВЕННОЙ ДЕЯТЕЛЬНОС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РГАНИЗАЦИЙ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ОЦЕНКА СТЕПЕНИ  РИСКОВ ДЕЯТЕЛЬНОСТИ И ВЫРАБОТКА МЕХАНИЗМОВ УПРАВЛЕНИЯ ИМ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 ОЦЕНКА РЕЗУЛЬТАТОВ ДЕЯТЕЛЬНОСТИ И ВЫРАБОТКА ЭФФЕКТИВНОЙ  ПОЛИТИК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ПРАВЛЕНИЯ БИЗНЕС-ПРОЦЕССАМ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  .РАЗРАБОТКА ОПТИМАЛЬНЫХ УПРАВЛЕНЧЕСКИХ РЕШЕН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65360" y="3849840"/>
            <a:ext cx="584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РИНЦИПЫ ЭКОНОМИЧЕСКОГО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5960" y="4456080"/>
            <a:ext cx="1646280" cy="5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УЧ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ХАРАКТЕ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17760" y="4456080"/>
            <a:ext cx="1808280" cy="5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ОМПЛЕКС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67360" y="4456080"/>
            <a:ext cx="1808280" cy="5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ЕЙСТВЕН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75320" y="4456080"/>
            <a:ext cx="1809720" cy="590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ИСТЕМ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2400" y="5268960"/>
            <a:ext cx="21132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ЪЕКТИВ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ОНКРЕТ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ОЧ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57440" y="5268960"/>
            <a:ext cx="2130480" cy="11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ИСТЕМАТИЧ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ПЕРАТИВ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ЭФФЕКТИВ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37200" y="5268960"/>
            <a:ext cx="2173320" cy="119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ЕМОКРАТИЗ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ООТВЕТСТВ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КОНОДАТЕЛЬСТВ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17440" y="4294080"/>
            <a:ext cx="680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35240" y="4268880"/>
            <a:ext cx="0" cy="99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70480" y="4287240"/>
            <a:ext cx="0" cy="97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05720" y="4308480"/>
            <a:ext cx="0" cy="95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924680" y="4287960"/>
            <a:ext cx="1116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58840" y="4287960"/>
            <a:ext cx="0" cy="16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32160" y="4308480"/>
            <a:ext cx="0" cy="16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581440" y="4267080"/>
            <a:ext cx="612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2460240" y="120600"/>
            <a:ext cx="450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АКТОРНЫЙ АНАЛИЗ ПРИБЫ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77800" y="5794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476280" y="577800"/>
            <a:ext cx="9020160" cy="5896080"/>
            <a:chOff x="476280" y="577800"/>
            <a:chExt cx="9020160" cy="5896080"/>
          </a:xfrm>
        </p:grpSpPr>
        <p:grpSp>
          <p:nvGrpSpPr>
            <p:cNvPr id="749" name=""/>
            <p:cNvGrpSpPr/>
            <p:nvPr/>
          </p:nvGrpSpPr>
          <p:grpSpPr>
            <a:xfrm>
              <a:off x="574920" y="1735200"/>
              <a:ext cx="5451120" cy="4738680"/>
              <a:chOff x="574920" y="1735200"/>
              <a:chExt cx="5451120" cy="473868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662040" y="2481120"/>
                <a:ext cx="133200" cy="3303720"/>
                <a:chOff x="662040" y="2481120"/>
                <a:chExt cx="133200" cy="3303720"/>
              </a:xfrm>
            </p:grpSpPr>
            <p:sp>
              <p:nvSpPr>
                <p:cNvPr id="751" name=""/>
                <p:cNvSpPr/>
                <p:nvPr/>
              </p:nvSpPr>
              <p:spPr>
                <a:xfrm flipH="1">
                  <a:off x="662040" y="5784840"/>
                  <a:ext cx="133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 flipH="1">
                  <a:off x="663480" y="4591080"/>
                  <a:ext cx="131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 flipH="1">
                  <a:off x="679320" y="3322800"/>
                  <a:ext cx="115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 flipV="1">
                  <a:off x="662040" y="2481120"/>
                  <a:ext cx="0" cy="326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5" name=""/>
              <p:cNvGrpSpPr/>
              <p:nvPr/>
            </p:nvGrpSpPr>
            <p:grpSpPr>
              <a:xfrm>
                <a:off x="1492560" y="2013120"/>
                <a:ext cx="1245960" cy="459000"/>
                <a:chOff x="1492560" y="2013120"/>
                <a:chExt cx="1245960" cy="45900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1510200" y="2027160"/>
                  <a:ext cx="1228320" cy="438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1492560" y="2013120"/>
                  <a:ext cx="12200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СТРУКТУР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ДАЖ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8" name=""/>
              <p:cNvGrpSpPr/>
              <p:nvPr/>
            </p:nvGrpSpPr>
            <p:grpSpPr>
              <a:xfrm>
                <a:off x="574920" y="2021040"/>
                <a:ext cx="835920" cy="461520"/>
                <a:chOff x="574920" y="2021040"/>
                <a:chExt cx="835920" cy="461520"/>
              </a:xfrm>
            </p:grpSpPr>
            <p:grpSp>
              <p:nvGrpSpPr>
                <p:cNvPr id="759" name=""/>
                <p:cNvGrpSpPr/>
                <p:nvPr/>
              </p:nvGrpSpPr>
              <p:grpSpPr>
                <a:xfrm>
                  <a:off x="592200" y="2030400"/>
                  <a:ext cx="774720" cy="452160"/>
                  <a:chOff x="592200" y="2030400"/>
                  <a:chExt cx="774720" cy="452160"/>
                </a:xfrm>
              </p:grpSpPr>
              <p:sp>
                <p:nvSpPr>
                  <p:cNvPr id="760" name=""/>
                  <p:cNvSpPr/>
                  <p:nvPr/>
                </p:nvSpPr>
                <p:spPr>
                  <a:xfrm>
                    <a:off x="601560" y="2044440"/>
                    <a:ext cx="765360" cy="43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592200" y="2030400"/>
                    <a:ext cx="4856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2" name=""/>
                <p:cNvSpPr/>
                <p:nvPr/>
              </p:nvSpPr>
              <p:spPr>
                <a:xfrm>
                  <a:off x="574920" y="2021040"/>
                  <a:ext cx="8359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ОБЪЁМ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ДАЖ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2902320" y="2008080"/>
                <a:ext cx="1197360" cy="459000"/>
                <a:chOff x="2902320" y="2008080"/>
                <a:chExt cx="1197360" cy="459000"/>
              </a:xfrm>
            </p:grpSpPr>
            <p:grpSp>
              <p:nvGrpSpPr>
                <p:cNvPr id="764" name=""/>
                <p:cNvGrpSpPr/>
                <p:nvPr/>
              </p:nvGrpSpPr>
              <p:grpSpPr>
                <a:xfrm>
                  <a:off x="2917440" y="2011320"/>
                  <a:ext cx="1098360" cy="452160"/>
                  <a:chOff x="2917440" y="2011320"/>
                  <a:chExt cx="1098360" cy="452160"/>
                </a:xfrm>
              </p:grpSpPr>
              <p:sp>
                <p:nvSpPr>
                  <p:cNvPr id="765" name=""/>
                  <p:cNvSpPr/>
                  <p:nvPr/>
                </p:nvSpPr>
                <p:spPr>
                  <a:xfrm>
                    <a:off x="2931840" y="2025360"/>
                    <a:ext cx="1083960" cy="43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2917440" y="2011320"/>
                    <a:ext cx="2570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7" name=""/>
                <p:cNvSpPr/>
                <p:nvPr/>
              </p:nvSpPr>
              <p:spPr>
                <a:xfrm>
                  <a:off x="2902320" y="2008080"/>
                  <a:ext cx="1197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ЦЕНЫ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РЕАЛИЗАЦ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4228920" y="2008080"/>
                <a:ext cx="1606320" cy="459000"/>
                <a:chOff x="4228920" y="2008080"/>
                <a:chExt cx="1606320" cy="459000"/>
              </a:xfrm>
            </p:grpSpPr>
            <p:grpSp>
              <p:nvGrpSpPr>
                <p:cNvPr id="769" name=""/>
                <p:cNvGrpSpPr/>
                <p:nvPr/>
              </p:nvGrpSpPr>
              <p:grpSpPr>
                <a:xfrm>
                  <a:off x="4228920" y="2011320"/>
                  <a:ext cx="1606320" cy="452160"/>
                  <a:chOff x="4228920" y="2011320"/>
                  <a:chExt cx="1606320" cy="452160"/>
                </a:xfrm>
              </p:grpSpPr>
              <p:sp>
                <p:nvSpPr>
                  <p:cNvPr id="770" name=""/>
                  <p:cNvSpPr/>
                  <p:nvPr/>
                </p:nvSpPr>
                <p:spPr>
                  <a:xfrm>
                    <a:off x="4250520" y="2025360"/>
                    <a:ext cx="1584720" cy="43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4228920" y="2011320"/>
                    <a:ext cx="52380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2" name=""/>
                <p:cNvSpPr/>
                <p:nvPr/>
              </p:nvSpPr>
              <p:spPr>
                <a:xfrm>
                  <a:off x="4232520" y="2008080"/>
                  <a:ext cx="15357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СЕБЕСТОИМОСТЬ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ДУКЦ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" name=""/>
              <p:cNvGrpSpPr/>
              <p:nvPr/>
            </p:nvGrpSpPr>
            <p:grpSpPr>
              <a:xfrm>
                <a:off x="698040" y="2798640"/>
                <a:ext cx="1485360" cy="3382920"/>
                <a:chOff x="698040" y="2798640"/>
                <a:chExt cx="1485360" cy="3382920"/>
              </a:xfrm>
            </p:grpSpPr>
            <p:grpSp>
              <p:nvGrpSpPr>
                <p:cNvPr id="774" name=""/>
                <p:cNvGrpSpPr/>
                <p:nvPr/>
              </p:nvGrpSpPr>
              <p:grpSpPr>
                <a:xfrm>
                  <a:off x="772200" y="2798640"/>
                  <a:ext cx="1398240" cy="1020960"/>
                  <a:chOff x="772200" y="2798640"/>
                  <a:chExt cx="1398240" cy="1020960"/>
                </a:xfrm>
              </p:grpSpPr>
              <p:sp>
                <p:nvSpPr>
                  <p:cNvPr id="775" name=""/>
                  <p:cNvSpPr/>
                  <p:nvPr/>
                </p:nvSpPr>
                <p:spPr>
                  <a:xfrm>
                    <a:off x="772200" y="2813040"/>
                    <a:ext cx="1398240" cy="1006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ИЗМЕНЕНИЕ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ЕРЕХОДЯЩИХ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ЗАПАСОВ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ГОТОВОЙ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ОДУКЦИИИ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807840" y="2798640"/>
                    <a:ext cx="1306440" cy="10083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7" name=""/>
                <p:cNvGrpSpPr/>
                <p:nvPr/>
              </p:nvGrpSpPr>
              <p:grpSpPr>
                <a:xfrm>
                  <a:off x="698040" y="4162320"/>
                  <a:ext cx="1485360" cy="839880"/>
                  <a:chOff x="698040" y="4162320"/>
                  <a:chExt cx="1485360" cy="839880"/>
                </a:xfrm>
              </p:grpSpPr>
              <p:sp>
                <p:nvSpPr>
                  <p:cNvPr id="778" name=""/>
                  <p:cNvSpPr/>
                  <p:nvPr/>
                </p:nvSpPr>
                <p:spPr>
                  <a:xfrm>
                    <a:off x="698040" y="4176720"/>
                    <a:ext cx="148536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ИЗМЕНЕНИЕ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ОСТАТКОВ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НЕОПЛАЧЕННОЙ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ОДУКЦИИ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808200" y="4162320"/>
                    <a:ext cx="1325520" cy="839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0" name=""/>
                <p:cNvGrpSpPr/>
                <p:nvPr/>
              </p:nvGrpSpPr>
              <p:grpSpPr>
                <a:xfrm>
                  <a:off x="807840" y="5342040"/>
                  <a:ext cx="1308240" cy="839520"/>
                  <a:chOff x="807840" y="5342040"/>
                  <a:chExt cx="1308240" cy="839520"/>
                </a:xfrm>
              </p:grpSpPr>
              <p:sp>
                <p:nvSpPr>
                  <p:cNvPr id="781" name=""/>
                  <p:cNvSpPr/>
                  <p:nvPr/>
                </p:nvSpPr>
                <p:spPr>
                  <a:xfrm>
                    <a:off x="890640" y="5408640"/>
                    <a:ext cx="112860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ОБЪЁМ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ВЫПУСК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ОДУКЦИИ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807840" y="5342040"/>
                    <a:ext cx="1308240" cy="8395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83" name=""/>
              <p:cNvGrpSpPr/>
              <p:nvPr/>
            </p:nvGrpSpPr>
            <p:grpSpPr>
              <a:xfrm>
                <a:off x="2440440" y="2797200"/>
                <a:ext cx="1375560" cy="3676680"/>
                <a:chOff x="2440440" y="2797200"/>
                <a:chExt cx="1375560" cy="3676680"/>
              </a:xfrm>
            </p:grpSpPr>
            <p:grpSp>
              <p:nvGrpSpPr>
                <p:cNvPr id="784" name=""/>
                <p:cNvGrpSpPr/>
                <p:nvPr/>
              </p:nvGrpSpPr>
              <p:grpSpPr>
                <a:xfrm>
                  <a:off x="2475000" y="2797200"/>
                  <a:ext cx="1324080" cy="579240"/>
                  <a:chOff x="2475000" y="2797200"/>
                  <a:chExt cx="1324080" cy="579240"/>
                </a:xfrm>
              </p:grpSpPr>
              <p:sp>
                <p:nvSpPr>
                  <p:cNvPr id="785" name=""/>
                  <p:cNvSpPr/>
                  <p:nvPr/>
                </p:nvSpPr>
                <p:spPr>
                  <a:xfrm>
                    <a:off x="2587680" y="2867040"/>
                    <a:ext cx="112860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КАЧЕСТВО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ОДУКЦИИ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2475000" y="2797200"/>
                    <a:ext cx="1324080" cy="5792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7" name=""/>
                <p:cNvGrpSpPr/>
                <p:nvPr/>
              </p:nvGrpSpPr>
              <p:grpSpPr>
                <a:xfrm>
                  <a:off x="2440440" y="3581640"/>
                  <a:ext cx="1375560" cy="579240"/>
                  <a:chOff x="2440440" y="3581640"/>
                  <a:chExt cx="1375560" cy="579240"/>
                </a:xfrm>
              </p:grpSpPr>
              <p:sp>
                <p:nvSpPr>
                  <p:cNvPr id="788" name=""/>
                  <p:cNvSpPr/>
                  <p:nvPr/>
                </p:nvSpPr>
                <p:spPr>
                  <a:xfrm>
                    <a:off x="2440440" y="3651480"/>
                    <a:ext cx="137556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КОНЪЮНКТУР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РЫНК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>
                    <a:off x="2475000" y="3581640"/>
                    <a:ext cx="1324080" cy="5792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0" name=""/>
                <p:cNvGrpSpPr/>
                <p:nvPr/>
              </p:nvGrpSpPr>
              <p:grpSpPr>
                <a:xfrm>
                  <a:off x="2487600" y="4346640"/>
                  <a:ext cx="1324080" cy="579240"/>
                  <a:chOff x="2487600" y="4346640"/>
                  <a:chExt cx="1324080" cy="579240"/>
                </a:xfrm>
              </p:grpSpPr>
              <p:sp>
                <p:nvSpPr>
                  <p:cNvPr id="791" name=""/>
                  <p:cNvSpPr/>
                  <p:nvPr/>
                </p:nvSpPr>
                <p:spPr>
                  <a:xfrm>
                    <a:off x="2601360" y="4416480"/>
                    <a:ext cx="94896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РЫНКИ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СБЫТ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2487600" y="4346640"/>
                    <a:ext cx="1324080" cy="5792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3" name=""/>
                <p:cNvGrpSpPr/>
                <p:nvPr/>
              </p:nvGrpSpPr>
              <p:grpSpPr>
                <a:xfrm>
                  <a:off x="2487600" y="5148360"/>
                  <a:ext cx="1324080" cy="374760"/>
                  <a:chOff x="2487600" y="5148360"/>
                  <a:chExt cx="1324080" cy="374760"/>
                </a:xfrm>
              </p:grpSpPr>
              <p:sp>
                <p:nvSpPr>
                  <p:cNvPr id="794" name=""/>
                  <p:cNvSpPr/>
                  <p:nvPr/>
                </p:nvSpPr>
                <p:spPr>
                  <a:xfrm>
                    <a:off x="2580480" y="5180040"/>
                    <a:ext cx="1124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ИНФЛЯЦИЯ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>
                    <a:off x="2487600" y="5148360"/>
                    <a:ext cx="1324080" cy="374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6" name=""/>
                <p:cNvGrpSpPr/>
                <p:nvPr/>
              </p:nvGrpSpPr>
              <p:grpSpPr>
                <a:xfrm>
                  <a:off x="2475000" y="5783400"/>
                  <a:ext cx="1324080" cy="690480"/>
                  <a:chOff x="2475000" y="5783400"/>
                  <a:chExt cx="1324080" cy="690480"/>
                </a:xfrm>
              </p:grpSpPr>
              <p:sp>
                <p:nvSpPr>
                  <p:cNvPr id="797" name=""/>
                  <p:cNvSpPr/>
                  <p:nvPr/>
                </p:nvSpPr>
                <p:spPr>
                  <a:xfrm>
                    <a:off x="2551680" y="5815080"/>
                    <a:ext cx="119736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СРОКИ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РЕАЛИЗАЦИИ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ОДУКЦИИ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2475000" y="5783400"/>
                    <a:ext cx="1324080" cy="690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99" name=""/>
              <p:cNvGrpSpPr/>
              <p:nvPr/>
            </p:nvGrpSpPr>
            <p:grpSpPr>
              <a:xfrm>
                <a:off x="4413240" y="2779560"/>
                <a:ext cx="1450800" cy="2781000"/>
                <a:chOff x="4413240" y="2779560"/>
                <a:chExt cx="1450800" cy="2781000"/>
              </a:xfrm>
            </p:grpSpPr>
            <p:grpSp>
              <p:nvGrpSpPr>
                <p:cNvPr id="800" name=""/>
                <p:cNvGrpSpPr/>
                <p:nvPr/>
              </p:nvGrpSpPr>
              <p:grpSpPr>
                <a:xfrm>
                  <a:off x="4470480" y="2779560"/>
                  <a:ext cx="1381320" cy="671400"/>
                  <a:chOff x="4470480" y="2779560"/>
                  <a:chExt cx="1381320" cy="671400"/>
                </a:xfrm>
              </p:grpSpPr>
              <p:sp>
                <p:nvSpPr>
                  <p:cNvPr id="801" name=""/>
                  <p:cNvSpPr/>
                  <p:nvPr/>
                </p:nvSpPr>
                <p:spPr>
                  <a:xfrm>
                    <a:off x="4490640" y="2792160"/>
                    <a:ext cx="1264320" cy="641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ИБЫЛЬ ОТ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РЕАЛИЗАЦИИ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ИМУЩЕСТВ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>
                    <a:off x="4470480" y="2779560"/>
                    <a:ext cx="1381320" cy="6714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3" name=""/>
                <p:cNvGrpSpPr/>
                <p:nvPr/>
              </p:nvGrpSpPr>
              <p:grpSpPr>
                <a:xfrm>
                  <a:off x="4413600" y="3803760"/>
                  <a:ext cx="1450440" cy="861840"/>
                  <a:chOff x="4413600" y="3803760"/>
                  <a:chExt cx="1450440" cy="86184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>
                    <a:off x="4484520" y="3807000"/>
                    <a:ext cx="1379520" cy="8586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4413600" y="3803760"/>
                    <a:ext cx="143208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ИБЫЛЬ ОТ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УЧАСТИЯ В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СОВМЕСТНЫХ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ЕДПРИЯТИЯХ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6" name=""/>
                <p:cNvGrpSpPr/>
                <p:nvPr/>
              </p:nvGrpSpPr>
              <p:grpSpPr>
                <a:xfrm>
                  <a:off x="4413240" y="5091120"/>
                  <a:ext cx="1449720" cy="469440"/>
                  <a:chOff x="4413240" y="5091120"/>
                  <a:chExt cx="1449720" cy="469440"/>
                </a:xfrm>
              </p:grpSpPr>
              <p:sp>
                <p:nvSpPr>
                  <p:cNvPr id="807" name=""/>
                  <p:cNvSpPr/>
                  <p:nvPr/>
                </p:nvSpPr>
                <p:spPr>
                  <a:xfrm>
                    <a:off x="4483080" y="5092560"/>
                    <a:ext cx="1379880" cy="4680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>
                    <a:off x="4413240" y="5091120"/>
                    <a:ext cx="135396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ОЦЕНТЫ К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ОЛУЧЕНИЮ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9" name=""/>
              <p:cNvGrpSpPr/>
              <p:nvPr/>
            </p:nvGrpSpPr>
            <p:grpSpPr>
              <a:xfrm>
                <a:off x="3789360" y="2481120"/>
                <a:ext cx="166680" cy="3640320"/>
                <a:chOff x="3789360" y="2481120"/>
                <a:chExt cx="166680" cy="3640320"/>
              </a:xfrm>
            </p:grpSpPr>
            <p:sp>
              <p:nvSpPr>
                <p:cNvPr id="810" name=""/>
                <p:cNvSpPr/>
                <p:nvPr/>
              </p:nvSpPr>
              <p:spPr>
                <a:xfrm>
                  <a:off x="3789360" y="6121440"/>
                  <a:ext cx="129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3806640" y="5318280"/>
                  <a:ext cx="13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3825720" y="4610160"/>
                  <a:ext cx="13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3806640" y="3862440"/>
                  <a:ext cx="13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3789360" y="3078000"/>
                  <a:ext cx="129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 flipV="1">
                  <a:off x="3956040" y="2481120"/>
                  <a:ext cx="0" cy="3640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" name=""/>
              <p:cNvGrpSpPr/>
              <p:nvPr/>
            </p:nvGrpSpPr>
            <p:grpSpPr>
              <a:xfrm>
                <a:off x="5859360" y="1752480"/>
                <a:ext cx="166680" cy="3564000"/>
                <a:chOff x="5859360" y="1752480"/>
                <a:chExt cx="166680" cy="3564000"/>
              </a:xfrm>
            </p:grpSpPr>
            <p:sp>
              <p:nvSpPr>
                <p:cNvPr id="817" name=""/>
                <p:cNvSpPr/>
                <p:nvPr/>
              </p:nvSpPr>
              <p:spPr>
                <a:xfrm>
                  <a:off x="5877000" y="5311800"/>
                  <a:ext cx="129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"/>
                <p:cNvSpPr/>
                <p:nvPr/>
              </p:nvSpPr>
              <p:spPr>
                <a:xfrm>
                  <a:off x="5859360" y="3073320"/>
                  <a:ext cx="147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878440" y="4192560"/>
                  <a:ext cx="130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 flipV="1">
                  <a:off x="6026040" y="1752480"/>
                  <a:ext cx="0" cy="3564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1" name=""/>
              <p:cNvSpPr/>
              <p:nvPr/>
            </p:nvSpPr>
            <p:spPr>
              <a:xfrm>
                <a:off x="988920" y="195732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27240" y="1940040"/>
                <a:ext cx="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378240" y="1940040"/>
                <a:ext cx="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002200" y="1936800"/>
                <a:ext cx="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987480" y="1940040"/>
                <a:ext cx="4030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1417680" y="173520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7" name=""/>
            <p:cNvGrpSpPr/>
            <p:nvPr/>
          </p:nvGrpSpPr>
          <p:grpSpPr>
            <a:xfrm>
              <a:off x="476280" y="577800"/>
              <a:ext cx="9020160" cy="5262120"/>
              <a:chOff x="476280" y="577800"/>
              <a:chExt cx="9020160" cy="5262120"/>
            </a:xfrm>
          </p:grpSpPr>
          <p:grpSp>
            <p:nvGrpSpPr>
              <p:cNvPr id="828" name=""/>
              <p:cNvGrpSpPr/>
              <p:nvPr/>
            </p:nvGrpSpPr>
            <p:grpSpPr>
              <a:xfrm>
                <a:off x="2637000" y="662040"/>
                <a:ext cx="2800080" cy="372960"/>
                <a:chOff x="2637000" y="662040"/>
                <a:chExt cx="2800080" cy="37296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2637000" y="662040"/>
                  <a:ext cx="280008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2637000" y="679320"/>
                  <a:ext cx="2774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ОБЩАЯ СУММА БРУТТО-ПРИБЫЛ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7025040" y="577800"/>
                <a:ext cx="1788480" cy="504720"/>
                <a:chOff x="7025040" y="577800"/>
                <a:chExt cx="1788480" cy="50472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7025040" y="590400"/>
                  <a:ext cx="17884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ЧРЕЗВЫЧАЙНЫЕ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ДОХОДЫ И РАСХОДЫ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7061400" y="577800"/>
                  <a:ext cx="1698480" cy="504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4" name=""/>
              <p:cNvGrpSpPr/>
              <p:nvPr/>
            </p:nvGrpSpPr>
            <p:grpSpPr>
              <a:xfrm>
                <a:off x="476280" y="1284120"/>
                <a:ext cx="2746440" cy="461880"/>
                <a:chOff x="476280" y="1284120"/>
                <a:chExt cx="2746440" cy="461880"/>
              </a:xfrm>
            </p:grpSpPr>
            <p:sp>
              <p:nvSpPr>
                <p:cNvPr id="835" name=""/>
                <p:cNvSpPr/>
                <p:nvPr/>
              </p:nvSpPr>
              <p:spPr>
                <a:xfrm>
                  <a:off x="516240" y="1298520"/>
                  <a:ext cx="2706480" cy="447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476280" y="1284120"/>
                  <a:ext cx="26434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ИБЫЛЬ ОТ РЕАЛИЗАЦИИ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ДУКЦИИ  (РАБОТ, УСЛУГ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" name=""/>
              <p:cNvGrpSpPr/>
              <p:nvPr/>
            </p:nvGrpSpPr>
            <p:grpSpPr>
              <a:xfrm>
                <a:off x="3348000" y="1138320"/>
                <a:ext cx="3070080" cy="642240"/>
                <a:chOff x="3348000" y="1138320"/>
                <a:chExt cx="3070080" cy="642240"/>
              </a:xfrm>
            </p:grpSpPr>
            <p:sp>
              <p:nvSpPr>
                <p:cNvPr id="838" name=""/>
                <p:cNvSpPr/>
                <p:nvPr/>
              </p:nvSpPr>
              <p:spPr>
                <a:xfrm>
                  <a:off x="3462120" y="1298520"/>
                  <a:ext cx="2743200" cy="447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3348000" y="1138320"/>
                  <a:ext cx="3070080" cy="64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ИБЫЛЬ ОТ ИНВЕСТИЦИОННОЙ И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ФИНАНСОВОЙ ДЕЯТЕЛЬНОСТ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0" name=""/>
              <p:cNvGrpSpPr/>
              <p:nvPr/>
            </p:nvGrpSpPr>
            <p:grpSpPr>
              <a:xfrm>
                <a:off x="6531120" y="1289160"/>
                <a:ext cx="2454120" cy="459000"/>
                <a:chOff x="6531120" y="1289160"/>
                <a:chExt cx="2454120" cy="459000"/>
              </a:xfrm>
            </p:grpSpPr>
            <p:sp>
              <p:nvSpPr>
                <p:cNvPr id="841" name=""/>
                <p:cNvSpPr/>
                <p:nvPr/>
              </p:nvSpPr>
              <p:spPr>
                <a:xfrm>
                  <a:off x="6534360" y="1299960"/>
                  <a:ext cx="2220840" cy="447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6531120" y="1289160"/>
                  <a:ext cx="24541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ВНЕРЕАЛИЗАЦИОННЫЕ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ФИНАНСОВЫЕ РЕЗУЛЬТАТЫ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3" name=""/>
              <p:cNvGrpSpPr/>
              <p:nvPr/>
            </p:nvGrpSpPr>
            <p:grpSpPr>
              <a:xfrm>
                <a:off x="6507000" y="2033640"/>
                <a:ext cx="2454120" cy="641520"/>
                <a:chOff x="6507000" y="2033640"/>
                <a:chExt cx="2454120" cy="64152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6510240" y="2044440"/>
                  <a:ext cx="2220840" cy="447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" name=""/>
                <p:cNvSpPr/>
                <p:nvPr/>
              </p:nvSpPr>
              <p:spPr>
                <a:xfrm>
                  <a:off x="6507000" y="2033640"/>
                  <a:ext cx="245412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ИБЫЛЬ (УБЫТОК)             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ШЛЫХ  ЛЕТ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" name=""/>
              <p:cNvGrpSpPr/>
              <p:nvPr/>
            </p:nvGrpSpPr>
            <p:grpSpPr>
              <a:xfrm>
                <a:off x="6429240" y="2817720"/>
                <a:ext cx="2511360" cy="824040"/>
                <a:chOff x="6429240" y="2817720"/>
                <a:chExt cx="2511360" cy="824040"/>
              </a:xfrm>
            </p:grpSpPr>
            <p:sp>
              <p:nvSpPr>
                <p:cNvPr id="847" name=""/>
                <p:cNvSpPr/>
                <p:nvPr/>
              </p:nvSpPr>
              <p:spPr>
                <a:xfrm>
                  <a:off x="6513120" y="2849760"/>
                  <a:ext cx="2217960" cy="634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429240" y="2817720"/>
                  <a:ext cx="251136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ВОЗМЕЩЕНИЕ УБЫТКОВ,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ИЧИНЁННЫХ НЕИСПОЛНЕ-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НИЕМ ОБЯЗАТЕЛЬСТВ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9" name=""/>
              <p:cNvGrpSpPr/>
              <p:nvPr/>
            </p:nvGrpSpPr>
            <p:grpSpPr>
              <a:xfrm>
                <a:off x="6508800" y="3821040"/>
                <a:ext cx="2454120" cy="459000"/>
                <a:chOff x="6508800" y="3821040"/>
                <a:chExt cx="2454120" cy="45900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6512040" y="3832200"/>
                  <a:ext cx="2220840" cy="447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6508800" y="3821040"/>
                  <a:ext cx="24541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КУРСОВЫЕ РАЗНИЦЫ ПО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ОПЕРАЦИЯМ В ИНВАЛЮТЕ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6518160" y="4630680"/>
                <a:ext cx="2622600" cy="459000"/>
                <a:chOff x="6518160" y="4630680"/>
                <a:chExt cx="2622600" cy="45900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6540480" y="4640040"/>
                  <a:ext cx="2220840" cy="447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6518160" y="4630680"/>
                  <a:ext cx="26226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ОЛУЧЕННЫЕ И ВЫПЛАЧЕН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НЫЕ ПЕНИ И ШТРАФЫ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5" name=""/>
              <p:cNvGrpSpPr/>
              <p:nvPr/>
            </p:nvGrpSpPr>
            <p:grpSpPr>
              <a:xfrm>
                <a:off x="6462720" y="5380200"/>
                <a:ext cx="3033720" cy="459720"/>
                <a:chOff x="6462720" y="5380200"/>
                <a:chExt cx="3033720" cy="459720"/>
              </a:xfrm>
            </p:grpSpPr>
            <p:sp>
              <p:nvSpPr>
                <p:cNvPr id="856" name=""/>
                <p:cNvSpPr/>
                <p:nvPr/>
              </p:nvSpPr>
              <p:spPr>
                <a:xfrm>
                  <a:off x="6540480" y="5392800"/>
                  <a:ext cx="2220840" cy="447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6462720" y="5380200"/>
                  <a:ext cx="30337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УБЫТКИ ОТ СПИСАНИЯ  ДЕБИ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ТОРСКОЙ ЗАДОЛЖЕННОСТ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8" name=""/>
              <p:cNvSpPr/>
              <p:nvPr/>
            </p:nvSpPr>
            <p:spPr>
              <a:xfrm flipV="1">
                <a:off x="625320" y="885600"/>
                <a:ext cx="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42960" y="885960"/>
                <a:ext cx="1977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>
                <a:off x="5402160" y="885960"/>
                <a:ext cx="123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5403600" y="755640"/>
                <a:ext cx="163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6653160" y="894960"/>
                <a:ext cx="0" cy="39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381720" y="5599080"/>
                <a:ext cx="14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399360" y="4834080"/>
                <a:ext cx="14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381720" y="4030560"/>
                <a:ext cx="1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383160" y="3062160"/>
                <a:ext cx="130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364440" y="2184480"/>
                <a:ext cx="12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V="1">
                <a:off x="6381720" y="1941480"/>
                <a:ext cx="0" cy="36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381720" y="1922400"/>
                <a:ext cx="112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V="1">
                <a:off x="7520040" y="1734840"/>
                <a:ext cx="0" cy="2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/>
          <p:nvPr/>
        </p:nvSpPr>
        <p:spPr>
          <a:xfrm>
            <a:off x="257040" y="166680"/>
            <a:ext cx="9301320" cy="70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НАЛИЗ ПОКАЗАТЕЛЕЙ РЕНТАБ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НТАБЕЛЬНОСТЬ                                        ПРИБЫЛЬ ОТ РЕАЛИЗАЦИИ ПРОДУ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УКЦИИ                                             =    ЗАТРАТЫ ПО РЕАЛИЗОВАННОЙ ПРОДУ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НТАБЕЛЬНОСТЬ                                        ПРИБЫЛЬ ОТ ОПЕРАЦИОННОЙ ДЕЯТЕ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ЕРАЦИОННОЙ ДЕЯТЕЛЬНОСТИ   =     ЗАТРАТЫ ПО ОПЕРАЦИОННОЙ ДЕЯТЕ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НТАБЕЛЬНОСТЬ                                        ПРИБЫЛЬ ОТ ИНВЕСТИЦИОННОЙ ДЕЯТЕ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ВЕСТИЦИОННЫХ ПРОЕКТОВ        =    ИНВЕСТИЦИОННЫЕ  ЗАТРА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НТАБЕЛЬНОСТЬ                                        ПРИБЫЛЬ ОТ РЕАЛИЗАЦИИ ПРОДУ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ДАЖ (ОБОРОТА)                              =                                   ВЫРУЧ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НТАБЕЛЬНОСТЬ                                       ПРИБЫЛЬ ОТ ОПЕРАЦИОННОЙ ДЕЯТЕ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ПЕРАЦИОННОГО КАПИТАЛА          =    СРЕДНЕГОДОВАЯ СТОИМОСТЬ ОПЕРАЦИОННОГО КАПИТА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НТАБЕЛЬНОСТЬ                                                                       ВАЛОВАЯ ПРИБЫ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ВОКУПНЫХ АКТИВОВ                    =    СРЕДНЕГОДОВАЯ СУММА СОВОКУПНОГО КАПИТА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АКТОРНЫЙ АНАЛИЗ РЕНТАБ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         Об.Реал. * Уд. * Ц * 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З  =     Об.Реал. * Уд. * 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         Об.Реал. * ( Ц - С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В  =     Об.Реал. * 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632040" y="1087560"/>
            <a:ext cx="401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3652920" y="1727280"/>
            <a:ext cx="4208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673440" y="2370240"/>
            <a:ext cx="44006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692520" y="3013200"/>
            <a:ext cx="360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570120" y="3654360"/>
            <a:ext cx="5573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673440" y="4278240"/>
            <a:ext cx="461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166760" y="568152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166760" y="6303960"/>
            <a:ext cx="37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1889280" y="5622840"/>
            <a:ext cx="2430360" cy="2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928880" y="6261120"/>
            <a:ext cx="2214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0" y="88920"/>
            <a:ext cx="9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ЕЗЕРВЫ УВЕЛИЧЕНИЯ ПРИБЫЛИ И РЕНТАБЕЛЬ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2664000" y="758880"/>
            <a:ext cx="3733560" cy="50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062240" y="1731960"/>
            <a:ext cx="22352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ВЫШ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41440" y="1731960"/>
            <a:ext cx="31906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ВЕЛИЧЕНИЕ     ОБЪ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ЕАЛИЗАЦИИ  ПРОДУ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649920" y="1731960"/>
            <a:ext cx="19843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НИЖ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ЕБЕСТОИМ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ДУ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63680" y="2881440"/>
            <a:ext cx="2782800" cy="85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ВЫШЕНИЕ КАЧЕ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ДУК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652920" y="2881440"/>
            <a:ext cx="2340000" cy="85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ИСК ВЫГОД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ЫНКОВ СБЫ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728800" y="865080"/>
            <a:ext cx="816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ЕЗЕРВЫ УВЕЛИЧЕНИЯ ПРИБЫ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337440" y="2881440"/>
            <a:ext cx="2334960" cy="85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УСКОР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ОРАЧИВАЕМ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РЕДСТ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828800" y="2665440"/>
            <a:ext cx="595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477800" y="1050840"/>
            <a:ext cx="120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6381360" y="1031760"/>
            <a:ext cx="1668600" cy="1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1473120" y="1050840"/>
            <a:ext cx="0" cy="68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1843200" y="2646360"/>
            <a:ext cx="0" cy="23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4995720" y="245124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4995720" y="1265400"/>
            <a:ext cx="0" cy="4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7797960" y="2684160"/>
            <a:ext cx="0" cy="17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8050320" y="101088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57040" y="4406760"/>
            <a:ext cx="888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пл.      Пф.            П + Р П              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.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. =    Зпл.  -    Зф.  =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б.Реал.* С)  -    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ф. +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.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. =    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ф. – Р  К  + Кдоп.   -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3094200" y="4843440"/>
            <a:ext cx="60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183200" y="4844880"/>
            <a:ext cx="46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116680" y="4824360"/>
            <a:ext cx="202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607160" y="4807080"/>
            <a:ext cx="33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12920" y="5915160"/>
            <a:ext cx="264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V="1">
            <a:off x="584280" y="4824000"/>
            <a:ext cx="0" cy="27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584280" y="593424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494240" y="5992920"/>
            <a:ext cx="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4416480" y="5525640"/>
            <a:ext cx="0" cy="31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0" y="0"/>
            <a:ext cx="91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ХЕМА РАСПРЕДЕЛЕНИЯ ПРИБЫ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728640" y="598320"/>
            <a:ext cx="7569360" cy="5769360"/>
            <a:chOff x="728640" y="598320"/>
            <a:chExt cx="7569360" cy="5769360"/>
          </a:xfrm>
        </p:grpSpPr>
        <p:sp>
          <p:nvSpPr>
            <p:cNvPr id="912" name=""/>
            <p:cNvSpPr/>
            <p:nvPr/>
          </p:nvSpPr>
          <p:spPr>
            <a:xfrm>
              <a:off x="3565440" y="5734080"/>
              <a:ext cx="2014560" cy="61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3" name=""/>
            <p:cNvGrpSpPr/>
            <p:nvPr/>
          </p:nvGrpSpPr>
          <p:grpSpPr>
            <a:xfrm>
              <a:off x="728640" y="598320"/>
              <a:ext cx="7569360" cy="5769360"/>
              <a:chOff x="728640" y="598320"/>
              <a:chExt cx="7569360" cy="5769360"/>
            </a:xfrm>
          </p:grpSpPr>
          <p:grpSp>
            <p:nvGrpSpPr>
              <p:cNvPr id="914" name=""/>
              <p:cNvGrpSpPr/>
              <p:nvPr/>
            </p:nvGrpSpPr>
            <p:grpSpPr>
              <a:xfrm>
                <a:off x="2908440" y="598320"/>
                <a:ext cx="3260520" cy="1906920"/>
                <a:chOff x="2908440" y="598320"/>
                <a:chExt cx="3260520" cy="1906920"/>
              </a:xfrm>
            </p:grpSpPr>
            <p:grpSp>
              <p:nvGrpSpPr>
                <p:cNvPr id="915" name=""/>
                <p:cNvGrpSpPr/>
                <p:nvPr/>
              </p:nvGrpSpPr>
              <p:grpSpPr>
                <a:xfrm>
                  <a:off x="2908440" y="598320"/>
                  <a:ext cx="3260520" cy="835200"/>
                  <a:chOff x="2908440" y="598320"/>
                  <a:chExt cx="3260520" cy="835200"/>
                </a:xfrm>
              </p:grpSpPr>
              <p:sp>
                <p:nvSpPr>
                  <p:cNvPr id="916" name=""/>
                  <p:cNvSpPr/>
                  <p:nvPr/>
                </p:nvSpPr>
                <p:spPr>
                  <a:xfrm>
                    <a:off x="2909880" y="609480"/>
                    <a:ext cx="325908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ОБЩАЯ СУММА ПРИБЫЛИ  ДО ВЫПЛАТЫ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ИЦЕНТОВ И НАЛОГОВ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БРУТТО-ПРИБЫЛЬ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7" name=""/>
                  <p:cNvSpPr/>
                  <p:nvPr/>
                </p:nvSpPr>
                <p:spPr>
                  <a:xfrm>
                    <a:off x="2908440" y="598320"/>
                    <a:ext cx="3247920" cy="6336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18" name=""/>
                <p:cNvGrpSpPr/>
                <p:nvPr/>
              </p:nvGrpSpPr>
              <p:grpSpPr>
                <a:xfrm>
                  <a:off x="2908440" y="1401840"/>
                  <a:ext cx="3247920" cy="470160"/>
                  <a:chOff x="2908440" y="1401840"/>
                  <a:chExt cx="3247920" cy="470160"/>
                </a:xfrm>
              </p:grpSpPr>
              <p:sp>
                <p:nvSpPr>
                  <p:cNvPr id="919" name=""/>
                  <p:cNvSpPr/>
                  <p:nvPr/>
                </p:nvSpPr>
                <p:spPr>
                  <a:xfrm>
                    <a:off x="2910240" y="1413000"/>
                    <a:ext cx="305964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ВЫПЛАТА ПРОЦЕНТОВ ЗА ИСПОЛЬЗО-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ВАНИЕ ЗАЁМНОГО КАПИТАЛ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2908440" y="1401840"/>
                    <a:ext cx="3247920" cy="4665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1" name=""/>
                <p:cNvGrpSpPr/>
                <p:nvPr/>
              </p:nvGrpSpPr>
              <p:grpSpPr>
                <a:xfrm>
                  <a:off x="2908440" y="2046240"/>
                  <a:ext cx="3247920" cy="459000"/>
                  <a:chOff x="2908440" y="2046240"/>
                  <a:chExt cx="3247920" cy="459000"/>
                </a:xfrm>
              </p:grpSpPr>
              <p:sp>
                <p:nvSpPr>
                  <p:cNvPr id="922" name=""/>
                  <p:cNvSpPr/>
                  <p:nvPr/>
                </p:nvSpPr>
                <p:spPr>
                  <a:xfrm>
                    <a:off x="3134520" y="2046240"/>
                    <a:ext cx="284940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РИБЫЛЬ ОТЧЁТНОГО ПЕРИОДА ДО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НАЛОГООБЛОЖЕНИЯ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3" name=""/>
                  <p:cNvSpPr/>
                  <p:nvPr/>
                </p:nvSpPr>
                <p:spPr>
                  <a:xfrm>
                    <a:off x="2908440" y="2055600"/>
                    <a:ext cx="3247920" cy="4096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924" name=""/>
              <p:cNvGrpSpPr/>
              <p:nvPr/>
            </p:nvGrpSpPr>
            <p:grpSpPr>
              <a:xfrm>
                <a:off x="914400" y="2643120"/>
                <a:ext cx="1790640" cy="471240"/>
                <a:chOff x="914400" y="2643120"/>
                <a:chExt cx="1790640" cy="47124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1009080" y="2643120"/>
                  <a:ext cx="16484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НАЛОГОВОЕ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ИЗЪЯТИЕ ПРИБЫЛ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914400" y="2647800"/>
                  <a:ext cx="1790640" cy="46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7" name=""/>
              <p:cNvGrpSpPr/>
              <p:nvPr/>
            </p:nvGrpSpPr>
            <p:grpSpPr>
              <a:xfrm>
                <a:off x="6319800" y="2639880"/>
                <a:ext cx="1790640" cy="466920"/>
                <a:chOff x="6319800" y="2639880"/>
                <a:chExt cx="1790640" cy="466920"/>
              </a:xfrm>
            </p:grpSpPr>
            <p:sp>
              <p:nvSpPr>
                <p:cNvPr id="928" name=""/>
                <p:cNvSpPr/>
                <p:nvPr/>
              </p:nvSpPr>
              <p:spPr>
                <a:xfrm>
                  <a:off x="6422040" y="2755800"/>
                  <a:ext cx="1587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ЧИСТАЯ  ПРИБЫЛЬ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6319800" y="2639880"/>
                  <a:ext cx="1790640" cy="46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932040" y="3297240"/>
                <a:ext cx="1790640" cy="471240"/>
                <a:chOff x="932040" y="3297240"/>
                <a:chExt cx="1790640" cy="47124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1026720" y="32972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НАЛОГ Н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ИБЫЛЬ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932040" y="3301920"/>
                  <a:ext cx="1790640" cy="46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3526560" y="3263760"/>
                <a:ext cx="2052360" cy="490320"/>
                <a:chOff x="3526560" y="3263760"/>
                <a:chExt cx="2052360" cy="49032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3526560" y="3263760"/>
                  <a:ext cx="20523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КАПИТАЛИЗИРОВАННАЯ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ЧАСТЬ ПРИБЫЛ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3546360" y="3287520"/>
                  <a:ext cx="2014560" cy="46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6" name=""/>
              <p:cNvGrpSpPr/>
              <p:nvPr/>
            </p:nvGrpSpPr>
            <p:grpSpPr>
              <a:xfrm>
                <a:off x="6308640" y="3294000"/>
                <a:ext cx="1790640" cy="471240"/>
                <a:chOff x="6308640" y="3294000"/>
                <a:chExt cx="1790640" cy="471240"/>
              </a:xfrm>
            </p:grpSpPr>
            <p:sp>
              <p:nvSpPr>
                <p:cNvPr id="937" name=""/>
                <p:cNvSpPr/>
                <p:nvPr/>
              </p:nvSpPr>
              <p:spPr>
                <a:xfrm>
                  <a:off x="6403320" y="3294000"/>
                  <a:ext cx="15616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ОТРЕБЛЁННАЯ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ЧАСТЬ ПРИБЫЛ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6308640" y="3298680"/>
                  <a:ext cx="1790640" cy="46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9" name=""/>
              <p:cNvGrpSpPr/>
              <p:nvPr/>
            </p:nvGrpSpPr>
            <p:grpSpPr>
              <a:xfrm>
                <a:off x="879480" y="3987720"/>
                <a:ext cx="1920960" cy="641520"/>
                <a:chOff x="879480" y="3987720"/>
                <a:chExt cx="1920960" cy="641520"/>
              </a:xfrm>
            </p:grpSpPr>
            <p:sp>
              <p:nvSpPr>
                <p:cNvPr id="940" name=""/>
                <p:cNvSpPr/>
                <p:nvPr/>
              </p:nvSpPr>
              <p:spPr>
                <a:xfrm>
                  <a:off x="879480" y="3987720"/>
                  <a:ext cx="192096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ШТРАФЫ, ПЕНИ,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НЕУСТОЙКИ ПО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ЛАТЕЖАМ В БЮДЖЕТ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914400" y="4011480"/>
                  <a:ext cx="1790640" cy="615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2" name=""/>
              <p:cNvGrpSpPr/>
              <p:nvPr/>
            </p:nvGrpSpPr>
            <p:grpSpPr>
              <a:xfrm>
                <a:off x="3491640" y="3935520"/>
                <a:ext cx="2155680" cy="641520"/>
                <a:chOff x="3491640" y="3935520"/>
                <a:chExt cx="2155680" cy="64152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3491640" y="3935520"/>
                  <a:ext cx="215568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ИБЫЛЬ НА ИНВЕСТИРО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ВАНИЕ ПРОИЗВОДСТВЕН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НОГО РАЗВИТ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529080" y="3942000"/>
                  <a:ext cx="2014560" cy="615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3510000" y="4738680"/>
                <a:ext cx="2073600" cy="824040"/>
                <a:chOff x="3510000" y="4738680"/>
                <a:chExt cx="2073600" cy="82404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3510000" y="4738680"/>
                  <a:ext cx="207360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ИБЫЛЬ НА ФОРМИРО 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ВАНИЕ РЕЗЕРВНОГО И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ДРУГИХ СТРАХОВЫХ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ФОНДОВ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548160" y="4746600"/>
                  <a:ext cx="2014560" cy="787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8" name=""/>
              <p:cNvSpPr/>
              <p:nvPr/>
            </p:nvSpPr>
            <p:spPr>
              <a:xfrm>
                <a:off x="3490200" y="5726160"/>
                <a:ext cx="1886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ПРОЧИЕ ФОРМ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КАПИТАЛИЗАЦИИ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      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ПРИБЫЛИ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9" name=""/>
              <p:cNvGrpSpPr/>
              <p:nvPr/>
            </p:nvGrpSpPr>
            <p:grpSpPr>
              <a:xfrm>
                <a:off x="6308640" y="3970440"/>
                <a:ext cx="1790640" cy="466560"/>
                <a:chOff x="6308640" y="3970440"/>
                <a:chExt cx="1790640" cy="466560"/>
              </a:xfrm>
            </p:grpSpPr>
            <p:sp>
              <p:nvSpPr>
                <p:cNvPr id="950" name=""/>
                <p:cNvSpPr/>
                <p:nvPr/>
              </p:nvSpPr>
              <p:spPr>
                <a:xfrm>
                  <a:off x="6516360" y="4059000"/>
                  <a:ext cx="1300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ДИВИДЕНДЫ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6308640" y="3970440"/>
                  <a:ext cx="1790640" cy="46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6324480" y="4579920"/>
                <a:ext cx="1790640" cy="641520"/>
                <a:chOff x="6324480" y="4579920"/>
                <a:chExt cx="1790640" cy="64152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6399360" y="4579920"/>
                  <a:ext cx="156132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ЧИЕ ФОРМЫ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ОТРЕБЛЕН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ИБЫЛ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6324480" y="4620960"/>
                  <a:ext cx="1790640" cy="560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55" name=""/>
              <p:cNvSpPr/>
              <p:nvPr/>
            </p:nvSpPr>
            <p:spPr>
              <a:xfrm>
                <a:off x="4494240" y="1231920"/>
                <a:ext cx="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494240" y="1866960"/>
                <a:ext cx="0" cy="18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494240" y="2846520"/>
                <a:ext cx="0" cy="43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H="1">
                <a:off x="4494240" y="2846520"/>
                <a:ext cx="181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59" name=""/>
              <p:cNvGrpSpPr/>
              <p:nvPr/>
            </p:nvGrpSpPr>
            <p:grpSpPr>
              <a:xfrm>
                <a:off x="728640" y="2846520"/>
                <a:ext cx="222120" cy="1463400"/>
                <a:chOff x="728640" y="2846520"/>
                <a:chExt cx="222120" cy="146340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747720" y="2846520"/>
                  <a:ext cx="16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739800" y="2873520"/>
                  <a:ext cx="0" cy="143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728640" y="4292640"/>
                  <a:ext cx="204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744480" y="3544920"/>
                  <a:ext cx="206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4" name=""/>
              <p:cNvSpPr/>
              <p:nvPr/>
            </p:nvSpPr>
            <p:spPr>
              <a:xfrm>
                <a:off x="8116920" y="3552840"/>
                <a:ext cx="1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65" name=""/>
              <p:cNvGrpSpPr/>
              <p:nvPr/>
            </p:nvGrpSpPr>
            <p:grpSpPr>
              <a:xfrm>
                <a:off x="5541480" y="3554280"/>
                <a:ext cx="205200" cy="2536920"/>
                <a:chOff x="5541480" y="3554280"/>
                <a:chExt cx="205200" cy="2536920"/>
              </a:xfrm>
            </p:grpSpPr>
            <p:sp>
              <p:nvSpPr>
                <p:cNvPr id="966" name=""/>
                <p:cNvSpPr/>
                <p:nvPr/>
              </p:nvSpPr>
              <p:spPr>
                <a:xfrm>
                  <a:off x="5560920" y="3554280"/>
                  <a:ext cx="184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7" name=""/>
                <p:cNvSpPr/>
                <p:nvPr/>
              </p:nvSpPr>
              <p:spPr>
                <a:xfrm>
                  <a:off x="5746680" y="3581280"/>
                  <a:ext cx="0" cy="2502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 flipH="1">
                  <a:off x="5541480" y="4319640"/>
                  <a:ext cx="187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 flipH="1">
                  <a:off x="5560920" y="5121360"/>
                  <a:ext cx="168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 flipH="1">
                  <a:off x="5579640" y="6091200"/>
                  <a:ext cx="149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71" name=""/>
              <p:cNvSpPr/>
              <p:nvPr/>
            </p:nvSpPr>
            <p:spPr>
              <a:xfrm>
                <a:off x="1735200" y="2282760"/>
                <a:ext cx="11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140520" y="2290680"/>
                <a:ext cx="115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1716120" y="2313000"/>
                <a:ext cx="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315200" y="2293920"/>
                <a:ext cx="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7316640" y="3116160"/>
                <a:ext cx="0" cy="20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8298000" y="3564000"/>
                <a:ext cx="0" cy="135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8099280" y="4908600"/>
                <a:ext cx="16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H="1">
                <a:off x="8099280" y="4181400"/>
                <a:ext cx="16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53880" y="125280"/>
            <a:ext cx="82886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ма 8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АЛИЗ ИСТОЧНИКОВ ФОРМИРОВ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0880" y="15238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ДАЧИ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80880" y="274320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ЕКТЫ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80880" y="40384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И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572000" y="1066680"/>
            <a:ext cx="4191120" cy="156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4572000" y="2743200"/>
            <a:ext cx="4191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ОБСТЕННЫЕ И ЗЕМНЫЕ СРЕД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РГАНИЗАЦ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572000" y="5181480"/>
            <a:ext cx="41911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380880" y="5334120"/>
            <a:ext cx="38102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АПЫ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572000" y="3809880"/>
            <a:ext cx="41911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614840" y="1027080"/>
            <a:ext cx="4221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ИЗУЧИТЬ СОСТАВ, СТРУКТУРУ, ДИНАМИК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СТОЧНИКОВ ФОРМИРОВАНИЯ КАПИТАЛ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УСТАНОВИТЬ ФАКТОРЫ ИЗМЕНЕНИЯ Е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ЕЛИЧИНЫ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ОПРЕДЕЛИТЬ СТОИМОСТЬ ОТДЕЛЬ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СТОЧНИКОВ КАПИТАЛА И ЕГО СРЕДНЕВЗВЕ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ШЕННУЮ ВЕЛИЧИН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654440" y="3984480"/>
            <a:ext cx="4611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БУХГАЛТЕРСКИЙ БАЛАНС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ОТЧЕТ О ПРИБЫЛЯХ И УБЫТКАХ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ОТЧЕТ О ДВИЖЕНИИ ДЕНЕЖНЫХ СРЕДСТ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4557600" y="5191200"/>
            <a:ext cx="62056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АНАЛИЗ  ДИНАМИКИ И СТРУКТУРЫ СОБСТВЕНН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АПИ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НАЛИЗ ТЕМПОВ РОСТА СОБСТВЕННОГО 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АНАЛИЗ ДИНАМИКИ И СТРУКТУРЫ ЗАЕМН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ОЦЕНКА СТОИМОСТИ 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183200" y="570852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4183200" y="440388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183200" y="319896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4202280" y="1914480"/>
            <a:ext cx="36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2912040" y="260280"/>
            <a:ext cx="33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ТРУКТУРА КАПИТ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15800" y="779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326880" y="855720"/>
            <a:ext cx="8084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АПИТАЛ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ЭТО СРЕДСТВА, КОТОРЫМИ РАСПОЛАГАЕТ СУБЪЕКТ ХОЗЯЙСТВОВАНИЯ ДЛ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УЩЕСТВЛЕНИЯ СВОЕЙ ДЕЯТЕЛЬНОСТИ С ЦЕЛЬЮ ПОЛУЧЕНИЯ ПРИБЫЛ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8" name=""/>
          <p:cNvGrpSpPr/>
          <p:nvPr/>
        </p:nvGrpSpPr>
        <p:grpSpPr>
          <a:xfrm>
            <a:off x="1660680" y="2028960"/>
            <a:ext cx="1775880" cy="526680"/>
            <a:chOff x="1660680" y="2028960"/>
            <a:chExt cx="1775880" cy="526680"/>
          </a:xfrm>
        </p:grpSpPr>
        <p:sp>
          <p:nvSpPr>
            <p:cNvPr id="999" name=""/>
            <p:cNvSpPr/>
            <p:nvPr/>
          </p:nvSpPr>
          <p:spPr>
            <a:xfrm>
              <a:off x="1660680" y="2028960"/>
              <a:ext cx="1775880" cy="52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749600" y="2103120"/>
              <a:ext cx="15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ОБСТВЕННЫ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3676680" y="1535040"/>
            <a:ext cx="1775880" cy="352440"/>
            <a:chOff x="3676680" y="1535040"/>
            <a:chExt cx="1775880" cy="352440"/>
          </a:xfrm>
        </p:grpSpPr>
        <p:sp>
          <p:nvSpPr>
            <p:cNvPr id="1002" name=""/>
            <p:cNvSpPr/>
            <p:nvPr/>
          </p:nvSpPr>
          <p:spPr>
            <a:xfrm>
              <a:off x="3676680" y="1535040"/>
              <a:ext cx="1775880" cy="352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765600" y="1584720"/>
              <a:ext cx="15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АПИТА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5708520" y="2048040"/>
            <a:ext cx="1776240" cy="543960"/>
            <a:chOff x="5708520" y="2048040"/>
            <a:chExt cx="1776240" cy="543960"/>
          </a:xfrm>
        </p:grpSpPr>
        <p:sp>
          <p:nvSpPr>
            <p:cNvPr id="1005" name=""/>
            <p:cNvSpPr/>
            <p:nvPr/>
          </p:nvSpPr>
          <p:spPr>
            <a:xfrm>
              <a:off x="5708520" y="2048040"/>
              <a:ext cx="1776240" cy="543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797440" y="2124720"/>
              <a:ext cx="1596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ЗАЁМНЫ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5451120" y="1784520"/>
            <a:ext cx="1189440" cy="255240"/>
            <a:chOff x="5451120" y="1784520"/>
            <a:chExt cx="1189440" cy="255240"/>
          </a:xfrm>
        </p:grpSpPr>
        <p:sp>
          <p:nvSpPr>
            <p:cNvPr id="1008" name=""/>
            <p:cNvSpPr/>
            <p:nvPr/>
          </p:nvSpPr>
          <p:spPr>
            <a:xfrm>
              <a:off x="6640560" y="1784520"/>
              <a:ext cx="0" cy="25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5451120" y="178452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2508120" y="1784520"/>
            <a:ext cx="1167120" cy="237960"/>
            <a:chOff x="2508120" y="1784520"/>
            <a:chExt cx="1167120" cy="237960"/>
          </a:xfrm>
        </p:grpSpPr>
        <p:sp>
          <p:nvSpPr>
            <p:cNvPr id="1011" name=""/>
            <p:cNvSpPr/>
            <p:nvPr/>
          </p:nvSpPr>
          <p:spPr>
            <a:xfrm>
              <a:off x="2508120" y="1784520"/>
              <a:ext cx="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508120" y="1784520"/>
              <a:ext cx="116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3" name=""/>
          <p:cNvGrpSpPr/>
          <p:nvPr/>
        </p:nvGrpSpPr>
        <p:grpSpPr>
          <a:xfrm>
            <a:off x="385920" y="3119400"/>
            <a:ext cx="1212480" cy="568080"/>
            <a:chOff x="385920" y="3119400"/>
            <a:chExt cx="1212480" cy="568080"/>
          </a:xfrm>
        </p:grpSpPr>
        <p:sp>
          <p:nvSpPr>
            <p:cNvPr id="1014" name=""/>
            <p:cNvSpPr/>
            <p:nvPr/>
          </p:nvSpPr>
          <p:spPr>
            <a:xfrm>
              <a:off x="385920" y="3119400"/>
              <a:ext cx="1212480" cy="56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46400" y="3199680"/>
              <a:ext cx="1089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УСТАВНЫЙ КАПИТА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6" name=""/>
          <p:cNvGrpSpPr/>
          <p:nvPr/>
        </p:nvGrpSpPr>
        <p:grpSpPr>
          <a:xfrm>
            <a:off x="1757520" y="3119400"/>
            <a:ext cx="1458360" cy="568080"/>
            <a:chOff x="1757520" y="3119400"/>
            <a:chExt cx="1458360" cy="568080"/>
          </a:xfrm>
        </p:grpSpPr>
        <p:sp>
          <p:nvSpPr>
            <p:cNvPr id="1017" name=""/>
            <p:cNvSpPr/>
            <p:nvPr/>
          </p:nvSpPr>
          <p:spPr>
            <a:xfrm>
              <a:off x="1757520" y="3119400"/>
              <a:ext cx="1458360" cy="56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30240" y="3199680"/>
              <a:ext cx="131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НАКОПЛЕН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НЫЙ КАПИТА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9" name=""/>
          <p:cNvGrpSpPr/>
          <p:nvPr/>
        </p:nvGrpSpPr>
        <p:grpSpPr>
          <a:xfrm>
            <a:off x="3357720" y="3119400"/>
            <a:ext cx="1460160" cy="880560"/>
            <a:chOff x="3357720" y="3119400"/>
            <a:chExt cx="1460160" cy="880560"/>
          </a:xfrm>
        </p:grpSpPr>
        <p:sp>
          <p:nvSpPr>
            <p:cNvPr id="1020" name=""/>
            <p:cNvSpPr/>
            <p:nvPr/>
          </p:nvSpPr>
          <p:spPr>
            <a:xfrm>
              <a:off x="3357720" y="3119400"/>
              <a:ext cx="1460160" cy="880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430800" y="3243600"/>
              <a:ext cx="1312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ЦЕЛЕВОЕ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ФИНАН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ИРОВ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5097600" y="3119400"/>
            <a:ext cx="1739520" cy="568080"/>
            <a:chOff x="5097600" y="3119400"/>
            <a:chExt cx="1739520" cy="568080"/>
          </a:xfrm>
        </p:grpSpPr>
        <p:sp>
          <p:nvSpPr>
            <p:cNvPr id="1023" name=""/>
            <p:cNvSpPr/>
            <p:nvPr/>
          </p:nvSpPr>
          <p:spPr>
            <a:xfrm>
              <a:off x="5097600" y="3119400"/>
              <a:ext cx="1739520" cy="56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184720" y="3199680"/>
              <a:ext cx="1563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ДОЛГОСРОЧ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НЫ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6978600" y="3119400"/>
            <a:ext cx="1774440" cy="568080"/>
            <a:chOff x="6978600" y="3119400"/>
            <a:chExt cx="1774440" cy="568080"/>
          </a:xfrm>
        </p:grpSpPr>
        <p:sp>
          <p:nvSpPr>
            <p:cNvPr id="1026" name=""/>
            <p:cNvSpPr/>
            <p:nvPr/>
          </p:nvSpPr>
          <p:spPr>
            <a:xfrm>
              <a:off x="6978600" y="3119400"/>
              <a:ext cx="1774440" cy="56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067160" y="3199680"/>
              <a:ext cx="1594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РАТКОСРОЧ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НЫ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8" name=""/>
          <p:cNvSpPr/>
          <p:nvPr/>
        </p:nvSpPr>
        <p:spPr>
          <a:xfrm>
            <a:off x="998640" y="28209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1035000" y="28209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2513160" y="28209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513160" y="28209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000080" y="2549520"/>
            <a:ext cx="3043440" cy="563400"/>
            <a:chOff x="1000080" y="2549520"/>
            <a:chExt cx="3043440" cy="563400"/>
          </a:xfrm>
        </p:grpSpPr>
        <p:sp>
          <p:nvSpPr>
            <p:cNvPr id="1033" name=""/>
            <p:cNvSpPr/>
            <p:nvPr/>
          </p:nvSpPr>
          <p:spPr>
            <a:xfrm flipV="1">
              <a:off x="2513160" y="2549520"/>
              <a:ext cx="0" cy="27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001880" y="2820960"/>
              <a:ext cx="302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513160" y="281304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000080" y="284796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043520" y="2830680"/>
              <a:ext cx="0" cy="28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5925960" y="2584440"/>
            <a:ext cx="1967040" cy="528480"/>
            <a:chOff x="5925960" y="2584440"/>
            <a:chExt cx="1967040" cy="528480"/>
          </a:xfrm>
        </p:grpSpPr>
        <p:sp>
          <p:nvSpPr>
            <p:cNvPr id="1039" name=""/>
            <p:cNvSpPr/>
            <p:nvPr/>
          </p:nvSpPr>
          <p:spPr>
            <a:xfrm flipV="1">
              <a:off x="6645240" y="2584440"/>
              <a:ext cx="0" cy="25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V="1">
              <a:off x="5942160" y="283860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V="1">
              <a:off x="7893000" y="2838600"/>
              <a:ext cx="0" cy="27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925960" y="2838600"/>
              <a:ext cx="19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385920" y="4562640"/>
            <a:ext cx="1212480" cy="567720"/>
            <a:chOff x="385920" y="4562640"/>
            <a:chExt cx="1212480" cy="567720"/>
          </a:xfrm>
        </p:grpSpPr>
        <p:sp>
          <p:nvSpPr>
            <p:cNvPr id="1044" name=""/>
            <p:cNvSpPr/>
            <p:nvPr/>
          </p:nvSpPr>
          <p:spPr>
            <a:xfrm>
              <a:off x="385920" y="4562640"/>
              <a:ext cx="1212480" cy="56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46400" y="4642560"/>
              <a:ext cx="1089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РЕЗЕРВНЫ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АПИТА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1757520" y="4562640"/>
            <a:ext cx="1441080" cy="843840"/>
            <a:chOff x="1757520" y="4562640"/>
            <a:chExt cx="1441080" cy="843840"/>
          </a:xfrm>
        </p:grpSpPr>
        <p:sp>
          <p:nvSpPr>
            <p:cNvPr id="1047" name=""/>
            <p:cNvSpPr/>
            <p:nvPr/>
          </p:nvSpPr>
          <p:spPr>
            <a:xfrm>
              <a:off x="1757520" y="4562640"/>
              <a:ext cx="1441080" cy="843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829520" y="4681800"/>
              <a:ext cx="1294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ДОБАВОЧНЫ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АПИТА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9" name=""/>
          <p:cNvGrpSpPr/>
          <p:nvPr/>
        </p:nvGrpSpPr>
        <p:grpSpPr>
          <a:xfrm>
            <a:off x="3375000" y="4562640"/>
            <a:ext cx="1423800" cy="939960"/>
            <a:chOff x="3375000" y="4562640"/>
            <a:chExt cx="1423800" cy="939960"/>
          </a:xfrm>
        </p:grpSpPr>
        <p:sp>
          <p:nvSpPr>
            <p:cNvPr id="1050" name=""/>
            <p:cNvSpPr/>
            <p:nvPr/>
          </p:nvSpPr>
          <p:spPr>
            <a:xfrm>
              <a:off x="3375000" y="4562640"/>
              <a:ext cx="1423800" cy="820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446280" y="4678560"/>
              <a:ext cx="1279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НЕРАСПРЕДЕ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ЛЁННА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ПРИБЫЛ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2" name=""/>
          <p:cNvGrpSpPr/>
          <p:nvPr/>
        </p:nvGrpSpPr>
        <p:grpSpPr>
          <a:xfrm>
            <a:off x="1000080" y="3675240"/>
            <a:ext cx="3043440" cy="879120"/>
            <a:chOff x="1000080" y="3675240"/>
            <a:chExt cx="3043440" cy="879120"/>
          </a:xfrm>
        </p:grpSpPr>
        <p:sp>
          <p:nvSpPr>
            <p:cNvPr id="1053" name=""/>
            <p:cNvSpPr/>
            <p:nvPr/>
          </p:nvSpPr>
          <p:spPr>
            <a:xfrm flipV="1">
              <a:off x="2513160" y="3675240"/>
              <a:ext cx="0" cy="60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2513160" y="4281480"/>
              <a:ext cx="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4043520" y="4281480"/>
              <a:ext cx="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1000080" y="4281480"/>
              <a:ext cx="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000080" y="4281480"/>
              <a:ext cx="302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5081760" y="4579920"/>
            <a:ext cx="1387080" cy="568080"/>
            <a:chOff x="5081760" y="4579920"/>
            <a:chExt cx="1387080" cy="568080"/>
          </a:xfrm>
        </p:grpSpPr>
        <p:sp>
          <p:nvSpPr>
            <p:cNvPr id="1059" name=""/>
            <p:cNvSpPr/>
            <p:nvPr/>
          </p:nvSpPr>
          <p:spPr>
            <a:xfrm>
              <a:off x="5081760" y="4579920"/>
              <a:ext cx="1387080" cy="56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150880" y="4660200"/>
              <a:ext cx="1246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ЛИЗИНГ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1" name=""/>
          <p:cNvGrpSpPr/>
          <p:nvPr/>
        </p:nvGrpSpPr>
        <p:grpSpPr>
          <a:xfrm>
            <a:off x="5099040" y="5616720"/>
            <a:ext cx="1811160" cy="567720"/>
            <a:chOff x="5099040" y="5616720"/>
            <a:chExt cx="1811160" cy="567720"/>
          </a:xfrm>
        </p:grpSpPr>
        <p:sp>
          <p:nvSpPr>
            <p:cNvPr id="1062" name=""/>
            <p:cNvSpPr/>
            <p:nvPr/>
          </p:nvSpPr>
          <p:spPr>
            <a:xfrm>
              <a:off x="5099040" y="5616720"/>
              <a:ext cx="1811160" cy="56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189400" y="5696640"/>
              <a:ext cx="162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РЕДИТЫ БАНКО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4" name=""/>
          <p:cNvGrpSpPr/>
          <p:nvPr/>
        </p:nvGrpSpPr>
        <p:grpSpPr>
          <a:xfrm>
            <a:off x="7597800" y="4579920"/>
            <a:ext cx="1352160" cy="568080"/>
            <a:chOff x="7597800" y="4579920"/>
            <a:chExt cx="1352160" cy="568080"/>
          </a:xfrm>
        </p:grpSpPr>
        <p:sp>
          <p:nvSpPr>
            <p:cNvPr id="1065" name=""/>
            <p:cNvSpPr/>
            <p:nvPr/>
          </p:nvSpPr>
          <p:spPr>
            <a:xfrm>
              <a:off x="7597800" y="4579920"/>
              <a:ext cx="1352160" cy="56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665480" y="4660200"/>
              <a:ext cx="1215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ЗАЙМ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7210440" y="5616720"/>
            <a:ext cx="1739520" cy="567720"/>
            <a:chOff x="7210440" y="5616720"/>
            <a:chExt cx="1739520" cy="567720"/>
          </a:xfrm>
        </p:grpSpPr>
        <p:sp>
          <p:nvSpPr>
            <p:cNvPr id="1068" name=""/>
            <p:cNvSpPr/>
            <p:nvPr/>
          </p:nvSpPr>
          <p:spPr>
            <a:xfrm>
              <a:off x="7210440" y="5616720"/>
              <a:ext cx="1739520" cy="567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297560" y="5696640"/>
              <a:ext cx="1563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РЕДИТОРСКА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ЗАДОЛЖЕННОСТЬ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"/>
          <p:cNvSpPr/>
          <p:nvPr/>
        </p:nvSpPr>
        <p:spPr>
          <a:xfrm>
            <a:off x="5943600" y="5610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5925960" y="3675240"/>
            <a:ext cx="1987560" cy="1934640"/>
            <a:chOff x="5925960" y="3675240"/>
            <a:chExt cx="1987560" cy="1934640"/>
          </a:xfrm>
        </p:grpSpPr>
        <p:sp>
          <p:nvSpPr>
            <p:cNvPr id="1072" name=""/>
            <p:cNvSpPr/>
            <p:nvPr/>
          </p:nvSpPr>
          <p:spPr>
            <a:xfrm flipV="1">
              <a:off x="5925960" y="367524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V="1">
              <a:off x="7894800" y="367524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925960" y="4033800"/>
              <a:ext cx="196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7912080" y="513360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5943600" y="5133600"/>
              <a:ext cx="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5943600" y="4299120"/>
              <a:ext cx="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V="1">
              <a:off x="7913520" y="4299120"/>
              <a:ext cx="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943600" y="4299120"/>
              <a:ext cx="196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V="1">
              <a:off x="6929280" y="4026960"/>
              <a:ext cx="0" cy="27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"/>
          <p:cNvSpPr/>
          <p:nvPr/>
        </p:nvSpPr>
        <p:spPr>
          <a:xfrm>
            <a:off x="0" y="3254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 СОБСТВЕННОГО КАПИТ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14280" y="977760"/>
            <a:ext cx="8126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АНАЛИЗ ДИНАМИКИ И СТРУКТУРЫ СОБСТВЕННОГО КАПИТА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АНАЛИЗ ТЕМПОВ РОСТА СОБСТВЕННОГО КАПИТА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64320" y="1749600"/>
            <a:ext cx="841032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НТАБЕЛЬНОСТЬ                                         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ЧИСТАЯ ПРИБЫЛ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ОТА    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)         =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ВЫРУЧ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ОРАЧИВАЕМОСТЬ                                                              ВЫРУЧ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ПИТАЛА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Коб)         =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СРЕДНЕГОДОВАЯ СУММА КАПИТА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УЛЬТИПЛИКАТОР                                                 СРЕДНЕГОДОВАЯ СУММА АКТИВОВ БАЛАНС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ПИТАЛА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МК)          =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СРЕДНЕГОДОВАЯ СУММА СОБСТВЕННОГО КАПИТАЛ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П  ПРИРОСТА СОБ-                                          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ЧП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K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ВЕННОГО КАПИТАЛА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Т СК)        =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     В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СК    Ч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990960" y="2712960"/>
            <a:ext cx="276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990960" y="3365640"/>
            <a:ext cx="467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2793960" y="4061880"/>
            <a:ext cx="0" cy="2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151520" y="3914640"/>
            <a:ext cx="34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4692600" y="386388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097240" y="384660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626080" y="384660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1680" y="3871800"/>
            <a:ext cx="23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б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к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69280" y="4624560"/>
            <a:ext cx="49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РАСЧЁТ КОЭФФИЦИЕНТА САМОФИНАНСИР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235080" y="5164200"/>
            <a:ext cx="87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УММА САМОФИНАНСИРУЕМОГО ДОХОДА (КАПИТАЛИЗИРОВАННАЯ ПРИБЫЛЬ + АМОРТИЗАЦ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ЩАЯ СУММА ВНУТРЕННИХ И ВНЕШНИХ ИСТОЧНИКОВ ФИНАНСОВЫХ ДОХОДО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98440" y="5440320"/>
            <a:ext cx="863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"/>
          <p:cNvSpPr/>
          <p:nvPr/>
        </p:nvSpPr>
        <p:spPr>
          <a:xfrm>
            <a:off x="34920" y="325440"/>
            <a:ext cx="91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 ЗАЁМНОГО КАПИТ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297000" y="873000"/>
            <a:ext cx="812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АНАЛИЗ   ДИНАМИКИ И СТРУКТУРЫ ЗАЁМНОГО КАПИ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НАЛИЗ  СОСТАВА И ВЕЛИЧИНЫ КРЕДИТОРСКОЙ ЗАДОЛЖЕН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1297080" y="159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317520" y="1514520"/>
            <a:ext cx="5382000" cy="459000"/>
            <a:chOff x="317520" y="1514520"/>
            <a:chExt cx="5382000" cy="459000"/>
          </a:xfrm>
        </p:grpSpPr>
        <p:sp>
          <p:nvSpPr>
            <p:cNvPr id="1099" name=""/>
            <p:cNvSpPr/>
            <p:nvPr/>
          </p:nvSpPr>
          <p:spPr>
            <a:xfrm>
              <a:off x="667800" y="1514520"/>
              <a:ext cx="5031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УММА ДЕБИТОРСКОЙ ЗАДОЛЖЕННОСТИ НА ОТЧЁТНУЮ ДАТУ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УММА КРЕДИТОРСКОЙ ЗАДОЛЖЕННОСТИ НА ОТЧЁТНУЮ ДАТУ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79400" y="1727280"/>
              <a:ext cx="478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17520" y="1636560"/>
              <a:ext cx="40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 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299880" y="2097000"/>
            <a:ext cx="6965280" cy="641520"/>
            <a:chOff x="299880" y="2097000"/>
            <a:chExt cx="6965280" cy="641520"/>
          </a:xfrm>
        </p:grpSpPr>
        <p:sp>
          <p:nvSpPr>
            <p:cNvPr id="1103" name=""/>
            <p:cNvSpPr/>
            <p:nvPr/>
          </p:nvSpPr>
          <p:spPr>
            <a:xfrm>
              <a:off x="913680" y="2097000"/>
              <a:ext cx="6351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РЕДНИЕ ОСТАТКИ КРЕДИТОРСКОЙ                             ДН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ЗАДОЛЖЕННОСТИ                               ОТЧЁТНОГО ПЕРИОДА                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УММА ПОГАШЕННОЙ КРЕДИТОРСКОЙ ЗАДОЛЖЕННОСТИ ЗА ОТЧЁТНЫЙ ПЕРИОД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955440" y="2505240"/>
              <a:ext cx="622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299880" y="241632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П к.з. 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741480" y="21495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52560" y="2897280"/>
            <a:ext cx="91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ЦЕНКА СТОИМОСТИ КАПИТ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1960" y="3398760"/>
            <a:ext cx="827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СТОИМОСТЬ КАПИТАЛ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ЭТО  ЦЕНА, КОТОРУЮ ПРЕДПРИЯТИЕ ПЛАТИТ ЗА  ПРИВЛЕЧЕНИЕ КАПИТАЛА ИЗ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РАЗНЫХ ИСТОЧНИК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97000" y="44672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95200" y="44416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337320" y="3933720"/>
            <a:ext cx="6760080" cy="489600"/>
            <a:chOff x="337320" y="3933720"/>
            <a:chExt cx="6760080" cy="489600"/>
          </a:xfrm>
        </p:grpSpPr>
        <p:sp>
          <p:nvSpPr>
            <p:cNvPr id="1112" name=""/>
            <p:cNvSpPr/>
            <p:nvPr/>
          </p:nvSpPr>
          <p:spPr>
            <a:xfrm>
              <a:off x="844200" y="3933720"/>
              <a:ext cx="568548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УММА ЧИСТОЙ ПРИБЫЛИ, ИЗЪЯТАЯ СОБСТВЕННИКАМИ ПРЕДПРИ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РЕДНЯЯ СУММА СОБСТВЕННОГО КАПИТАЛА В ОТЧЁТНОМ ПЕРИОД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933480" y="4192560"/>
              <a:ext cx="556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37320" y="4081320"/>
              <a:ext cx="55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Цск 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502320" y="401940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6" name=""/>
          <p:cNvGrpSpPr/>
          <p:nvPr/>
        </p:nvGrpSpPr>
        <p:grpSpPr>
          <a:xfrm>
            <a:off x="339840" y="4446720"/>
            <a:ext cx="4907880" cy="489600"/>
            <a:chOff x="339840" y="4446720"/>
            <a:chExt cx="4907880" cy="489600"/>
          </a:xfrm>
        </p:grpSpPr>
        <p:sp>
          <p:nvSpPr>
            <p:cNvPr id="1117" name=""/>
            <p:cNvSpPr/>
            <p:nvPr/>
          </p:nvSpPr>
          <p:spPr>
            <a:xfrm>
              <a:off x="849960" y="4446720"/>
              <a:ext cx="439776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УММА НАЧИСЛЕННЫХ ПРОЦЕНТОВ ЗА КРЕД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РЕДСТВА, МОБИЛИЗОВАННЫЕ С ПОМОЩЬЮ КРЕДИТ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987480" y="4703760"/>
              <a:ext cx="411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39840" y="459432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Цкр 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0" name=""/>
          <p:cNvGrpSpPr/>
          <p:nvPr/>
        </p:nvGrpSpPr>
        <p:grpSpPr>
          <a:xfrm>
            <a:off x="306360" y="4962600"/>
            <a:ext cx="2367000" cy="520200"/>
            <a:chOff x="306360" y="4962600"/>
            <a:chExt cx="2367000" cy="520200"/>
          </a:xfrm>
        </p:grpSpPr>
        <p:sp>
          <p:nvSpPr>
            <p:cNvPr id="1121" name=""/>
            <p:cNvSpPr/>
            <p:nvPr/>
          </p:nvSpPr>
          <p:spPr>
            <a:xfrm>
              <a:off x="818280" y="4962600"/>
              <a:ext cx="175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(Сл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НА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1 - Кн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 – 3 фл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024200" y="5237280"/>
              <a:ext cx="164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06360" y="5110200"/>
              <a:ext cx="58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Цфл 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4" name=""/>
          <p:cNvGrpSpPr/>
          <p:nvPr/>
        </p:nvGrpSpPr>
        <p:grpSpPr>
          <a:xfrm>
            <a:off x="325440" y="5470560"/>
            <a:ext cx="7670880" cy="489600"/>
            <a:chOff x="325440" y="5470560"/>
            <a:chExt cx="7670880" cy="489600"/>
          </a:xfrm>
        </p:grpSpPr>
        <p:sp>
          <p:nvSpPr>
            <p:cNvPr id="1125" name=""/>
            <p:cNvSpPr/>
            <p:nvPr/>
          </p:nvSpPr>
          <p:spPr>
            <a:xfrm>
              <a:off x="835200" y="5470560"/>
              <a:ext cx="6304320" cy="48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УММА НАЧИСЛЕННЫХ ПРОЦЕНТОВ ПО ОБЛИГАЦИЯМ В ОТЧЁТНОМ ПЕРИОД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РЕДНЯЯ СУММА ОБЛИГАЦИОННОГО ЗАЙМА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167120" y="5727960"/>
              <a:ext cx="590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25440" y="5618520"/>
              <a:ext cx="74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Цобл.з 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099560" y="5569200"/>
              <a:ext cx="896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1 - Кн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326880" y="5964120"/>
            <a:ext cx="4787280" cy="534240"/>
            <a:chOff x="326880" y="5964120"/>
            <a:chExt cx="4787280" cy="534240"/>
          </a:xfrm>
        </p:grpSpPr>
        <p:sp>
          <p:nvSpPr>
            <p:cNvPr id="1130" name=""/>
            <p:cNvSpPr/>
            <p:nvPr/>
          </p:nvSpPr>
          <p:spPr>
            <a:xfrm>
              <a:off x="1008000" y="6252840"/>
              <a:ext cx="142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1" name=""/>
            <p:cNvGrpSpPr/>
            <p:nvPr/>
          </p:nvGrpSpPr>
          <p:grpSpPr>
            <a:xfrm>
              <a:off x="326880" y="5964120"/>
              <a:ext cx="4787280" cy="534240"/>
              <a:chOff x="326880" y="5964120"/>
              <a:chExt cx="4787280" cy="534240"/>
            </a:xfrm>
          </p:grpSpPr>
          <p:sp>
            <p:nvSpPr>
              <p:cNvPr id="1132" name=""/>
              <p:cNvSpPr/>
              <p:nvPr/>
            </p:nvSpPr>
            <p:spPr>
              <a:xfrm>
                <a:off x="839160" y="5978160"/>
                <a:ext cx="2058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ЦН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×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360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×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(1 - Кн)        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Д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326880" y="6125760"/>
                <a:ext cx="669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Цт.кр 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390760" y="6157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5" name=""/>
              <p:cNvGrpSpPr/>
              <p:nvPr/>
            </p:nvGrpSpPr>
            <p:grpSpPr>
              <a:xfrm>
                <a:off x="2456640" y="5964120"/>
                <a:ext cx="2387520" cy="520200"/>
                <a:chOff x="2456640" y="5964120"/>
                <a:chExt cx="2387520" cy="52020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2456640" y="5964120"/>
                  <a:ext cx="23875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10 %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×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60 ×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(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 – 0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,24)        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</a:t>
                  </a:r>
                  <a:r>
                    <a:rPr b="0" lang="ru-RU" sz="1400" spc="-1" strike="noStrike">
                      <a:solidFill>
                        <a:srgbClr val="000000"/>
                      </a:solidFill>
                      <a:latin typeface="Times New Roman"/>
                    </a:rPr>
                    <a:t>9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flipH="1">
                  <a:off x="2640960" y="6259320"/>
                  <a:ext cx="1721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8" name=""/>
              <p:cNvSpPr/>
              <p:nvPr/>
            </p:nvSpPr>
            <p:spPr>
              <a:xfrm>
                <a:off x="4378680" y="6140160"/>
                <a:ext cx="735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= 30,4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%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9" name=""/>
          <p:cNvGrpSpPr/>
          <p:nvPr/>
        </p:nvGrpSpPr>
        <p:grpSpPr>
          <a:xfrm>
            <a:off x="5446440" y="6130800"/>
            <a:ext cx="1237320" cy="307080"/>
            <a:chOff x="5446440" y="6130800"/>
            <a:chExt cx="1237320" cy="307080"/>
          </a:xfrm>
        </p:grpSpPr>
        <p:sp>
          <p:nvSpPr>
            <p:cNvPr id="1140" name=""/>
            <p:cNvSpPr/>
            <p:nvPr/>
          </p:nvSpPr>
          <p:spPr>
            <a:xfrm>
              <a:off x="5446440" y="6130800"/>
              <a:ext cx="123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Ц = </a:t>
              </a:r>
              <a:r>
                <a:rPr b="0" lang="el-GR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Σ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д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 ×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Ц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5519880" y="61898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"/>
          <p:cNvSpPr/>
          <p:nvPr/>
        </p:nvSpPr>
        <p:spPr>
          <a:xfrm>
            <a:off x="828720" y="125280"/>
            <a:ext cx="699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ма  9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АЛИЗ РАЗМЕЩЕНИЯ КАПИТ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80880" y="15238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ДАЧИ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80880" y="274320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ЕКТЫ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80880" y="40384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И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4572000" y="1066680"/>
            <a:ext cx="41911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4572000" y="2743200"/>
            <a:ext cx="4191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ОРОТНЫЕ И ВНЕОБОРОТ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КТИВЫ ОРГАНИ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4572000" y="5181480"/>
            <a:ext cx="41911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80880" y="5334120"/>
            <a:ext cx="38102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АПЫ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572000" y="3809880"/>
            <a:ext cx="41911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498920" y="5138640"/>
            <a:ext cx="461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АНАЛИЗ СОСТАВА, СТРУКТУРЫ И ДИНА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СНОВНОГО КАПИ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АНАЛИЗ СОСТАВА, СТРУКТУРЫ И ДИНАМИ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ОРОТНОГО КАПИТАЛ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АНАЛИЗ СОСТОЯНИЯ ЗАП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АНАЛИЗ СОСТОЯНИЯ ДЕБИТОРСК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ДОЛЖ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654440" y="3925800"/>
            <a:ext cx="447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БУХГАЛТЕРСКИЙ БАЛАНС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ОТЧЕТ О ПРИБЫЛЯХ И УБЫТКАХ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ОТЧЕТ О ДВИЖЕНИИ ДЕНЕЖНЫХ СРЕДСТ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572000" y="1201680"/>
            <a:ext cx="4316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ОПРЕДЕЛИТЬ ОПТИМАЛЬНУЮ СТРУКТУРУ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КТИВОВОРГАНИЗАЦИ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ОЦЕНИТЬ ТЕМП ПРИРОСТА АКТИВ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"/>
          <p:cNvSpPr/>
          <p:nvPr/>
        </p:nvSpPr>
        <p:spPr>
          <a:xfrm>
            <a:off x="0" y="3254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 СТРУКТУРЫ АКТИВ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314280" y="819000"/>
            <a:ext cx="8126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АНАЛИЗ СОСТАВА, СТРУКТУРЫ И ДИНАМИКИ ОСНОВНОГО КАПИТА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АНАЛИЗ СОСТАВА, СТРУКТУРЫ И ДИНАМИКИ ОБОРОТНОГО КАПИТАЛ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АНАЛИЗ СОСТОЯНИЯ ЗАПАС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31560" y="1619280"/>
            <a:ext cx="827496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 ОБОРАЧИВАЕМОСТИ                                              ПРОИЗВОДСТВЕННЫХ ЗАП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ЕННЫХ ЗАПАСОВ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з)     =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СУММА ИЗРАСХОД. ЗАПАСОВ ЗА ОТЧЁТНЫЙ ПЕРИ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ЕЕ САЛЬДО ПО СЧЕТ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ОЛЖИТЕЛЬНОСТЬ НАХОЖДЕНИЯ                                      «ГОТОВАЯ ПРОДУКЦИЯ»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А В ГОТОВОЙ ПРОДУКЦИИ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гп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=         СУММА КРЕДИТОВОГО ОБОРОТА  ПО СЧЁТУ «Г.  П. 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ИЕ ОСТА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ОЛЖИТ.  НАХОЖДЕНИЯ КАПИТАЛА                        НЕЗАВЕРШЁННОГО ПР - 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СТАДИИ НЕЗАВЕРШЕННОГО ПР-ВА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 н.п.)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= СЕБЕСТ-ТЬ ВЫПУЩЕН. ПРОДУКЦИИ В ОТЧЁТ.  ПЕРИО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359600" y="1390680"/>
            <a:ext cx="244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ЕДНЕЕ САЛЬДО ПО СЧЕТ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768360" y="147960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НИ ПЕРИ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359240" y="1863720"/>
            <a:ext cx="409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613560" y="2395440"/>
            <a:ext cx="209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НИ  ОТЧЁТ. ПЕРИ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359240" y="2674800"/>
            <a:ext cx="437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422400" y="3132000"/>
            <a:ext cx="2026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ДНИ  ОТЧЁТ. ПЕРИ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359240" y="3481560"/>
            <a:ext cx="437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309600" y="4002120"/>
            <a:ext cx="8399520" cy="14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. АНАЛИЗ СОСТОЯНИЯ ДЕБИТОРСКОЙ  ЗАДОЛЖЕН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ИЕ ОСТА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 ОБОРАЧИВАЕМОСТИ                                               ДЕБИТОРСКОЙ ЗАДОЛЖ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БИТОРСКОЙ ЗАДОЛЖЕННОСТИ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д.з.)   =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ММА ПОГАШЕННОЙ ДЕБИТОРСКОЙ ЗАДОЛЖ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 ОТЧЁТНЫЙ ПЕРИ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943320" y="4379760"/>
            <a:ext cx="195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НИ ОТЧЁТ. ПЕРИ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343400" y="4800600"/>
            <a:ext cx="439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333720" y="5191200"/>
            <a:ext cx="815400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. АНАЛИЗ СОСТОЯНИЯ ДЕНЕЖНОЙ  НАЛИЧНОСТ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НИЕ ОСТА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  ОБОРАЧИВАЕМОСТИ                                             СВОБОДНОЙ ДЕНЕЖНОЙ НАЛИЧ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Х СРЕДСТВ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д.с.)  =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ЁМ ДЕНЕЖНОГО ОБОРОТА (СУММА КРЕДИТОВ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РОТОВ ПО СЧЕТАМ ДЕНЕЖНЫХ СРЕДСТ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310880" y="552456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НИ ПЕРИ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4343400" y="5978520"/>
            <a:ext cx="439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570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ЛАССИФИКАЦИЯ ВИДОВ ЭКОНОМИЧЕСКОГО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44520" y="1001880"/>
            <a:ext cx="1825560" cy="17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 ОТРАСЛЕВО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ИЗНАК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ТРАСЛЕВ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ЕЖОТРАСЛЕВ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378160" y="2994120"/>
            <a:ext cx="1909800" cy="3512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 ОБЪЕКТА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ЕХНИКО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КОНОМИЧЕСК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ИНАНСОВ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БУХГАЛТЕРСК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ЦИАЛЬНО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КОНОМИЧЕСК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КОНОМИКО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ТАТИСТИЧЕСК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АРКЕТИНГОВ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08640" y="1001880"/>
            <a:ext cx="2581200" cy="17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 ПРОСТРАНСТВЕННО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ИЗНАК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НУТРИХОЗЯЙСТВЕН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ЕЖХОЗЯЙСТВЕН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91440" y="1001880"/>
            <a:ext cx="1589040" cy="17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 СУБЪЕКТА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НУТРЕН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НЕШ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040" y="3807000"/>
            <a:ext cx="1830600" cy="1949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 СОДЕРЖ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ОМПЛЕКС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ЕМАТИЧЕ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57280" y="1001880"/>
            <a:ext cx="1911600" cy="170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 ПРИЗНАК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ВРЕМЕН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ЕДВАРИТЕЛЬ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ЛЕДУЮЩ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11520" y="2994120"/>
            <a:ext cx="2783160" cy="34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 МЕТОД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ОВЕД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РАВНИТЕ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АКТОР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ИАГНОСТИЧЕСК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АРЖИНАЛЬНЫ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КОНОМИКО-МАТЕМАТИЧЕСК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КОНОМИКО-СТАТИСТИЧЕСК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ФУНКЦИОНАЛЬНО-СТОИМОСТ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ТОХАСТИЧЕСК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18240" y="3807000"/>
            <a:ext cx="1382760" cy="199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 ОХВАТ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БЪЕКТ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ПЛОШН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ЫБОРОЧ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258920" y="2890440"/>
            <a:ext cx="7074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239840" y="738360"/>
            <a:ext cx="705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28861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219320" y="73188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76640" y="711360"/>
            <a:ext cx="0" cy="217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0000" y="711360"/>
            <a:ext cx="0" cy="21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213680" y="731880"/>
            <a:ext cx="0" cy="21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31120" y="73188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31120" y="288612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951520" y="711360"/>
            <a:ext cx="0" cy="28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951520" y="2865600"/>
            <a:ext cx="0" cy="14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90760" y="73188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90760" y="2886120"/>
            <a:ext cx="0" cy="10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"/>
          <p:cNvSpPr/>
          <p:nvPr/>
        </p:nvSpPr>
        <p:spPr>
          <a:xfrm>
            <a:off x="244440" y="108000"/>
            <a:ext cx="889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АЛИЗ ЭФФЕКТИВНОСТИ ИСПОЛЬЗОВАНИЯ КАПИТ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"/>
          <p:cNvSpPr/>
          <p:nvPr/>
        </p:nvSpPr>
        <p:spPr>
          <a:xfrm>
            <a:off x="775440" y="125280"/>
            <a:ext cx="709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ма 10.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АЛИЗ  ДЕНЕЖНЫХ  ПОТО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80880" y="15238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ДАЧИ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380880" y="274320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ЕКТЫ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80880" y="40384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И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572000" y="1066680"/>
            <a:ext cx="41911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4572000" y="2743200"/>
            <a:ext cx="4191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ВИЖЕНИЕ ДЕНЕЖНЫХ СРЕДСТ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4572000" y="4987800"/>
            <a:ext cx="4191120" cy="14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80880" y="5334120"/>
            <a:ext cx="38102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АПЫ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552920" y="3809880"/>
            <a:ext cx="4210200" cy="102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519440" y="3868560"/>
            <a:ext cx="4354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БУХГАЛТЕРСКИЙ БАЛАН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ОТЧЕТ «О ПРИБЫЛЯХ И УБЫТКАХ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ОТЧЕТ «О ДВИЖЕНИИ ДЕНЕЖНЫХ СРЕДСТВ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518000" y="5035680"/>
            <a:ext cx="4121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ГОРИЗОНТАЛЬНЫЙ И ВЕРТИКАЛЬНЫЙ АНАЛИЗ ДЕНЕЖНОГО ПОТОК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ФАКТОРНЫЙ АНАЛИЗДЕНЕЖНОГ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ТОК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АНАЛИЗ ЭФФЕКТИВНОСТИ И ИНТЕНСИВНОСТИ ДЕНЕЖНОГО ПОТО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635360" y="1104840"/>
            <a:ext cx="4181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ОПРЕДЕЛИТЬ ОБЕСПЕЧЕННОСТЬ ОРГАНИЗА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ИИ ДЕНЕЖНЫМ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РЕДСТВ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ОЦЕНИТЬ ЭФФЕКТИВНОСТЬ И ИНТЕНСИВНОСТЬ ДЕНЕЖНОГО ПОТО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4164120" y="193356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4183200" y="319896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202280" y="4424400"/>
            <a:ext cx="349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221000" y="5727600"/>
            <a:ext cx="35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0" y="233280"/>
            <a:ext cx="914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АКТОРЫ  ИЗМЕНЕНИЯ ЧДП ОТ ОПЕРАЦИОННОЙ ДЕЯТЕЛЬНОСТ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357840" y="735120"/>
            <a:ext cx="8786160" cy="5784840"/>
            <a:chOff x="357840" y="735120"/>
            <a:chExt cx="8786160" cy="5784840"/>
          </a:xfrm>
        </p:grpSpPr>
        <p:grpSp>
          <p:nvGrpSpPr>
            <p:cNvPr id="1189" name=""/>
            <p:cNvGrpSpPr/>
            <p:nvPr/>
          </p:nvGrpSpPr>
          <p:grpSpPr>
            <a:xfrm>
              <a:off x="357840" y="735120"/>
              <a:ext cx="8442720" cy="5784840"/>
              <a:chOff x="357840" y="735120"/>
              <a:chExt cx="8442720" cy="5784840"/>
            </a:xfrm>
          </p:grpSpPr>
          <p:sp>
            <p:nvSpPr>
              <p:cNvPr id="1190" name=""/>
              <p:cNvSpPr/>
              <p:nvPr/>
            </p:nvSpPr>
            <p:spPr>
              <a:xfrm>
                <a:off x="447840" y="735120"/>
                <a:ext cx="8265960" cy="5784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1" name=""/>
              <p:cNvGrpSpPr/>
              <p:nvPr/>
            </p:nvGrpSpPr>
            <p:grpSpPr>
              <a:xfrm>
                <a:off x="357840" y="743040"/>
                <a:ext cx="8442720" cy="5769000"/>
                <a:chOff x="357840" y="743040"/>
                <a:chExt cx="8442720" cy="5769000"/>
              </a:xfrm>
            </p:grpSpPr>
            <p:sp>
              <p:nvSpPr>
                <p:cNvPr id="1192" name=""/>
                <p:cNvSpPr/>
                <p:nvPr/>
              </p:nvSpPr>
              <p:spPr>
                <a:xfrm>
                  <a:off x="447840" y="1293840"/>
                  <a:ext cx="8248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357840" y="771480"/>
                  <a:ext cx="196092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ФАКТОРЫ ПЕРВОГО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         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ПОРЯДКА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2670840" y="771480"/>
                  <a:ext cx="191664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ФАКТОРЫ ВТОРОГО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        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ПОРЯДКА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5768280" y="752400"/>
                  <a:ext cx="196848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ФАКТОРЫ ТРЕТЬЕГО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ПОРЯДКА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2276640" y="746280"/>
                  <a:ext cx="0" cy="576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4946760" y="743040"/>
                  <a:ext cx="0" cy="5765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393120" y="1284120"/>
                  <a:ext cx="19044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 ЧИСТАЯ ПРИБЫЛЬ ОТ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ОПЕРАЦИОННОЙ  ДЕЯ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ТЕЛЬНОСТ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2221200" y="1300320"/>
                  <a:ext cx="1636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1 ОБЪЁМ ПРОДАЖ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4908960" y="1281240"/>
                  <a:ext cx="38916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1.1 ОБЪЁМ ПРОИЗВОЖСТВ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1.2 ИЗМЕНЕНИЕ ОСТАТКОВ НЕРЕАЛИЗОВАННОЙ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ДУКЦ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276640" y="1922400"/>
                  <a:ext cx="642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2203920" y="1935000"/>
                  <a:ext cx="198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2 СТРУКТУРА ПРОДАЖ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4910400" y="1916280"/>
                  <a:ext cx="3801600" cy="100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2.1. КОНЪЮНКТУРА РЫНК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2.2 КОНКУРЕНТОСПОСОБНОСТЬ ПРОДУКЦИИ 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ЕЁ ЖИЗНЕННЫЙ ЦИКЛ НА РЫНКЕ ТОВАРОВ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2.3 РЕНТАБЕЛЬНОСТЬ ОТДЕЛЬНЫХ ВИДОВ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ДУКЦ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276640" y="2892600"/>
                  <a:ext cx="642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221560" y="2867040"/>
                  <a:ext cx="27655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3 УРОВЕНЬ ОТПУСКНЫХ ЦЕН НА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ДУКЦИЮ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4927320" y="2924280"/>
                  <a:ext cx="228240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3.1КАЧЕСТВО ПРОДУКЦ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3.2 РЫНКИ СБЫТ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3.3 СРОКИ РЕАЛИЗАЦ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3.4 ИНФЛЯЦ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259000" y="3695760"/>
                  <a:ext cx="642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2225520" y="3670200"/>
                  <a:ext cx="23706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4 УДЕЛЬНЫЕ ПЕРЕМЕННЫЕ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ЗАТРАТЫ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4906080" y="3689280"/>
                  <a:ext cx="36738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4.1 УРОВЕНЬ РЕСУРСОЁМКОСТИ ПРОДУКЦ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4.2 ЦЕНЫ НА РЕСУРСЫ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259000" y="4124160"/>
                  <a:ext cx="6421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2219400" y="4118040"/>
                  <a:ext cx="21650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5 СУММА ПОСТОЯННЫХ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РАСХОДОВ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4922280" y="4121280"/>
                  <a:ext cx="364788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5.1КОЛИЧЕСТВО ПОТРЕБЛЁННЫХ РЕСУРСОВ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УСЛУГ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.5.2 ЦЕНЫ НА РЕСУРСЫ (УСЛУГИ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447840" y="4740120"/>
                  <a:ext cx="8213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14" name=""/>
            <p:cNvSpPr/>
            <p:nvPr/>
          </p:nvSpPr>
          <p:spPr>
            <a:xfrm>
              <a:off x="412920" y="4751280"/>
              <a:ext cx="1849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. СУММА НАЧИСЛЕН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НОЙ АМОРТИЗАЦИ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220120" y="4753080"/>
              <a:ext cx="257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.1 СУММА АМОРТИЗИРУЕМЫХ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АКТИВО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29120" y="4749840"/>
              <a:ext cx="4214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.1.1 ИЗМЕНЕНИЕ КОЛИЧЕСТВА АМОРТИЗИРУЕ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МЫХ АКТИВО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.1.2 ИЗМЕНЕНИЕ СТОИМОСТИ АМОРТИЗИРУЕ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МЫХ АКТИВО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238480" y="5557680"/>
              <a:ext cx="2724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.2 СРЕДНЯЯ  НОРМА АМОРТИЗА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ЦИИ АКТИВО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76640" y="5549760"/>
              <a:ext cx="64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889520" y="5535720"/>
              <a:ext cx="3566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.2.1ИЗМЕНЕНИЕ СТРУКТУРЫ АМОРТИЗИРУЕ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МЫХ АКТИВО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.2.2 ИЗМЕНЕНИЕ НОРМ АМОРТИЗАЦИИ ПО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ТДЕЛЬНЫМ ВИДАМ АКТИВО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0" name=""/>
          <p:cNvGrpSpPr/>
          <p:nvPr/>
        </p:nvGrpSpPr>
        <p:grpSpPr>
          <a:xfrm>
            <a:off x="357840" y="398520"/>
            <a:ext cx="8355960" cy="5327640"/>
            <a:chOff x="357840" y="398520"/>
            <a:chExt cx="8355960" cy="5327640"/>
          </a:xfrm>
        </p:grpSpPr>
        <p:sp>
          <p:nvSpPr>
            <p:cNvPr id="1221" name=""/>
            <p:cNvSpPr/>
            <p:nvPr/>
          </p:nvSpPr>
          <p:spPr>
            <a:xfrm>
              <a:off x="447840" y="398520"/>
              <a:ext cx="8265960" cy="531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2" name=""/>
            <p:cNvGrpSpPr/>
            <p:nvPr/>
          </p:nvGrpSpPr>
          <p:grpSpPr>
            <a:xfrm>
              <a:off x="357840" y="406440"/>
              <a:ext cx="8341560" cy="5319720"/>
              <a:chOff x="357840" y="406440"/>
              <a:chExt cx="8341560" cy="5319720"/>
            </a:xfrm>
          </p:grpSpPr>
          <p:sp>
            <p:nvSpPr>
              <p:cNvPr id="1223" name=""/>
              <p:cNvSpPr/>
              <p:nvPr/>
            </p:nvSpPr>
            <p:spPr>
              <a:xfrm>
                <a:off x="447840" y="988920"/>
                <a:ext cx="824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57840" y="436680"/>
                <a:ext cx="1960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ФАКТОРЫ ПЕРВОГО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ПОРЯД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2670840" y="436680"/>
                <a:ext cx="19166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ФАКТОРЫ ВТОРОГО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ПОРЯД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768280" y="415800"/>
                <a:ext cx="1968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ФАКТОРЫ ТРЕТЬЕГО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ПОРЯД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2276640" y="409680"/>
                <a:ext cx="0" cy="529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946760" y="406440"/>
                <a:ext cx="0" cy="531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393120" y="979560"/>
                <a:ext cx="19152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. ИЗМЕНЕНИЕ СУММ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  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ЗАПАС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221920" y="995400"/>
                <a:ext cx="27777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.1 ИЗМЕНЕНИЕ ОБЪЁМА ЗАПАС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ТОВАРНО-МАТЕРИАЛЬНЫХ ЦЕН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НОСТЕ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907520" y="976320"/>
                <a:ext cx="34009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.1.1ИЗМЕНЕНИЕ ОБЪЁМА ПРОИЗВОДСТВ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.1.2 ОБРАЗОВАНИЕ СВЕРХНОРМАТИВНЫХ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ЗАПАС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.1.3 НАЛИЧИЕ НЕХОДОВЫХ ЗАЛЕЖАЛЫХ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ЗАПАС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276640" y="1971720"/>
                <a:ext cx="64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2243160" y="1949400"/>
                <a:ext cx="2379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.2 ИЗМЕНЕНИЕ СТОИМОСТИ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ЗАПАС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46040" y="2755800"/>
                <a:ext cx="82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2259000" y="3233880"/>
                <a:ext cx="642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2224080" y="3244680"/>
                <a:ext cx="28126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.2 ИЗМЕНЕНИЕ СКОРОСТИ ИНКАС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САЦИИ ДЕБИТОРСКОЙ ЗАДОЛЖЕН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НОСТИ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4906440" y="3227400"/>
                <a:ext cx="3760560" cy="118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.2.1 ИЗМЕНЕНИЕ ПЕРИОДА ПРЕДОСТАВЛ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КРЕДИТА ПОКУПАТЕЛЯМ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.2.2 ИЗМЕНЕНИЕ ПЕРИОДА ПРОСРОЧКИ ПЛАТЕ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ЖЕЙ, ОБУСЛОВЛЕННОЙ СОСТОЯНИЕМ ПЛАТЁ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ЖЕСПОСОБНОСТИ ПОКУПАТЕЛЕЙ И ПРЕТЕН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ЗИОННОЙ РАБОТ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49280" y="4375080"/>
                <a:ext cx="825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393120" y="2746440"/>
                <a:ext cx="1915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. ИЗМЕНЕНИЕ СУММ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ДЕБИТОРСКО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ЗАДОЛЖЕННОСТИ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2276640" y="4915080"/>
                <a:ext cx="641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4908600" y="1954080"/>
                <a:ext cx="3620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.2.1 ИНФЛЯЦИОННЫЙ РОСТ ЦЕН НА СЫРЬЁ И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МАТЕРИАЛ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.2.2 РЫНКИ СЫРЬЯ И МАТЕРИАЛ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.2.3 РАСХОДЫ ПО ДОСТАВКЕ ГРУЗОВ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201400" y="2736720"/>
                <a:ext cx="2904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.1 ИЗМЕНЕНИЕ СУММЫ ОТГРУЖЕН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НОЙ ПРОДУКЦИИ ПОКУПАТЕЛЯМ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4926960" y="2738520"/>
                <a:ext cx="3234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.1.1 ОБЪЁМ ОТГРУЖЕННОЙ ПРОДУКЦИИ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4.1.2 ОТПУСКНЫЕ ЦЕН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394920" y="4361040"/>
                <a:ext cx="1915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. ИЗМЕНЕНИЕ СУММ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КРЕДИТОРСКО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ЗАДОЛЖЕННОСТИ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2203920" y="4378320"/>
                <a:ext cx="2759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.1 ИЗМЕНЕНИЕ СУММЫ ПРИОБРЕ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ТЁННЫХ ТОВАРОВ И УСЛУГ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908600" y="4378320"/>
                <a:ext cx="3233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.1.1 ОБЪЁМ ЗАКУПОК ТМЦ И УСЛУГ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.1.2 ЦЕНЫ НА РЫНКЕ ТОВАРОВ И УСЛУГ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2220120" y="4905360"/>
                <a:ext cx="26967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.2 ИЗМЕНЕНИЕ СКОРОСТИ ПОГА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ШЕНИЯ КРЕДИТОРСКОЙ ЗАДОЛ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ЖЕННОСТИ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908600" y="4902120"/>
                <a:ext cx="37148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.2.1 ИЗМЕНЕНИЕ ПЕРИОДА ПРЕДОСТАВЛЕНИЯ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КРЕДИТА ПОСТАВЩИКАМ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5.2.2 ИЗМЕНЕНИЕ ПЕРИОДА ПРОСРОЧКИ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ПЛАТЕЖЕЙ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"/>
          <p:cNvSpPr/>
          <p:nvPr/>
        </p:nvSpPr>
        <p:spPr>
          <a:xfrm>
            <a:off x="0" y="233280"/>
            <a:ext cx="914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АКТОРЫ  ИЗМЕНЕНИЯ ЧДП ОТ ИНВЕСТИЦИОННОЙ ДЕЯТЕ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637080" y="2816280"/>
            <a:ext cx="505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1" name=""/>
          <p:cNvGrpSpPr/>
          <p:nvPr/>
        </p:nvGrpSpPr>
        <p:grpSpPr>
          <a:xfrm>
            <a:off x="-26280" y="746280"/>
            <a:ext cx="8741520" cy="5418000"/>
            <a:chOff x="-26280" y="746280"/>
            <a:chExt cx="8741520" cy="5418000"/>
          </a:xfrm>
        </p:grpSpPr>
        <p:sp>
          <p:nvSpPr>
            <p:cNvPr id="1252" name=""/>
            <p:cNvSpPr/>
            <p:nvPr/>
          </p:nvSpPr>
          <p:spPr>
            <a:xfrm>
              <a:off x="450720" y="746280"/>
              <a:ext cx="8247240" cy="528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562680" y="790560"/>
              <a:ext cx="28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АКТОРЫ ПЕРВОГО ПОРЯД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893120" y="828720"/>
              <a:ext cx="28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ФАКТОРЫ ВТОРОГО ПОРЯДК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6560" y="1158840"/>
              <a:ext cx="82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638520" y="746280"/>
              <a:ext cx="0" cy="528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-26280" y="1170000"/>
              <a:ext cx="3932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ИЗМЕНЕНИЕ ВЫРУЧКИ ОТ РЕАЛИЗА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ЦИИ ОСНОВНЫХ СРЕДСТ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582720" y="1170000"/>
              <a:ext cx="47239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 ИЗМЕНЕНИЕ КОЛИЧЕСТВА РЕАЛИЗОВАННЫХ ОСНОВНЫ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РЕДСТВ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 ИЗМЕНЕНИЕ ЦЕН РЕАЛИЗАЦИИ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637080" y="1677960"/>
              <a:ext cx="505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5120" y="2014560"/>
              <a:ext cx="82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30560" y="2011320"/>
              <a:ext cx="2980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. ИЗМЕНЕНИЕ СУММЫ  ДОХОДОВ О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ФИНАНСОВЫХ ВЛОЖЕНИЙ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584160" y="2103480"/>
              <a:ext cx="495720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.1 ИЗМЕНЕНИЕ ОБЩЕЙ СУММЫ ФИНАНСОВЫХ ВЛОЖЕНИЙ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.2 ИЗМЕНЕНИЕ СТРУКТУРЫ  ФИНАНСОВЫХ ВЛОЖЕНИЙ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.3 ИЗМЕНЕНИЕ УРОВНЯ ДОХОДНОСТИ ОТДЕЛЬНЫХ ВИДОВ ФИ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НСОВЫХ ВЛОЖЕНИЙ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656160" y="2424240"/>
              <a:ext cx="505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637080" y="2816280"/>
              <a:ext cx="505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82760" y="3301920"/>
              <a:ext cx="82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32360" y="3297240"/>
              <a:ext cx="3259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. ИЗМЕНЕНИЕ СУММЫ ИНВЕСТИЦИЙ Н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РИОБРЕТЕНИЕ ОСНОВНЫХ СРЕДСТВ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3602520" y="3297240"/>
              <a:ext cx="4728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1 ИЗМЕНЕНИЕ КОЛИЧЕСТВА ПРИОБРЕТЁННЫХ ОСНОВНЫХ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РЕДСТВ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2 ИЗМЕНЕНИЕ СТОИМОСТИ ПРИОБРЕТЁННЫХ ОБЪЕКТОВ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82760" y="4122720"/>
              <a:ext cx="82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3654360" y="3787920"/>
              <a:ext cx="505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30920" y="4100400"/>
              <a:ext cx="3251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 ИЗМЕНЕНИЕ СУММЫ ИНВЕСТИЦИЙ В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ДОЛГОСРОЧНЫЕ ФИНАНСОВЫЕ АКТИВЫ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603600" y="4118040"/>
              <a:ext cx="4507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1 ИЗМЕНЕНИЕ КОЛИЧЕСТВА ПРИОБРЕТЁННЫХ ЦЕННЫХ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БУМАГ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2 ИЗМЕНЕНИЕ СТОИМОСТИ ЦЕННЫХ БУМАГ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654360" y="4608360"/>
              <a:ext cx="505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82760" y="4943520"/>
              <a:ext cx="823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15080" y="4941720"/>
              <a:ext cx="3259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. ИЗМЕНЕНИЕ СУММЫ ИНВЕСТИЦИЙ Н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КАПИТАЛЬНОЕ СТРОИТЕЛЬСТВ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602160" y="4975200"/>
              <a:ext cx="460476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5.1 КОЛИЧЕСТВО СТРОЯЩИХСЯ ОБЪЕКТОВ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5.2 ОБЪЁМ ВЫПОЛНЕННЫХ РАБОТ ПО КАЖДОМУ ОБЪЕКТУ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5.3 СМЕТНАЯ СТОИМОСТЬ ВЫПОЛНЕННЫХ РАБОТ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637080" y="5280120"/>
              <a:ext cx="505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654360" y="5653080"/>
              <a:ext cx="505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"/>
          <p:cNvSpPr/>
          <p:nvPr/>
        </p:nvSpPr>
        <p:spPr>
          <a:xfrm>
            <a:off x="0" y="233280"/>
            <a:ext cx="914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АКТОРЫ  ИЗМЕНЕНИЯ ЧДП ОТ ФИНАНСОВОЙ  ДЕЯТЕЛЬ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23800" y="797040"/>
            <a:ext cx="8134560" cy="424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06520" y="836640"/>
            <a:ext cx="869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АКТОРЫ ПЕРВОГО ПОРЯД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85640" y="1233360"/>
            <a:ext cx="813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9360" y="1355760"/>
            <a:ext cx="89391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ИЗМЕНЕНИЕ СУММЫ ДОЛГОСРОЧНЫХ КРЕДИТОВ И ЗАЙ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ИЗМЕНЕНИЕ СУММЫ КРАТКОСРОЧНЫХ КРЕДИТОВ И ЗАЙМ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ИЗМЕНЕНИЕ СУММЫ ЦЕЛЕВОГО ФИНАНСИРОВАНИЯ И ПОСТУПЛЕ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ИЗМЕНЕНИЕ СУММЫ ПОЛУЧЕННЫХ ДИВИДЕНДОВ И ПРОЦЕНТОВ ПО КРАТКОСРОЧНЫМ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ИНАНСОВЫМ ВЛОЖЕНИЯ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ИЗМЕНЕНИЕ ПОСТУПЛЕНИЙ ОТ ЭМИССИИ АК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ИЗМЕНЕНИЕ СУММЫ ВЫПЛАТ ПО ДОЛГОСРОЧНЫМ КРЕДИТАМ И ЗАЙМА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 ИЗМЕНЕНИЕ СУММЫ ВЫПЛАТ ПО КРАТКОСРОЧНЫМ КРЕДИТАМ И ЗАЙМА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 ИЗМЕНЕНИЕ СУММЫ ВЫПЛАТ АКЦИОНЕРА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114560" y="5535720"/>
            <a:ext cx="707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ДПобщ. = ЧДПоп.д. + ЧДПин.д. + ЧДПф.д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"/>
          <p:cNvSpPr/>
          <p:nvPr/>
        </p:nvSpPr>
        <p:spPr>
          <a:xfrm>
            <a:off x="571680" y="125280"/>
            <a:ext cx="7497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ма 11.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АЛИЗ ПЛАТЁЖЕСПОСОБНОСТИ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ИКВИД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380880" y="15238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ДАЧИ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80880" y="274320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ЕКТЫ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80880" y="40384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И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572000" y="1066680"/>
            <a:ext cx="41911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572000" y="2743200"/>
            <a:ext cx="4191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572000" y="5181480"/>
            <a:ext cx="419112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80880" y="5334120"/>
            <a:ext cx="38102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АПЫ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4572000" y="3809880"/>
            <a:ext cx="419112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614840" y="1512720"/>
            <a:ext cx="425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ЦЕНИТЬ ВОЗМОЖНОСТЬ ОРГАНИЗАЦИ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ВОЕВРЕМЕННО ПОГАШАТЬ ОБЯЗАТЕЛЬ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4597560" y="2811600"/>
            <a:ext cx="5516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СТРУКТУРА АКТИВА  БАЛАНС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СРАВНЕНИЕ СРЕДСТВ ПО АКТИВУ С ОБЯЗА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ЕЛЬСТВАМИ ПО ПАССИВУ БАЛАНС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5043600" y="4024440"/>
            <a:ext cx="321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УХГАЛТЕРСКИЙ БАЛАН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РГАНИ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614840" y="5386320"/>
            <a:ext cx="4827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АНАЛИЗ ЛИКВИДНОСТИ БАЛАНС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АНАЛИЗ ЛИКВИДНОСТИ ОРГАНИ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ОЦЕНКА ПЛАТЕЖЕСПОСОБНОСТИ ОРГАНИ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164120" y="193356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164120" y="323676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202280" y="4462560"/>
            <a:ext cx="35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202280" y="5784840"/>
            <a:ext cx="369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"/>
          <p:cNvSpPr/>
          <p:nvPr/>
        </p:nvSpPr>
        <p:spPr>
          <a:xfrm>
            <a:off x="0" y="3254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ЗАИМОСВЯЗЬ МЕЖДУ ПОКАЗАТЕЛЯМИ ЛИКВИДНОСТИ 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ЛАТЁЖЕСПОСОБ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74680" y="985680"/>
            <a:ext cx="886788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ТЕКУЩАЯ ПЛАТЁЖЕСПОСОБНОСТЬ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ЗНАЧАЕТ НАЛИЧИЕ В ДОСТАТОЧНОМ ОБЪЁМЕ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ЕНЕЖНЫХ СРЕДСТВ И ИХ ЭКВИВАЛЕНТОВ ДЛЯ РАСЧЁТОВ ПО КРЕДИТОРСКОЙ ЗАДОЛЖЕН-НОСТИ, ТРЕБУЮЩЕЙ НЕМЕДЛЕННОГО ПОГАШЕН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ЕРСПЕКТИВНАЯ ПЛАТЁЖЕСПОСОБНОСТЬ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ОБЕСПЕЧИВАЕТСЯ СОГЛАСОВАННОСТЬЮ ОБЯЗАТЕЛЬСТВ И ПЛАТЁЖНЫХ СРЕДСТВ В ТЕЧЕНИЕ  ПРОГНОЗНОГО ПЕРИОД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ЛИКВИДНОСТЬ АКТИВ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– СПОСОБНОСТЬ ЕГО ТРАНСФОРМАЦИИ В ДЕНЕЖНЫЕ СРЕДСТВА, СТЕПЕНЬ ЛИКВИДНОСТИ АКТИВА ОПРЕДЕЛЯЕТСЯ ПРОМЕЖУТКОМ ВРЕМЕНИ, НЕОБХОДИМО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ЛЯ ЕГО ПРЕВРАЩЕНИЯ В ДЕНЕЖНУЮ ФОРМ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ЛИКВИДНОСТЬ БАЛАНСА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– ВОЗМОЖНОСТЬ СУБЪЕКТА ХОЗЯЙСТВОВАНИЯ ОБРАТИТЬ АКТИВЫ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 НАЛИЧНОСТЬ И ПОГАСИТЬ СВОИ ПЛАТЁЖНЫЕ ОБЯЗАТЕЛЬСТ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ЛИКВИДНОСТЬ ПРЕДПРИЯТ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СПОСОБНОСТЬ ЗАНИМАТЬ СРЕДСТВА ИЗ РАЗ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СТОЧНИКОВ, УВЕЛИЧИВАТЬ АКЦИОНЕРНЫЙ КАПИТАЛ, ПРОДАВАТЬ АКТИВЫ, БЫСТРО РЕАГИРОВАТЬ НА КОНЪЮНКТУРУ  РЫНК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335880" y="4330800"/>
            <a:ext cx="8669880" cy="2271240"/>
            <a:chOff x="335880" y="4330800"/>
            <a:chExt cx="8669880" cy="2271240"/>
          </a:xfrm>
        </p:grpSpPr>
        <p:grpSp>
          <p:nvGrpSpPr>
            <p:cNvPr id="1304" name=""/>
            <p:cNvGrpSpPr/>
            <p:nvPr/>
          </p:nvGrpSpPr>
          <p:grpSpPr>
            <a:xfrm>
              <a:off x="1047600" y="4330800"/>
              <a:ext cx="5763960" cy="995400"/>
              <a:chOff x="1047600" y="4330800"/>
              <a:chExt cx="5763960" cy="995400"/>
            </a:xfrm>
          </p:grpSpPr>
          <p:grpSp>
            <p:nvGrpSpPr>
              <p:cNvPr id="1305" name=""/>
              <p:cNvGrpSpPr/>
              <p:nvPr/>
            </p:nvGrpSpPr>
            <p:grpSpPr>
              <a:xfrm>
                <a:off x="1047600" y="4330800"/>
                <a:ext cx="3183120" cy="352080"/>
                <a:chOff x="1047600" y="4330800"/>
                <a:chExt cx="3183120" cy="35208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1047600" y="4378320"/>
                  <a:ext cx="31831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ЛАТЁЖЕСПОСОБНОСТЬ ПРЕДПРИЯТ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1063440" y="4330800"/>
                  <a:ext cx="3116160" cy="352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2930040" y="4667040"/>
                <a:ext cx="2495880" cy="509400"/>
                <a:chOff x="2930040" y="4667040"/>
                <a:chExt cx="2495880" cy="50940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2930040" y="4717440"/>
                  <a:ext cx="24526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ЛИКВИДНОСТЬ ПРЕДПРИЯТ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942640" y="4667040"/>
                  <a:ext cx="2483280" cy="339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4727160" y="5005080"/>
                <a:ext cx="2084400" cy="321120"/>
                <a:chOff x="4727160" y="5005080"/>
                <a:chExt cx="2084400" cy="32112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4727160" y="5049720"/>
                  <a:ext cx="20826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ЛИКВИДНОСТЬ БАЛАНС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4737600" y="5005080"/>
                  <a:ext cx="2073960" cy="317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4" name=""/>
            <p:cNvGrpSpPr/>
            <p:nvPr/>
          </p:nvGrpSpPr>
          <p:grpSpPr>
            <a:xfrm>
              <a:off x="335880" y="5614920"/>
              <a:ext cx="1994400" cy="782640"/>
              <a:chOff x="335880" y="5614920"/>
              <a:chExt cx="1994400" cy="782640"/>
            </a:xfrm>
          </p:grpSpPr>
          <p:sp>
            <p:nvSpPr>
              <p:cNvPr id="1315" name=""/>
              <p:cNvSpPr/>
              <p:nvPr/>
            </p:nvSpPr>
            <p:spPr>
              <a:xfrm>
                <a:off x="335880" y="5683320"/>
                <a:ext cx="19897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ИМИДЖ ПРЕДПРИЯТИЯ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ЕГО ИНВЕСТИЦИОННА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ПРИВЛЕКАТЕЛЬНОС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352080" y="5614920"/>
                <a:ext cx="1978200" cy="782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7" name=""/>
            <p:cNvGrpSpPr/>
            <p:nvPr/>
          </p:nvGrpSpPr>
          <p:grpSpPr>
            <a:xfrm>
              <a:off x="2408400" y="5318280"/>
              <a:ext cx="6597360" cy="1283760"/>
              <a:chOff x="2408400" y="5318280"/>
              <a:chExt cx="6597360" cy="1283760"/>
            </a:xfrm>
          </p:grpSpPr>
          <p:grpSp>
            <p:nvGrpSpPr>
              <p:cNvPr id="1318" name=""/>
              <p:cNvGrpSpPr/>
              <p:nvPr/>
            </p:nvGrpSpPr>
            <p:grpSpPr>
              <a:xfrm>
                <a:off x="2408400" y="5599080"/>
                <a:ext cx="6597360" cy="1002960"/>
                <a:chOff x="2408400" y="5599080"/>
                <a:chExt cx="6597360" cy="1002960"/>
              </a:xfrm>
            </p:grpSpPr>
            <p:grpSp>
              <p:nvGrpSpPr>
                <p:cNvPr id="1319" name=""/>
                <p:cNvGrpSpPr/>
                <p:nvPr/>
              </p:nvGrpSpPr>
              <p:grpSpPr>
                <a:xfrm>
                  <a:off x="2410560" y="5599080"/>
                  <a:ext cx="2946960" cy="520560"/>
                  <a:chOff x="2410560" y="5599080"/>
                  <a:chExt cx="2946960" cy="520560"/>
                </a:xfrm>
              </p:grpSpPr>
              <p:sp>
                <p:nvSpPr>
                  <p:cNvPr id="1320" name=""/>
                  <p:cNvSpPr/>
                  <p:nvPr/>
                </p:nvSpPr>
                <p:spPr>
                  <a:xfrm>
                    <a:off x="2410560" y="5628960"/>
                    <a:ext cx="282780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ВЕЛИЧИНА, СТРУКТУРА И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СТЕПЕНЬ ЛИКВИДНОСТИ АКТИВОВ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1" name=""/>
                  <p:cNvSpPr/>
                  <p:nvPr/>
                </p:nvSpPr>
                <p:spPr>
                  <a:xfrm>
                    <a:off x="2448000" y="5599080"/>
                    <a:ext cx="2909520" cy="5205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2" name=""/>
                <p:cNvGrpSpPr/>
                <p:nvPr/>
              </p:nvGrpSpPr>
              <p:grpSpPr>
                <a:xfrm>
                  <a:off x="2408400" y="6265800"/>
                  <a:ext cx="3230280" cy="303120"/>
                  <a:chOff x="2408400" y="6265800"/>
                  <a:chExt cx="3230280" cy="303120"/>
                </a:xfrm>
              </p:grpSpPr>
              <p:sp>
                <p:nvSpPr>
                  <p:cNvPr id="1323" name=""/>
                  <p:cNvSpPr/>
                  <p:nvPr/>
                </p:nvSpPr>
                <p:spPr>
                  <a:xfrm>
                    <a:off x="2408400" y="6265800"/>
                    <a:ext cx="3230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КАЧЕСТВО УПРАВЛЕНИЯ АКТИВАМИ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>
                    <a:off x="2446200" y="6270480"/>
                    <a:ext cx="2911680" cy="298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5" name=""/>
                <p:cNvGrpSpPr/>
                <p:nvPr/>
              </p:nvGrpSpPr>
              <p:grpSpPr>
                <a:xfrm>
                  <a:off x="5409720" y="5607000"/>
                  <a:ext cx="3596040" cy="520920"/>
                  <a:chOff x="5409720" y="5607000"/>
                  <a:chExt cx="3596040" cy="520920"/>
                </a:xfrm>
              </p:grpSpPr>
              <p:sp>
                <p:nvSpPr>
                  <p:cNvPr id="1326" name=""/>
                  <p:cNvSpPr/>
                  <p:nvPr/>
                </p:nvSpPr>
                <p:spPr>
                  <a:xfrm>
                    <a:off x="5409720" y="5637240"/>
                    <a:ext cx="359604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ВЕЛИЧИНА, СТРУКТУРА И СКОРОСТЬ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СОЗРЕВАНИЯ ОБЯЗАТЕЛЬСТВ К ПОГАШЕНИЮ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7" name=""/>
                  <p:cNvSpPr/>
                  <p:nvPr/>
                </p:nvSpPr>
                <p:spPr>
                  <a:xfrm>
                    <a:off x="5456520" y="5607000"/>
                    <a:ext cx="3536280" cy="5209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8" name=""/>
                <p:cNvGrpSpPr/>
                <p:nvPr/>
              </p:nvGrpSpPr>
              <p:grpSpPr>
                <a:xfrm>
                  <a:off x="5410080" y="6284880"/>
                  <a:ext cx="3508200" cy="317160"/>
                  <a:chOff x="5410080" y="6284880"/>
                  <a:chExt cx="3508200" cy="317160"/>
                </a:xfrm>
              </p:grpSpPr>
              <p:sp>
                <p:nvSpPr>
                  <p:cNvPr id="1329" name=""/>
                  <p:cNvSpPr/>
                  <p:nvPr/>
                </p:nvSpPr>
                <p:spPr>
                  <a:xfrm>
                    <a:off x="5410080" y="6284880"/>
                    <a:ext cx="350820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КАЧЕСТВО УПРАВЛЕНИЯ ПАССИВАМИ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5451120" y="6289560"/>
                    <a:ext cx="3162240" cy="3124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31" name=""/>
              <p:cNvSpPr/>
              <p:nvPr/>
            </p:nvSpPr>
            <p:spPr>
              <a:xfrm flipV="1">
                <a:off x="3844800" y="6102000"/>
                <a:ext cx="0" cy="16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V="1">
                <a:off x="7165800" y="6138720"/>
                <a:ext cx="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 flipV="1">
                <a:off x="3862440" y="548784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 flipV="1">
                <a:off x="7183440" y="5504040"/>
                <a:ext cx="0" cy="9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825720" y="5504040"/>
                <a:ext cx="334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V="1">
                <a:off x="5392800" y="5318280"/>
                <a:ext cx="0" cy="15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7" name=""/>
            <p:cNvSpPr/>
            <p:nvPr/>
          </p:nvSpPr>
          <p:spPr>
            <a:xfrm>
              <a:off x="1176480" y="4869000"/>
              <a:ext cx="0" cy="73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195560" y="4870440"/>
              <a:ext cx="175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"/>
          <p:cNvSpPr/>
          <p:nvPr/>
        </p:nvSpPr>
        <p:spPr>
          <a:xfrm>
            <a:off x="0" y="3254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 ЛИКВИДНОСТИ БАЛАН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57120" y="773280"/>
            <a:ext cx="471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ГРУППИРОВКА АКТИВОВ И ПАССИВОВ БАЛАНС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68360" y="1916280"/>
            <a:ext cx="1839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317880" y="1065240"/>
            <a:ext cx="8543160" cy="5300640"/>
            <a:chOff x="317880" y="1065240"/>
            <a:chExt cx="8543160" cy="5300640"/>
          </a:xfrm>
        </p:grpSpPr>
        <p:sp>
          <p:nvSpPr>
            <p:cNvPr id="1343" name=""/>
            <p:cNvSpPr/>
            <p:nvPr/>
          </p:nvSpPr>
          <p:spPr>
            <a:xfrm>
              <a:off x="352440" y="1514160"/>
              <a:ext cx="842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4" name=""/>
            <p:cNvGrpSpPr/>
            <p:nvPr/>
          </p:nvGrpSpPr>
          <p:grpSpPr>
            <a:xfrm>
              <a:off x="317880" y="1065240"/>
              <a:ext cx="8543160" cy="5300640"/>
              <a:chOff x="317880" y="1065240"/>
              <a:chExt cx="8543160" cy="5300640"/>
            </a:xfrm>
          </p:grpSpPr>
          <p:sp>
            <p:nvSpPr>
              <p:cNvPr id="1345" name=""/>
              <p:cNvSpPr/>
              <p:nvPr/>
            </p:nvSpPr>
            <p:spPr>
              <a:xfrm>
                <a:off x="318960" y="1065240"/>
                <a:ext cx="8488440" cy="4852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4276800" y="1726920"/>
                <a:ext cx="44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А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4275000" y="2587320"/>
                <a:ext cx="44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А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4276800" y="3349440"/>
                <a:ext cx="44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А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4275000" y="4282920"/>
                <a:ext cx="44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А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4273560" y="5362560"/>
                <a:ext cx="44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А 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8454960" y="1083960"/>
                <a:ext cx="0" cy="481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948240" y="1184040"/>
                <a:ext cx="618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АКТИВЫ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                  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ПАССИВ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317880" y="1555560"/>
                <a:ext cx="4115520" cy="48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</a:t>
                </a: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АБСОЛЮТНО ЛИКВИДНЫ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ДЕНЕЖНАЯ НАЛИЧНОСТЬ, КРАТКОСРОЧНЫ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ФИНАНСОВЫЕ ВЛОЖЕНИЯ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</a:t>
                </a: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БЫСТРО РЕАЛИЗУЕМЕЫ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ТОВАРЫ ОТГРУЖЕННЫЕ, ДЕБИТОРСКАЯ ЗАДОЛЖЕН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НОСТЬ СО СРОКОМ ПОГАШЕНИЯ  ДО 12 МЕСЯЦЕВ И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НДС ПО ПРИОБРЕТЁННЫМ ЦЕННОСТЯМ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</a:t>
                </a: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МЕДЛЕННО РЕАЛИЗУЕМЫ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ПРОИЗВОДСТВЕННЫЕ ЗАПАСЫ, НЕЗАВЕРШЁННО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ПРОИЗВОДСТВО, ГОТОВАЯ ПРОДУКЦИЯ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   </a:t>
                </a: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ТРУДНОРЕАЛИЗУЕМЫ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ОСНОВНЫЕ СРЕДСТВА, НЕМАТЕРИАЛЬНЫЕ АКТИ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ВЫ, ДОЛГОСРОЧНЫЕ ФИНАНСОВЫЕ ВЛОЖЕНИЯ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НЕЗАВЕРШЁННОЕ СТРОИТЕЛЬСТВО, ДЕБИТОРСКА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ЗАДОЛЖЕННОСТЬ, ПЛАТЕЖИ ПО КОТОРОЙ ОЖИ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ДАЮТСЯ БОЛЕЕ ЧЕМ ЧЕРЕЗ 12 МЕСЯЦЕВ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</a:t>
                </a: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НЕЛИКВИДНЫЕ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БЕЗНАДЁЖНАЯ  ДЕБИТОРСКАЯ ЗАДОЛЖЕННОСТЬ,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НЕХОДОВЫЕ, ЗАЛЕЖАЛЫЕ МАТЕРИАЛЬНЫЕ ЦЕН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НОСТИ, РАСХОДЫ БУДУЩИХ ПЕРИОДОВ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4346640" y="1087200"/>
                <a:ext cx="0" cy="481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336600" y="2298600"/>
                <a:ext cx="847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372960" y="3155760"/>
                <a:ext cx="843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372960" y="3865320"/>
                <a:ext cx="843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353880" y="5114880"/>
                <a:ext cx="8455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4702320" y="1068120"/>
                <a:ext cx="0" cy="483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4646160" y="1577880"/>
                <a:ext cx="3922200" cy="444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НАИБОЛЕЕ СРОЧНЫЕ ОБЯЗАТЕЛЬСТВ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КРЕДИТОРСКАЯ ЗАДОЛЖЕННОСТЬ И КРЕДИТЫ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БАНКА, СРОКИ ВОЗВРАТА КОТОРЫХ НАСТУПИЛИ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СРЕДНЕСРОЧНЫЕ ОБЯЗАТЕЛЬСТВА СО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       </a:t>
                </a: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СРОКОМ ПОГАШЕНИЯ ДО 1 ГОД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КРАТКОСРОЧНЫЕ КРЕДИТЫ БАНКА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ДОЛГОСРОЧНЫЕ ОБЯЗАТЕЛЬСТВ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ДОЛГОСРОЧНЫЕ КРЕДИТЫ БАНКА И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ЗАЙМЫ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СОБСТВЕННЫЙ КАПИТАЛ, НАХОДЯ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ЩИЙСЯ ПОСТОЯННО В РАСПОРЯЖЕНИИ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ПРЕДПРИЯТИЯ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ДОХОДЫ БУДУЩИХ ПЕРИОДОВ, КОТО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РЫЕ ПРЕДПОЛАГАЕТСЯ ПОЛУЧИТЬ В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ПЕРСПЕКТИВЕ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8418240" y="1725480"/>
                <a:ext cx="44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П 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8400960" y="2565360"/>
                <a:ext cx="44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П 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8400960" y="3349440"/>
                <a:ext cx="44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П 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8399520" y="4319280"/>
                <a:ext cx="442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П 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8399520" y="5344920"/>
                <a:ext cx="446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П 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6" name=""/>
          <p:cNvSpPr/>
          <p:nvPr/>
        </p:nvSpPr>
        <p:spPr>
          <a:xfrm>
            <a:off x="336600" y="6016680"/>
            <a:ext cx="539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БАЛАНС СЧИТАЕТСЯ АБСОЛЮТНО ЛИКВИДНЫМ, ЕСЛИ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 1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П 1;  А 2 ≥ П 2;  А 3 ≥ П 3;  А 4 ≤ П 4;  А 5 ≤ П 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662400" y="297000"/>
            <a:ext cx="83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НАЛИЗ ЛИКВИДНОСТИ И ПЛАТЕЖЕСПОСОБНОСТИ ОРГАНИЗАЦ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233280" y="930240"/>
            <a:ext cx="90630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ЭФФИЦИЕНТ                                                     ДЕНЕЖНЫЕ СРЕДСТВА  +  КРАТКОСРОЧНЫЕ ВЛОЖ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БСОЛЮТНОЙ  ЛИКВИДНОСТИ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л. =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ММА КРАТКОСРОЧНЫХ ОБЯЗАТЕЛЬСТ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ЭФФИЦИЕНТ                                                         ДЕН.СР. + КР. ВЛОЖ. + КР.ДЕБИТОР. ЗАДОЛЖЕН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ОЧНОЙ   ЛИКВИДНОСТИ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ср,л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ММА КРАТКОСРОЧНЫХ ОБЯЗАТЕЛЬСТ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ЭФФИЦИЕНТ                                                   ОБОРОТНЫЕ АКТИВЫ – РАСХОДЫ БУДУЩИХ ПЕРИОД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КУЩЕЙ ЛИКВИДНОСТИ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тл. =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УММА КРАТКОСРОЧНЫХ ОБЯЗАТЕЛЬСТ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ЭФФИЦИЕН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ССТАНОВЛЕНИЯ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тл. + 6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 (Ктл.! – Ктл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ЛАТЕЖЕСПОСОБНОСТИ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вп  =             Ктл.нор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ЭФФИЦИЕНТ  УТРАТЫ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тл. + 3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 (Ктл.! – Ктл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ЛАТЕЖЕСПОСОБНОСТИ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п.  =        Ктл.нор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4221000" y="4640400"/>
            <a:ext cx="303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183200" y="3726000"/>
            <a:ext cx="301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890880" y="2693880"/>
            <a:ext cx="525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046400" y="1974960"/>
            <a:ext cx="509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027320" y="1974960"/>
            <a:ext cx="511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949560" y="1216080"/>
            <a:ext cx="519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568520" y="270000"/>
            <a:ext cx="614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ТАПЫ ЭКОНОМИЧЕСКОГО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8520" y="920880"/>
            <a:ext cx="2541600" cy="177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УТОЧН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ЪЕКТОВ,ЦЕЛИ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ДАЧ АНАЛИЗА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ОСТАВЛЕНИЕ ПЛА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НАЛИТИЧЕСКО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БО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11640" y="920880"/>
            <a:ext cx="2612880" cy="177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РАЗРАБОТ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ИСТЕМ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ИНТЕТИЧЕСКИХ  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НАЛИТИЧЕСКИ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КАЗАТЕЛЕЙ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ХАРАКТЕРИЗУЮЩИ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БЪЕКТ АНАЛИЗ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912000" y="3124080"/>
            <a:ext cx="1903320" cy="322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ОЦЕН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ЕЗУЛЬТА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ЗРАБОТ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ЕРОПРИЯТ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 ПОВЫШЕНИЮ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ФФЕКТИВ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8520" y="3124080"/>
            <a:ext cx="1922400" cy="322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СРАВН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АКТИЧЕСКИ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ЕЗУЛЬТАТ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ЕЯТЕЛЬНОСТ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КАЗАТЕЛЯМ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ЛАНА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ОРМАТИВОМ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АКТИЧЕСКИ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АННЫМ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ОШЛОГ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ЕРИО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63920" y="3124080"/>
            <a:ext cx="1939680" cy="322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15120" y="920880"/>
            <a:ext cx="2500200" cy="173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СБОР И ПОДГОТОВ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НФОРМ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48040" y="3124080"/>
            <a:ext cx="1920960" cy="3227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ЕИСПОЛЬЗО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АННЫХ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ЕРСПЕКТИВ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ЕЗЕРВ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ВЫШЕ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ЭФФЕКТИВ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38360" y="3889440"/>
            <a:ext cx="1963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ОПРЕДЕЛЕНИ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ЛИЯНИЯ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ФАКТОРОВ Н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ЕЗУЛЬТА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48040" y="1836720"/>
            <a:ext cx="372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34240" y="1836720"/>
            <a:ext cx="392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14440" y="4748040"/>
            <a:ext cx="26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7480" y="4748040"/>
            <a:ext cx="24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80160" y="4748040"/>
            <a:ext cx="2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"/>
          <p:cNvSpPr/>
          <p:nvPr/>
        </p:nvSpPr>
        <p:spPr>
          <a:xfrm>
            <a:off x="272160" y="125280"/>
            <a:ext cx="8102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ема 13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АНАЛИЗ ФИНАНСОВОЙ УСТОЙЧИВ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ПРИЯ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80880" y="15238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ДАЧИ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0880" y="274320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ЕКТЫ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80880" y="3922560"/>
            <a:ext cx="381024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И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572000" y="1066680"/>
            <a:ext cx="4191120" cy="15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572000" y="2743200"/>
            <a:ext cx="4191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КТИВЫ И ПАССИВ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АЛАНСА ОРГАН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4572000" y="4927680"/>
            <a:ext cx="4191120" cy="15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80880" y="5334120"/>
            <a:ext cx="38102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АПЫ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4572000" y="3809880"/>
            <a:ext cx="4191120" cy="947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4538520" y="1060560"/>
            <a:ext cx="9999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ДИАГНОСТИКА ФИНАНСОВОГО СОСТОЯ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РГАНИЗАЦИ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ОПРЕДЕЛЕНИЕ РЕЗЕРВОВ УЛУЧШЕ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ИНАНСОВОГО СОСТОЯНИЯ ОРГАНИЗАЦИ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ПРОГНОЗИРОВАНИЕ ВОЗМОЖ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ИНАНСОВЫХ РЕЗУЛЬТАТОВ И МОДЕЛ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ИНАНСОВОГО СОСТОЯ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795920" y="4056120"/>
            <a:ext cx="374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УХГАЛТЕРСКИЙ БАЛАН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РГАН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713120" y="5010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519440" y="5035680"/>
            <a:ext cx="4294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РАСЧЕТ КОЭФФИЦИЕНТОВ ФИНАНСОВОЙ УСТОЙЧИВ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РАСЧЕТ ФИНАНСОВОГО ЛЕВЕРИД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РАСЧЕТ ВЕЛИЧИНЫ ЧИСТЫХ АКТИВ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РАСЧЕТ ОПЕРАЦИОННОГО ЛЕВЕРИДЖ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РАСЧЕТ КОЭФФИЦИЕНТА МАНЕВР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ОПРЕДЕЛЕНИЕ ТИПА ФИНАНСОВОЙ УСТОЙЧИВ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183200" y="5708520"/>
            <a:ext cx="407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164120" y="4287960"/>
            <a:ext cx="426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183200" y="321804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4202280" y="1914480"/>
            <a:ext cx="38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0" y="270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НАНСОВАЯ УСТОЙЧИВОСТЬ ПРЕДПРИЯТ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20760" y="592200"/>
            <a:ext cx="8710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ИНАНСОВАЯ УСТОЙЧИВОСТЬ ПРЕДПРИЯТ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ЭТО СПОСОБНОСТЬ СУБЪЕКТ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ХОЗЯЙСТВОВАНИЯ ФУНКЦИОНИРОВАТЬ И РАЗВИВАТЬСЯ, СОХРАНЯТЬ РАВНОВЕСИЕ СВОИ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КТИВОВ И ПАССИВОВ В ИЗМЕНЯЮЩЕЙСЯ ВНУТРЕННЕЙ И ВНЕШНЕЙ СРЕДЕ, ГАРАНТИРУЮЩЕ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ЕГО ПЛАТЁЖЕСПОСОБНОСТЬ И ИНВЕСТИЦИОННУЮ ПРИВЛЕКАТЕЛЬНОСТЬ В ДОЛГОСРОЧН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ЕРСПЕКТИВЕ В ГРАНИЦАХ ДОПУСТИМОГО УРОВНЯ РИСКА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16080" y="2144880"/>
            <a:ext cx="1935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315360" y="1806480"/>
            <a:ext cx="8377200" cy="5115960"/>
            <a:chOff x="315360" y="1806480"/>
            <a:chExt cx="8377200" cy="5115960"/>
          </a:xfrm>
        </p:grpSpPr>
        <p:sp>
          <p:nvSpPr>
            <p:cNvPr id="1396" name=""/>
            <p:cNvSpPr/>
            <p:nvPr/>
          </p:nvSpPr>
          <p:spPr>
            <a:xfrm>
              <a:off x="315360" y="1806480"/>
              <a:ext cx="8377200" cy="51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ОЭФ. КОНЦЕНТРАЦИИ                                               СОБСТВЕННЫЙ КАПИТАЛ ПРЕДПРИ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ОБСТВЕН.  КАПИТАЛА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(Кск)     =   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ОБЩАЯ ВАЛЮТА НЕТТО-БАЛАН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ОЭФ. КОНЦЕНТРАЦИИ                                                             ЗАЁМНЫЕ СРЕДСТВ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ЗАЁМНОГО  КАПИТАЛА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(Кзк)      =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ОБЩАЯ ВАЛЮТА НЕТТО-БАЛАН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ОЭФ. ФИНАНСОВОЙ                                                         ОБЩАЯ ВАЛЮТА НЕТТО-БАЛАН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ЗАВИСИМОСТИ         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(Кфз)     =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ОБСТВЕННЫЙ КАПИТАЛ ПРЕДПРИ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ОЭФ. ТЕКУЩЕЙ                                                            КРАТКОСРОЧНЫЕ ОБЯЗАТЕЛЬСТВ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ЗАДОЛЖЕННОСТИ    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(Ктз)     = 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ОБЩАЯ ВАЛЮТА НЕТТО-БАЛАН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ОЭФ. УСТОЙЧИВОГО                                                  СОБСТВЕННЫЙ КАПИТАЛ + ДОЛГОСРОЧНЫЕ ОБЯЗАТЕЛЬСТВ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ФИНАНСИРОВАНИЯ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(Куф)     =                 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ОБЩАЯ ВАЛЮТА НЕТТО-БАЛАНС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ОЭФ. ФИН. НЕЗАВИСИМОСТИ                                                                            СОБСТВЕННЫЙ КАПИТА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АПИТАЛИЗ. ИСТОЧНИКОВ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(Кнки)    =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ОБСТВЕННЫЙ КАПИТАЛ + ДОЛГОСРОЧНЫЕ ОБЯЗАТЕЛЬСТВ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ОЭФ. ФИН. ЗАВ-ТИ                                                                               ДОЛГОСРОЧНЫЕ ОБЯЗАТЕЛЬСТВ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АПИТАЛИЗ. ИСТОЧНИКОВ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(Кзки)    = 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ОБСТВЕННЫЙ КАПИТАЛ + ДОЛГОСРОЧНЫЕ ОБЯЗАТЕЛЬСТВ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ОЭФ. ПОКРЫТИЯ ДОЛГОВ                                        СОБСТВЕННЫЙ КАПИТА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ОБСТВЕННЫМ КАПИТАЛОМ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(Кпокр) =    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ЗАЁМНЫЙ КАПИТА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956040" y="3265560"/>
              <a:ext cx="29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992400" y="2052720"/>
              <a:ext cx="30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919680" y="2668680"/>
              <a:ext cx="255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56040" y="388152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973680" y="4478400"/>
              <a:ext cx="45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936960" y="5094360"/>
              <a:ext cx="451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954600" y="5710320"/>
              <a:ext cx="455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936960" y="6307200"/>
              <a:ext cx="188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0" y="3254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ИНАНСОВЫЙ ЛЕВЕРИД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26520" y="855720"/>
            <a:ext cx="804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ИНАНСОВЫЙ ЛЕВЕРИДЖ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ХАРАКТЕРИЗУЕТ РЕАКЦИЮ СОБСТВЕННОГО КАПИТАЛА НА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ВЛЕЧЕНИЕ  ЗАЁМНЫХ СРЕДСТВ В ОБОРОТ ПРЕДПРИЯТИ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33920" y="1967040"/>
            <a:ext cx="728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ЭФФИЦИЕНТ ФИНАНСОВОГО                                      ЗАЁМНЫЙ КАПИТА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ЕВЕРИДЖА                                                (Кфл)         =      СОБСТВЕННЫЙ КАПИТА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145120" y="2228760"/>
            <a:ext cx="219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098880" y="2496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3098880" y="27115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334800" y="2976480"/>
            <a:ext cx="8304120" cy="1495080"/>
            <a:chOff x="334800" y="2976480"/>
            <a:chExt cx="8304120" cy="1495080"/>
          </a:xfrm>
        </p:grpSpPr>
        <p:grpSp>
          <p:nvGrpSpPr>
            <p:cNvPr id="1412" name=""/>
            <p:cNvGrpSpPr/>
            <p:nvPr/>
          </p:nvGrpSpPr>
          <p:grpSpPr>
            <a:xfrm>
              <a:off x="3003480" y="2976480"/>
              <a:ext cx="2985840" cy="520200"/>
              <a:chOff x="3003480" y="2976480"/>
              <a:chExt cx="2985840" cy="520200"/>
            </a:xfrm>
          </p:grpSpPr>
          <p:sp>
            <p:nvSpPr>
              <p:cNvPr id="1413" name=""/>
              <p:cNvSpPr/>
              <p:nvPr/>
            </p:nvSpPr>
            <p:spPr>
              <a:xfrm>
                <a:off x="3003480" y="3006720"/>
                <a:ext cx="2985840" cy="48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083400" y="2976480"/>
                <a:ext cx="276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ДИНАМИКА КОЭФФИЦИЕНТ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ФИНАНСОВОГО ЛЕВЕРИДЖА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5" name=""/>
            <p:cNvGrpSpPr/>
            <p:nvPr/>
          </p:nvGrpSpPr>
          <p:grpSpPr>
            <a:xfrm>
              <a:off x="5653080" y="3951360"/>
              <a:ext cx="2985840" cy="520200"/>
              <a:chOff x="5653080" y="3951360"/>
              <a:chExt cx="2985840" cy="520200"/>
            </a:xfrm>
          </p:grpSpPr>
          <p:sp>
            <p:nvSpPr>
              <p:cNvPr id="1416" name=""/>
              <p:cNvSpPr/>
              <p:nvPr/>
            </p:nvSpPr>
            <p:spPr>
              <a:xfrm>
                <a:off x="5653080" y="3981240"/>
                <a:ext cx="2985840" cy="48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734440" y="3951360"/>
                <a:ext cx="2832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НАПРАВЛЕНИЯ ФИНАНСОВОЙ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ПОЛИТИКИ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8" name=""/>
            <p:cNvGrpSpPr/>
            <p:nvPr/>
          </p:nvGrpSpPr>
          <p:grpSpPr>
            <a:xfrm>
              <a:off x="334800" y="3981600"/>
              <a:ext cx="2986200" cy="485640"/>
              <a:chOff x="334800" y="3981600"/>
              <a:chExt cx="2986200" cy="485640"/>
            </a:xfrm>
          </p:grpSpPr>
          <p:sp>
            <p:nvSpPr>
              <p:cNvPr id="1419" name=""/>
              <p:cNvSpPr/>
              <p:nvPr/>
            </p:nvSpPr>
            <p:spPr>
              <a:xfrm>
                <a:off x="334800" y="3981600"/>
                <a:ext cx="2986200" cy="485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28920" y="4089240"/>
                <a:ext cx="237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СТРУКТУРА      АКТИВОВ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1827000" y="3489480"/>
              <a:ext cx="5338800" cy="485640"/>
              <a:chOff x="1827000" y="3489480"/>
              <a:chExt cx="5338800" cy="485640"/>
            </a:xfrm>
          </p:grpSpPr>
          <p:sp>
            <p:nvSpPr>
              <p:cNvPr id="1422" name=""/>
              <p:cNvSpPr/>
              <p:nvPr/>
            </p:nvSpPr>
            <p:spPr>
              <a:xfrm flipV="1">
                <a:off x="1827000" y="37418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 flipV="1">
                <a:off x="7165800" y="37418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1827000" y="3741840"/>
                <a:ext cx="533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V="1">
                <a:off x="4516200" y="3489480"/>
                <a:ext cx="0" cy="2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345240" y="5056200"/>
            <a:ext cx="8350920" cy="946440"/>
            <a:chOff x="345240" y="5056200"/>
            <a:chExt cx="8350920" cy="946440"/>
          </a:xfrm>
        </p:grpSpPr>
        <p:sp>
          <p:nvSpPr>
            <p:cNvPr id="1427" name=""/>
            <p:cNvSpPr/>
            <p:nvPr/>
          </p:nvSpPr>
          <p:spPr>
            <a:xfrm>
              <a:off x="345240" y="5056200"/>
              <a:ext cx="7497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УРОВЕНЬ ФИНАНСОВОГО                                        ТЕМПЫ ПРИРОСТА ЧИСТОЙ ПРИБЫЛ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ЛЕВЕРИДЖА                               (Уфл)         =    ТЕМПЫ ПРИРОСТА ВАЛОВОЙ   ПРИБЫЛИ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ЭФФЕКТ ФИНАНСОВОГО                                                          З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РЫЧАГА                                       (ЭФР)        =    (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А - Цзк)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С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732120" y="5325840"/>
              <a:ext cx="496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9" name=""/>
          <p:cNvSpPr/>
          <p:nvPr/>
        </p:nvSpPr>
        <p:spPr>
          <a:xfrm flipV="1">
            <a:off x="5059440" y="5738400"/>
            <a:ext cx="426960" cy="1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"/>
          <p:cNvSpPr/>
          <p:nvPr/>
        </p:nvSpPr>
        <p:spPr>
          <a:xfrm>
            <a:off x="0" y="3254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РАСЧЁТ СУММЫ ЧИСТЫХ АКТИВ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29760" y="855720"/>
            <a:ext cx="83145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ЧИСТЫЕ АКТИВЫ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РЕАЛЬНАЯ  ВЕЛИЧИНА СОБСТВЕННОГО КАПИТАЛА) ПОКАЗЫВАЮТ, ЧТ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ТАНЕТСЯ СОБСТВЕННИКАМ ПРЕДПРИЯТИЯ ПОСЛЕ ПОГАШЕНИЯ ВСЕХ ОБЯЗАТЕЛЬСТВ В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ЛУЧАЕ ЛИКВИДАЦИИ ПРЕДПРИЯТИЯ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АКТИВЫ,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ПРИНИМАЕМЫЕ К РАСЧЕТУ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НЕОБОРОТНЫЕ АКТИВЫ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ОРОТНЫЕ АКТИВЫ ЗА ИСКЛЮЧЕНИЕМ ЗАДОЛЖЕННОСТИ ПО ВЗНОСАМ В УСТАВ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АПИТА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АССИВЫ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ПРИНИМАЕМЫЕ К РАСЧЕТУ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ОЛГЛСРОЧНЫЕ ОБЯЗАТЕЛЬСТВ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РАТКОСРОЧНЫЕ ОБЯЗАТЕЛЬСТВ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РЕДИТОРСКАЯ ЗАДОЛЖЕННОСТЬ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ДОЛЖЕННОСТЬ УЧРЕДИТЕЛЯМ ПО ВЫПЛАТЕ ДОХОДОВ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ЕЗЕРВЫ ПРЕДСТОЯЩИХ РАСХОД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ЧИСТЫЕ АКТИВЫ = АКТИВЫ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 РАСЧЕТУ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– ПАССИВЫ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 РАСЧЕТ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0" y="3254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ЦЕНКА ПРОИЗВОДСТВЕННОГО ЛЕВЕРИДЖ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320040" y="855720"/>
            <a:ext cx="859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ОИЗВОДСТВЕННЫЙ (ОПЕРАЦИОННЫЙ) ЛЕВЕРИДЖ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–ХАРАКТЕРИЗУЕТ РЕАКЦИЮ ПРИБЫЛ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А ИЗМЕНЕНИЕ ОБЪЕМА ПРОДАЖ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7110360" y="2239920"/>
            <a:ext cx="2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5" name=""/>
          <p:cNvGrpSpPr/>
          <p:nvPr/>
        </p:nvGrpSpPr>
        <p:grpSpPr>
          <a:xfrm>
            <a:off x="331920" y="1967040"/>
            <a:ext cx="8138880" cy="1737720"/>
            <a:chOff x="331920" y="1967040"/>
            <a:chExt cx="8138880" cy="1737720"/>
          </a:xfrm>
        </p:grpSpPr>
        <p:sp>
          <p:nvSpPr>
            <p:cNvPr id="1436" name=""/>
            <p:cNvSpPr/>
            <p:nvPr/>
          </p:nvSpPr>
          <p:spPr>
            <a:xfrm>
              <a:off x="331920" y="1967040"/>
              <a:ext cx="7786800" cy="17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РОВЕНЬ ПРОИЗВОДСТВЕННОГО                                            ТЕМП ПРИРОСТА ПРИБЫЛИ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ЕВЕРИДЖА                        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(Кпл)         = 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ТЕМП ПРИРОСТА ВЫРУЧКИ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=        В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БЕЗУБЫТОЧНЫЙ ОБЪЁМ                                                                        СУММА ПОСТОЯННЫХ ЗАТРА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РОДАЖ                              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(Вкр)         =  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ДОЛЯ МАРЖИНАЛЬНОЙ ПРИБЫЛИ В ВЫРУЧКЕ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ЗАПАС ФИНАНСОВОЙ                                                                 ВЫРУЧКА – КРИТИЧЕСКАЯ СУММА ВЫРУЧК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СТОЙЧИВОСТИ                                       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(ЗФУ)       =                                     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ЫРУЧК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7128000" y="2257560"/>
              <a:ext cx="93600" cy="131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121520" y="2062080"/>
              <a:ext cx="93600" cy="131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11120" y="2239920"/>
              <a:ext cx="25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537080" y="2239920"/>
              <a:ext cx="20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11120" y="2836800"/>
              <a:ext cx="186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4537080" y="2836800"/>
              <a:ext cx="341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875720" y="3290760"/>
              <a:ext cx="59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×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11120" y="3433680"/>
              <a:ext cx="186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533840" y="3433680"/>
              <a:ext cx="337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6" name=""/>
          <p:cNvSpPr/>
          <p:nvPr/>
        </p:nvSpPr>
        <p:spPr>
          <a:xfrm>
            <a:off x="1887480" y="604836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782800" y="604836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678120" y="604836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535640" y="604836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5543640" y="604836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802640" y="573552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543640" y="3703680"/>
            <a:ext cx="0" cy="239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5559480" y="3927600"/>
            <a:ext cx="145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016760" y="3925800"/>
            <a:ext cx="0" cy="210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559480" y="4336920"/>
            <a:ext cx="145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486000" y="3676320"/>
            <a:ext cx="7391880" cy="2795040"/>
            <a:chOff x="486000" y="3676320"/>
            <a:chExt cx="7391880" cy="2795040"/>
          </a:xfrm>
        </p:grpSpPr>
        <p:sp>
          <p:nvSpPr>
            <p:cNvPr id="1457" name=""/>
            <p:cNvSpPr/>
            <p:nvPr/>
          </p:nvSpPr>
          <p:spPr>
            <a:xfrm>
              <a:off x="950760" y="6049800"/>
              <a:ext cx="677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1101600" y="3676320"/>
              <a:ext cx="0" cy="25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858960" y="517032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878040" y="410832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78040" y="461160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58960" y="5730840"/>
              <a:ext cx="24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541800" y="558792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43600" y="500868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22720" y="4449600"/>
              <a:ext cx="36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7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86000" y="3963960"/>
              <a:ext cx="45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924480" y="6164280"/>
              <a:ext cx="6953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                20                40                60               80                   100              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МЛН  РУБ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309320" y="370044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Y,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МЛН  РУБ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5543640" y="3981600"/>
              <a:ext cx="148104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ПРИБЫЛ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ПЕРЕМЕ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ЗАТРА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120680" y="5587920"/>
              <a:ext cx="589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3379680" y="4916520"/>
              <a:ext cx="0" cy="11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V="1">
              <a:off x="1044720" y="3936960"/>
              <a:ext cx="4495680" cy="20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1120680" y="4319640"/>
              <a:ext cx="4419720" cy="12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612880" y="4684680"/>
              <a:ext cx="76536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1495800" y="4471920"/>
              <a:ext cx="214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ТОЧКА БЕЗУБЫТОЧНОС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603760" y="5567400"/>
              <a:ext cx="1430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ПОСТОЯН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ЗАТРАТ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"/>
          <p:cNvSpPr/>
          <p:nvPr/>
        </p:nvSpPr>
        <p:spPr>
          <a:xfrm>
            <a:off x="0" y="3254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АНАЛИЗ ФИНАНСОВОГО РАВНОВЕС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ЗАИМОСВЯЗЬ АКТИВОВ И ПАССИВОВ БАЛАН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8" name=""/>
          <p:cNvGrpSpPr/>
          <p:nvPr/>
        </p:nvGrpSpPr>
        <p:grpSpPr>
          <a:xfrm>
            <a:off x="412560" y="1306440"/>
            <a:ext cx="7554960" cy="1474920"/>
            <a:chOff x="412560" y="1306440"/>
            <a:chExt cx="7554960" cy="1474920"/>
          </a:xfrm>
        </p:grpSpPr>
        <p:sp>
          <p:nvSpPr>
            <p:cNvPr id="1479" name=""/>
            <p:cNvSpPr/>
            <p:nvPr/>
          </p:nvSpPr>
          <p:spPr>
            <a:xfrm>
              <a:off x="4162320" y="1306440"/>
              <a:ext cx="0" cy="145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0" name=""/>
            <p:cNvGrpSpPr/>
            <p:nvPr/>
          </p:nvGrpSpPr>
          <p:grpSpPr>
            <a:xfrm>
              <a:off x="412560" y="1325520"/>
              <a:ext cx="7554960" cy="1455840"/>
              <a:chOff x="412560" y="1325520"/>
              <a:chExt cx="7554960" cy="1455840"/>
            </a:xfrm>
          </p:grpSpPr>
          <p:sp>
            <p:nvSpPr>
              <p:cNvPr id="1481" name=""/>
              <p:cNvSpPr/>
              <p:nvPr/>
            </p:nvSpPr>
            <p:spPr>
              <a:xfrm>
                <a:off x="430200" y="1325520"/>
                <a:ext cx="7537320" cy="1455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32000" y="1349280"/>
                <a:ext cx="24667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ВНЕОБОРОТНЫЕ АКТИВЫ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(ОСНОВНОЙ  КАПИТАЛ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412560" y="2151000"/>
                <a:ext cx="2067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ОБОРОТНЫЕ АКТИВЫ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4143240" y="134928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106880" y="1852560"/>
                <a:ext cx="1839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128480" y="2414520"/>
                <a:ext cx="3303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КРАТКОСРОЧНЫЕ ОБЯЗАТЕЛЬСТВА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564000" y="1343160"/>
                <a:ext cx="0" cy="14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445520" y="1362240"/>
                <a:ext cx="0" cy="14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446040" y="2016000"/>
                <a:ext cx="3714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4197240" y="1773360"/>
                <a:ext cx="373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197240" y="2332080"/>
                <a:ext cx="373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16280" y="1487520"/>
                <a:ext cx="257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0840" y="2178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523280" y="1357200"/>
                <a:ext cx="42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504200" y="1841400"/>
                <a:ext cx="409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II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544160" y="23432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7" name=""/>
          <p:cNvSpPr/>
          <p:nvPr/>
        </p:nvSpPr>
        <p:spPr>
          <a:xfrm>
            <a:off x="334800" y="2906640"/>
            <a:ext cx="880776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БЫ УЗНАТЬ, КАКАЯ СУММА СОБСТВЕННОГО КАПИТАЛА ИСПОЛЬЗУЕТСЯ В ОБОРОТЕ, НЕОБХОДИМО О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Й ЕГО СУММЫ ПО РАЗДЕЛ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АССИВА БАЛАНСА ВЫЧЕСТЬ СУММУ ДОЛГОСРОЧНЫХ (ВНЕОБОРОТНЫХ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ИВОВ (р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АКТИВА БАЛАНСА ЗА МИНУСОМ ТОЙ ЧАСТИ, КОТОРАЯ СФОРМИРОВАНА ЗА СЧЁ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ГОСРОЧНЫХ КРЕДИТОВ БАНКА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ЫЙ ОБОРОТНЫЙ КАПИТАЛ =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II +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тр. 640 + стр. 650 – (р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р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V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+ стр. 640 + стр. 650 + р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V)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- р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340560" y="4416480"/>
            <a:ext cx="7680240" cy="1981440"/>
            <a:chOff x="340560" y="4416480"/>
            <a:chExt cx="7680240" cy="1981440"/>
          </a:xfrm>
        </p:grpSpPr>
        <p:grpSp>
          <p:nvGrpSpPr>
            <p:cNvPr id="1499" name=""/>
            <p:cNvGrpSpPr/>
            <p:nvPr/>
          </p:nvGrpSpPr>
          <p:grpSpPr>
            <a:xfrm>
              <a:off x="340560" y="4416480"/>
              <a:ext cx="7680240" cy="1981440"/>
              <a:chOff x="340560" y="4416480"/>
              <a:chExt cx="7680240" cy="1981440"/>
            </a:xfrm>
          </p:grpSpPr>
          <p:sp>
            <p:nvSpPr>
              <p:cNvPr id="1500" name=""/>
              <p:cNvSpPr/>
              <p:nvPr/>
            </p:nvSpPr>
            <p:spPr>
              <a:xfrm>
                <a:off x="340560" y="4416480"/>
                <a:ext cx="7680240" cy="198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ДОЛЯ СОБСТВЕННОГО КАПИТАЛА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И  ДОЛЯ ЗАЁМНОГО                                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р.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 – 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р.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V                        p. IV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КАПИТАЛА  В ФОРМИРОВАНИИ ВНЕОБОРОТНЫХ АКТИВОВ:    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(Дск)  =        р.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(Дзк)   =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р.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ДОЛЯ СОБСТВЕННОГО КАПИТАЛА  И  ДОЛЯ ЗАЁМНОГО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р.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I – p. V                        p. V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КАПИТАЛА В ФОРМИРОВАНИИ ОБОРОТНЫХ АКТИВОВ:             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(Дск)  =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р.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I               (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Дзк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  =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p. II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                                                                                      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СОБСТВЕННЫЙ ОБОРОТНЫЙ КАПИТАЛ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КОЭФФИЦИЕНТ МАНЁВРЕННОСТИ     </a:t>
                </a:r>
                <a:r>
                  <a:rPr b="0" lang="ru-RU" sz="1400" spc="-1" strike="noStrike">
                    <a:solidFill>
                      <a:srgbClr val="000000"/>
                    </a:solidFill>
                    <a:latin typeface="Times New Roman"/>
                  </a:rPr>
                  <a:t> (Км.к.)   =  </a:t>
                </a:r>
                <a:r>
                  <a:rPr b="0" lang="ru-RU" sz="1200" spc="-1" strike="noStrike">
                    <a:solidFill>
                      <a:srgbClr val="000000"/>
                    </a:solidFill>
                    <a:latin typeface="Times New Roman"/>
                  </a:rPr>
                  <a:t>ОБЩАЯ СУММА СОБСТВЕННОГО КАПИТАЛ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657760" y="4708440"/>
                <a:ext cx="82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542000" y="4699080"/>
                <a:ext cx="39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676840" y="5343480"/>
                <a:ext cx="82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7522920" y="5332320"/>
                <a:ext cx="39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5" name=""/>
            <p:cNvSpPr/>
            <p:nvPr/>
          </p:nvSpPr>
          <p:spPr>
            <a:xfrm>
              <a:off x="4105440" y="5952960"/>
              <a:ext cx="328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6" name=""/>
          <p:cNvSpPr/>
          <p:nvPr/>
        </p:nvSpPr>
        <p:spPr>
          <a:xfrm>
            <a:off x="4183200" y="1808280"/>
            <a:ext cx="60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ОБСТВЕННЫЙ КАПИТА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303800" y="1281240"/>
            <a:ext cx="30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ОЛГОСРОЧНЫЕ  КРЕДИ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   ЗАЙМ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"/>
          <p:cNvSpPr/>
          <p:nvPr/>
        </p:nvSpPr>
        <p:spPr>
          <a:xfrm>
            <a:off x="0" y="32544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ИПЫ ФИНАНСОВОЙ УСТОЙЧИВ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23800" y="134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7577280" y="1193760"/>
            <a:ext cx="40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428760" y="952560"/>
            <a:ext cx="8305560" cy="3750120"/>
            <a:chOff x="428760" y="952560"/>
            <a:chExt cx="8305560" cy="3750120"/>
          </a:xfrm>
        </p:grpSpPr>
        <p:sp>
          <p:nvSpPr>
            <p:cNvPr id="1512" name=""/>
            <p:cNvSpPr/>
            <p:nvPr/>
          </p:nvSpPr>
          <p:spPr>
            <a:xfrm>
              <a:off x="446040" y="957240"/>
              <a:ext cx="8285040" cy="374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446040" y="957240"/>
              <a:ext cx="4540320" cy="37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АБСОЛЮТ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ЗАПАСЫ МЕНЬШЕ СУММЫ СОБСТВЕННОГО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БОРОТНОГО КАПИТАЛ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НОРМАЛЬНА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ЗАПАСЫ БОЛЬШЕ СОБСТВЕННОГО ОБОРОТНОГО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НО МЕНЬШЕ ПЛАНОВЫХ ИСТОЧНИКОВ И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ПОКРЫ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НЕУСТОЙЧИВОЕ ФИНАНСОВО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ОСТОЯ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НАРУШАЕТСЯ ПЛАТЁЖНЫЙ БАЛАНС, НО СОХРАНЯЕТСЯ ВОЗМОЖНОСТЬ ВОССТАНОВЛЕНИЯ РАВНОВЕСИЯ ПЛАТЁЖНЫХ СРЕДСТВ И ПЛАТЁЖНЫХ ОБЯЗАТЕЛЬСТВ ЗА СЧЁТ ПРИВЛЕЧЕНИЯ ВРЕМЕННО СВОБОДНЫХ ИСТОЧНИКОВ СРЕДСТВ В ОБОРОТ ПРЕДПРИЯТ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КРИЗИСНОЕ ФИНАНСОВОЕ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                      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СОСТОЯНИ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ПРЕДПРИЯТИЕ НАХОДИТСЯ НА ГРАНИ БАНКРОТСТВ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4965840" y="952560"/>
              <a:ext cx="0" cy="37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831000" y="973080"/>
              <a:ext cx="0" cy="371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28760" y="1630440"/>
              <a:ext cx="828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47840" y="2544840"/>
              <a:ext cx="828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28760" y="4000320"/>
              <a:ext cx="826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395320" y="1138320"/>
              <a:ext cx="91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СО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0" name=""/>
            <p:cNvGrpSpPr/>
            <p:nvPr/>
          </p:nvGrpSpPr>
          <p:grpSpPr>
            <a:xfrm>
              <a:off x="7000920" y="1004760"/>
              <a:ext cx="1510920" cy="580680"/>
              <a:chOff x="7000920" y="1004760"/>
              <a:chExt cx="1510920" cy="580680"/>
            </a:xfrm>
          </p:grpSpPr>
          <p:sp>
            <p:nvSpPr>
              <p:cNvPr id="1521" name=""/>
              <p:cNvSpPr/>
              <p:nvPr/>
            </p:nvSpPr>
            <p:spPr>
              <a:xfrm>
                <a:off x="7112160" y="1004760"/>
                <a:ext cx="10778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СОК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3    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000920" y="1119240"/>
                <a:ext cx="484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К 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8064360" y="1100160"/>
                <a:ext cx="447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gt;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4" name=""/>
            <p:cNvSpPr/>
            <p:nvPr/>
          </p:nvSpPr>
          <p:spPr>
            <a:xfrm>
              <a:off x="5136480" y="1884240"/>
              <a:ext cx="148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ОК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3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lt;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пл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5" name=""/>
            <p:cNvGrpSpPr/>
            <p:nvPr/>
          </p:nvGrpSpPr>
          <p:grpSpPr>
            <a:xfrm>
              <a:off x="7000560" y="1735200"/>
              <a:ext cx="1474200" cy="580680"/>
              <a:chOff x="7000560" y="1735200"/>
              <a:chExt cx="1474200" cy="580680"/>
            </a:xfrm>
          </p:grpSpPr>
          <p:grpSp>
            <p:nvGrpSpPr>
              <p:cNvPr id="1526" name=""/>
              <p:cNvGrpSpPr/>
              <p:nvPr/>
            </p:nvGrpSpPr>
            <p:grpSpPr>
              <a:xfrm>
                <a:off x="7000560" y="1735200"/>
                <a:ext cx="1474200" cy="580680"/>
                <a:chOff x="7000560" y="1735200"/>
                <a:chExt cx="1474200" cy="58068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7000560" y="1865520"/>
                  <a:ext cx="4809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К 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7431840" y="1735200"/>
                  <a:ext cx="58608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Ипл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8027280" y="1865520"/>
                  <a:ext cx="447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&gt;</a:t>
                  </a:r>
                  <a:r>
                    <a:rPr b="0" lang="ru-RU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30" name=""/>
              <p:cNvSpPr/>
              <p:nvPr/>
            </p:nvSpPr>
            <p:spPr>
              <a:xfrm>
                <a:off x="7556040" y="2016000"/>
                <a:ext cx="41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1" name=""/>
            <p:cNvSpPr/>
            <p:nvPr/>
          </p:nvSpPr>
          <p:spPr>
            <a:xfrm>
              <a:off x="5135400" y="4149720"/>
              <a:ext cx="1462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Ипл + Ив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2" name=""/>
            <p:cNvGrpSpPr/>
            <p:nvPr/>
          </p:nvGrpSpPr>
          <p:grpSpPr>
            <a:xfrm>
              <a:off x="7002360" y="4030560"/>
              <a:ext cx="1417680" cy="580680"/>
              <a:chOff x="7002360" y="4030560"/>
              <a:chExt cx="1417680" cy="580680"/>
            </a:xfrm>
          </p:grpSpPr>
          <p:sp>
            <p:nvSpPr>
              <p:cNvPr id="1533" name=""/>
              <p:cNvSpPr/>
              <p:nvPr/>
            </p:nvSpPr>
            <p:spPr>
              <a:xfrm>
                <a:off x="7002360" y="4162320"/>
                <a:ext cx="480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К 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451280" y="4030560"/>
                <a:ext cx="535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Ипл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972560" y="4160880"/>
                <a:ext cx="447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7539120" y="4311720"/>
                <a:ext cx="42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7" name=""/>
            <p:cNvSpPr/>
            <p:nvPr/>
          </p:nvSpPr>
          <p:spPr>
            <a:xfrm>
              <a:off x="5209560" y="3060720"/>
              <a:ext cx="141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 = Ипл + Ив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8" name=""/>
            <p:cNvGrpSpPr/>
            <p:nvPr/>
          </p:nvGrpSpPr>
          <p:grpSpPr>
            <a:xfrm>
              <a:off x="7002360" y="2948040"/>
              <a:ext cx="1417680" cy="580680"/>
              <a:chOff x="7002360" y="2948040"/>
              <a:chExt cx="1417680" cy="580680"/>
            </a:xfrm>
          </p:grpSpPr>
          <p:sp>
            <p:nvSpPr>
              <p:cNvPr id="1539" name=""/>
              <p:cNvSpPr/>
              <p:nvPr/>
            </p:nvSpPr>
            <p:spPr>
              <a:xfrm>
                <a:off x="7002360" y="3079800"/>
                <a:ext cx="480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К 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451280" y="2948040"/>
                <a:ext cx="5356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Ипл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972560" y="3078360"/>
                <a:ext cx="447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&lt;</a:t>
                </a:r>
                <a:r>
                  <a:rPr b="0" lang="ru-RU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7539120" y="3229200"/>
                <a:ext cx="428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3" name=""/>
          <p:cNvSpPr/>
          <p:nvPr/>
        </p:nvSpPr>
        <p:spPr>
          <a:xfrm>
            <a:off x="354600" y="5000760"/>
            <a:ext cx="8295480" cy="18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ПОСОБЫ ПОВЫШЕНИЯ ФИНАНСОВОЙ УСТОЙЧИВОСТИ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СКОРЕНИЕ ОБОРАЧИВАЕМОСТИ КАПИТАЛА В ТЕКУЩИХ АКТИВАХ, В РЕЗУЛЬТАТЕ ЧЕГО ПРОИЗОЙДЁ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ТНОСИТЕЛЬНОЕ ЕГО СОКРАЩЕНИЕ НА РУБЛЬ ОБОРОТ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ОБОСНОВАННОЕ УМЕНЬШЕНИЕ ЗАПАСОВ И ЗАТРАТ (ДО НОРМАТИВА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ОПОЛНЕНИЕ СОБСТВЕННОГО ОБОРОТНОГО КАПИТАЛА ЗА СЧЁТ ВНУТРЕННИХ И ВНЕШНИХ ИСТОЧ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"/>
          <p:cNvSpPr/>
          <p:nvPr/>
        </p:nvSpPr>
        <p:spPr>
          <a:xfrm>
            <a:off x="-252360" y="176040"/>
            <a:ext cx="939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ема  14.  ДИАГНОСТИКА ВЕРОЯТНОСТИ БАНКРОТ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ЕДПРИЯ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80880" y="15238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ЗАДАЧИ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80880" y="274320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БЪЕКТЫ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0880" y="4038480"/>
            <a:ext cx="38102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И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572000" y="1066680"/>
            <a:ext cx="4316400" cy="156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491000" y="2743200"/>
            <a:ext cx="4397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КТИВЫ И ПАССИВ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АЛАНСА ОРГАН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491000" y="5006880"/>
            <a:ext cx="4397400" cy="147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380880" y="5334120"/>
            <a:ext cx="381024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ЭТАПЫ 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4491000" y="3809880"/>
            <a:ext cx="4397400" cy="106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491000" y="1047600"/>
            <a:ext cx="42591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ДИАГНОСТИКА ФИНАНСОВОГО СОСТОЯНИЯ  ОРГАНИЗАЦИ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ОПРЕДЕЛЕНИЕ РЕЗЕРВОВ УЛУЧШЕНИ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ИНАНСОВОГО СОСТОЯНИЯ ОРГАНИЗАЦИ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ОПРЕДЕЛЕНИЕ ТИПА И ФОРМЫ ФИНАНСОВОГО ОЗДОРОВЛЕНИЯ НЕСОСТОЯТЕЛЬНЫХ ПРЕДПРИЯТ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686480" y="4095720"/>
            <a:ext cx="3935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УХГАЛТЕРСКИЙ БАЛАНС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РГАНИЗА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4491000" y="5035680"/>
            <a:ext cx="4659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ОПРЕДЕЛЕНИЕ ПРИЗНАКОВ БАНКРОТ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ОПРЕДЕЛЕНИЕ ПРИЧИН БАНКРОТ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ОПРЕДЕЛЕНИЕ ТИПА ПРОЦЕДУР БАНКРОТ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ОПРЕДЕЛЕНИЕ ФОРМЫ ФИНАНСОВОГ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ЗДОРОВЛЕНИЯНЕСОСТОЯТЕЛЬ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ЕДПРИЯТ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4164120" y="576756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183200" y="4424400"/>
            <a:ext cx="27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202280" y="3178080"/>
            <a:ext cx="311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202280" y="1914480"/>
            <a:ext cx="35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"/>
          <p:cNvSpPr/>
          <p:nvPr/>
        </p:nvSpPr>
        <p:spPr>
          <a:xfrm>
            <a:off x="0" y="233280"/>
            <a:ext cx="914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КАЗАТЕЛИ  ДЛЯ ОЦЕНКИ И ПРОГНОЗИРОВАНИЯ ФИНАНСОВОГО СОСТОЯ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ЕДПРИЯТ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219400" y="730080"/>
            <a:ext cx="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5518080" y="72864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47840" y="1084320"/>
            <a:ext cx="826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465120" y="1327320"/>
            <a:ext cx="824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61880" y="3078000"/>
            <a:ext cx="8251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65120" y="3311640"/>
            <a:ext cx="824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356040" y="717480"/>
            <a:ext cx="8407080" cy="6029640"/>
            <a:chOff x="356040" y="717480"/>
            <a:chExt cx="8407080" cy="6029640"/>
          </a:xfrm>
        </p:grpSpPr>
        <p:sp>
          <p:nvSpPr>
            <p:cNvPr id="1568" name=""/>
            <p:cNvSpPr/>
            <p:nvPr/>
          </p:nvSpPr>
          <p:spPr>
            <a:xfrm>
              <a:off x="428760" y="717480"/>
              <a:ext cx="8283600" cy="579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9" name=""/>
            <p:cNvGrpSpPr/>
            <p:nvPr/>
          </p:nvGrpSpPr>
          <p:grpSpPr>
            <a:xfrm>
              <a:off x="356040" y="752400"/>
              <a:ext cx="8407080" cy="5994720"/>
              <a:chOff x="356040" y="752400"/>
              <a:chExt cx="8407080" cy="5994720"/>
            </a:xfrm>
          </p:grpSpPr>
          <p:sp>
            <p:nvSpPr>
              <p:cNvPr id="1570" name=""/>
              <p:cNvSpPr/>
              <p:nvPr/>
            </p:nvSpPr>
            <p:spPr>
              <a:xfrm>
                <a:off x="2822760" y="1074600"/>
                <a:ext cx="194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 ОБЩИЕ ПОКАЗАТЕЛИ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27120" y="752400"/>
                <a:ext cx="7375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ПОКАЗАТЕЛЬ                        АЛГОРИТМ  РАСЧЁТА                              ХАРАКТЕРИСТИКА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72" name=""/>
              <p:cNvGrpSpPr/>
              <p:nvPr/>
            </p:nvGrpSpPr>
            <p:grpSpPr>
              <a:xfrm>
                <a:off x="393840" y="1300320"/>
                <a:ext cx="8369280" cy="1980000"/>
                <a:chOff x="393840" y="1300320"/>
                <a:chExt cx="8369280" cy="1980000"/>
              </a:xfrm>
            </p:grpSpPr>
            <p:sp>
              <p:nvSpPr>
                <p:cNvPr id="1573" name=""/>
                <p:cNvSpPr/>
                <p:nvPr/>
              </p:nvSpPr>
              <p:spPr>
                <a:xfrm>
                  <a:off x="393840" y="1300320"/>
                  <a:ext cx="8369280" cy="198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СРЕДНЕМЕСЯЧНАЯ                       ВАЛОВАЯ ВЫРУЧКА ПО ОПЛАТЕ             МАСШТАБ БИЗНЕСА ОРГАНИЗАЦ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ВЫРУЧКА (К 1)                                   ЧИСЛО МЕСЯЦЕВ ПЕРИОДА                        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ДОЛЯ ДЕНЕЖНЫХ                          ДЕНЕЖНЫЕ СРЕДСТВА В ВЫРУЧКЕ   ФИНАНСОВЫЙ РЕСУРС ОРГАНИЗАЦИИ,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СРЕДСТВ В ВЫРУЧКЕ                      ВАЛОВАЯ ВЫРУЧКА ПО ОПЛАТЕ      ВОЗМОЖНОСТЬ СВОЕВРЕМЕН НОГО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(К 2)                                                                                                                             ИСПОЛЬЗОВАНИЯ СВОИХ ОБЯЗАТЕЛЬСТВ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СРЕДНЕСПИСОЧНАЯ                  СООТВЕТСТВУЕТ СТРОКЕ 850                           МАСШТАБЫ  ДЕЯТЕЛЬНОСТ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ЧИСЛЕННОСТЬ                                        Ф. № 5 ПО ОКУД                                                          ПРЕДПРИЯТ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ЕРСОНАЛА (К 3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                                                                                             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2181240" y="1395360"/>
                  <a:ext cx="558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К 1 =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2817720" y="1521000"/>
                  <a:ext cx="2427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2181240" y="1917720"/>
                  <a:ext cx="558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К 2 =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2800440" y="2004840"/>
                  <a:ext cx="2557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8" name=""/>
                <p:cNvSpPr/>
                <p:nvPr/>
              </p:nvSpPr>
              <p:spPr>
                <a:xfrm>
                  <a:off x="447840" y="1746360"/>
                  <a:ext cx="8248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9" name=""/>
                <p:cNvSpPr/>
                <p:nvPr/>
              </p:nvSpPr>
              <p:spPr>
                <a:xfrm>
                  <a:off x="446040" y="2416320"/>
                  <a:ext cx="8231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5521320" y="1343160"/>
                  <a:ext cx="0" cy="171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2219400" y="1346040"/>
                  <a:ext cx="0" cy="1717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2" name=""/>
              <p:cNvSpPr/>
              <p:nvPr/>
            </p:nvSpPr>
            <p:spPr>
              <a:xfrm>
                <a:off x="2262240" y="3052800"/>
                <a:ext cx="31982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. ПОКАЗАТЕЛИ ДЕЛОВОЙ АКТИВНОСТИ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3" name=""/>
              <p:cNvGrpSpPr/>
              <p:nvPr/>
            </p:nvGrpSpPr>
            <p:grpSpPr>
              <a:xfrm>
                <a:off x="369720" y="3295800"/>
                <a:ext cx="8387640" cy="1980000"/>
                <a:chOff x="369720" y="3295800"/>
                <a:chExt cx="8387640" cy="1980000"/>
              </a:xfrm>
            </p:grpSpPr>
            <p:sp>
              <p:nvSpPr>
                <p:cNvPr id="1584" name=""/>
                <p:cNvSpPr/>
                <p:nvPr/>
              </p:nvSpPr>
              <p:spPr>
                <a:xfrm>
                  <a:off x="369720" y="3295800"/>
                  <a:ext cx="8387640" cy="1980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ДОЛЖИТЕЛЬНОСТЬ                               СТР. 290 Ф. № 1                               ПОКАЗЫВАЕТ, ЗА СКОЛЬКО МЕСЯЦЕВ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ОБОРОТА ОБОРОТНЫХ                                           К 1                                               ОБОРАЧИВАЮТСЯ ОБОРОТНЫЕ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АКТИВОВ (К 4)                                                                                                                                       АКТИВЫ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ДОЛЖИТЕЛЬНОСТЬ               (СТР. 210 + СТР. 220 – СТР. 215) Ф. № 1                ХАРАКТЕРИЗУЕТ СКОРОСТЬ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ОБОРОТА СРЕДСТВ В                                               К 1                                             ОБОРАЧИВАЕМОСТИ  КАПИТАЛА В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ИЗВОДСТВЕ (К 5)                                                                                                                          ЗАПАСАХ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ДОЛЖИТЕЛЬНОСТЬ                (СТР. 290 – СТР. 210 – СТР 220 +              ХАРАКТЕРИЗУЕТ СКОРОСТЬ ПОГАШЕН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ОБОРОТА СРЕДСТВ В                                    + СТР. 215) Ф. № 1                                  ДЕБИТОРСКОЙ  ЗАДОЛЖЕННОСТИ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РАСЧЁТАХ (К 6)                                                         К 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2760840" y="3394080"/>
                  <a:ext cx="561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К 4 =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3321000" y="3537000"/>
                  <a:ext cx="1119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2205000" y="3303720"/>
                  <a:ext cx="0" cy="1922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5505480" y="3338640"/>
                  <a:ext cx="0" cy="190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2182680" y="4044960"/>
                  <a:ext cx="558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К 5 =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2743200" y="4199040"/>
                  <a:ext cx="2649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2178000" y="4902120"/>
                  <a:ext cx="558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К 6 =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2760840" y="5038560"/>
                  <a:ext cx="2649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3" name=""/>
                <p:cNvSpPr/>
                <p:nvPr/>
              </p:nvSpPr>
              <p:spPr>
                <a:xfrm>
                  <a:off x="446040" y="3889440"/>
                  <a:ext cx="824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444600" y="4599000"/>
                  <a:ext cx="8246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5" name=""/>
              <p:cNvSpPr/>
              <p:nvPr/>
            </p:nvSpPr>
            <p:spPr>
              <a:xfrm>
                <a:off x="446040" y="5232240"/>
                <a:ext cx="8247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559240" y="5200560"/>
                <a:ext cx="2773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. ПОКАЗАТЕЛИ РЕНТАБЕЛЬНОСТИ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7" name=""/>
              <p:cNvGrpSpPr/>
              <p:nvPr/>
            </p:nvGrpSpPr>
            <p:grpSpPr>
              <a:xfrm>
                <a:off x="356040" y="5443560"/>
                <a:ext cx="8341920" cy="1303560"/>
                <a:chOff x="356040" y="5443560"/>
                <a:chExt cx="8341920" cy="1303560"/>
              </a:xfrm>
            </p:grpSpPr>
            <p:sp>
              <p:nvSpPr>
                <p:cNvPr id="1598" name=""/>
                <p:cNvSpPr/>
                <p:nvPr/>
              </p:nvSpPr>
              <p:spPr>
                <a:xfrm>
                  <a:off x="430200" y="5450040"/>
                  <a:ext cx="8267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9" name=""/>
                <p:cNvSpPr/>
                <p:nvPr/>
              </p:nvSpPr>
              <p:spPr>
                <a:xfrm>
                  <a:off x="356040" y="5443560"/>
                  <a:ext cx="820476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РЕНТАБЕЛЬНОСТЬ                                           СТР. 160 Ф. № 2                                  ХАРАКТЕРИЗУЕТ ЭФФЕКТИВНОСТЬ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ОБОРОТНОГО                                                    СТР. 290 Ф. № 1                                      ИСПОЛЬЗОВАНИЯ ОБОРОТНОГО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КАПИТАЛА (К 7)                                                                                                                       КАПИТАЛА ОРГАНИЗАЦ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0" name=""/>
                <p:cNvSpPr/>
                <p:nvPr/>
              </p:nvSpPr>
              <p:spPr>
                <a:xfrm>
                  <a:off x="2782800" y="5573880"/>
                  <a:ext cx="520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К 7 =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3414600" y="5675400"/>
                  <a:ext cx="1157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2219400" y="5450040"/>
                  <a:ext cx="0" cy="106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5505480" y="5467320"/>
                  <a:ext cx="0" cy="104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374040" y="6105600"/>
                  <a:ext cx="799740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РЕНТ-ТЬ ПРОДАЖ (К 8)                                   СТР. 050 Ф. № 2                                    СКОЛЬКО ПОЛУЧЕНО ПРИБЫЛ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НА РУБЛЬ ВЫРУЧКИ                                       СТР. 010 Ф. № 2                                                НА РУБЛЬ ВЫРУЧКИ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446040" y="6089760"/>
                  <a:ext cx="8247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2801880" y="6189840"/>
                  <a:ext cx="520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К 8 =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3451320" y="6308640"/>
                  <a:ext cx="1157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/>
          <p:nvPr/>
        </p:nvSpPr>
        <p:spPr>
          <a:xfrm>
            <a:off x="395280" y="1300320"/>
            <a:ext cx="494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28760" y="1614600"/>
            <a:ext cx="832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5521320" y="27792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219400" y="263520"/>
            <a:ext cx="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2205000" y="896760"/>
            <a:ext cx="0" cy="361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505480" y="912960"/>
            <a:ext cx="0" cy="375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412920" y="4878360"/>
            <a:ext cx="830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 flipV="1">
            <a:off x="409680" y="2563920"/>
            <a:ext cx="8318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09680" y="5643720"/>
            <a:ext cx="828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2219400" y="4513320"/>
            <a:ext cx="0" cy="20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5505480" y="4664160"/>
            <a:ext cx="0" cy="188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92040" y="566640"/>
            <a:ext cx="830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28760" y="885960"/>
            <a:ext cx="823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2441520" y="4387680"/>
            <a:ext cx="84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К 13 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057480" y="4532400"/>
            <a:ext cx="220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3171960" y="5281560"/>
            <a:ext cx="112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3191040" y="6064200"/>
            <a:ext cx="1120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317520" y="243000"/>
            <a:ext cx="8542800" cy="6324480"/>
            <a:chOff x="317520" y="243000"/>
            <a:chExt cx="8542800" cy="6324480"/>
          </a:xfrm>
        </p:grpSpPr>
        <p:sp>
          <p:nvSpPr>
            <p:cNvPr id="1626" name=""/>
            <p:cNvSpPr/>
            <p:nvPr/>
          </p:nvSpPr>
          <p:spPr>
            <a:xfrm>
              <a:off x="317520" y="4865760"/>
              <a:ext cx="8219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ТЕПЕНЬ ПЛАТЁЖЕСПО-                                                                                             СРОКИ ВОЗМОЖНОГО ПОГАШЕНИЯ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СОБНОСТИ ПО ТЕКУ-                              СТР. 690 Ф. № 1                                                ТЕКУЩЕЙ ЗАДОЛЖЕННОС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ЩИМ ОБЯЗАТЕЛЬСТВАМ                                 К 1                                                                     ПЕРЕД КРЕДИТОРАМ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 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К 14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7" name=""/>
            <p:cNvGrpSpPr/>
            <p:nvPr/>
          </p:nvGrpSpPr>
          <p:grpSpPr>
            <a:xfrm>
              <a:off x="317880" y="243000"/>
              <a:ext cx="8542440" cy="6324480"/>
              <a:chOff x="317880" y="243000"/>
              <a:chExt cx="8542440" cy="6324480"/>
            </a:xfrm>
          </p:grpSpPr>
          <p:sp>
            <p:nvSpPr>
              <p:cNvPr id="1628" name=""/>
              <p:cNvSpPr/>
              <p:nvPr/>
            </p:nvSpPr>
            <p:spPr>
              <a:xfrm>
                <a:off x="409680" y="566640"/>
                <a:ext cx="8321400" cy="6000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9" name=""/>
              <p:cNvGrpSpPr/>
              <p:nvPr/>
            </p:nvGrpSpPr>
            <p:grpSpPr>
              <a:xfrm>
                <a:off x="317880" y="243000"/>
                <a:ext cx="8542440" cy="6211800"/>
                <a:chOff x="317880" y="243000"/>
                <a:chExt cx="8542440" cy="6211800"/>
              </a:xfrm>
            </p:grpSpPr>
            <p:grpSp>
              <p:nvGrpSpPr>
                <p:cNvPr id="1630" name=""/>
                <p:cNvGrpSpPr/>
                <p:nvPr/>
              </p:nvGrpSpPr>
              <p:grpSpPr>
                <a:xfrm>
                  <a:off x="319320" y="243000"/>
                  <a:ext cx="8541000" cy="3895920"/>
                  <a:chOff x="319320" y="243000"/>
                  <a:chExt cx="8541000" cy="3895920"/>
                </a:xfrm>
              </p:grpSpPr>
              <p:sp>
                <p:nvSpPr>
                  <p:cNvPr id="1631" name=""/>
                  <p:cNvSpPr/>
                  <p:nvPr/>
                </p:nvSpPr>
                <p:spPr>
                  <a:xfrm>
                    <a:off x="1419840" y="608040"/>
                    <a:ext cx="58363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. ПОКАЗАТЕЛИ ПЛАТЁЖЕСПОСОБНОСТИ И ФИНАНСОВОЙ УСТОЙЧИВОСТИ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32" name=""/>
                  <p:cNvGrpSpPr/>
                  <p:nvPr/>
                </p:nvGrpSpPr>
                <p:grpSpPr>
                  <a:xfrm>
                    <a:off x="319320" y="243000"/>
                    <a:ext cx="8541000" cy="3895920"/>
                    <a:chOff x="319320" y="243000"/>
                    <a:chExt cx="8541000" cy="3895920"/>
                  </a:xfrm>
                </p:grpSpPr>
                <p:sp>
                  <p:nvSpPr>
                    <p:cNvPr id="1633" name=""/>
                    <p:cNvSpPr/>
                    <p:nvPr/>
                  </p:nvSpPr>
                  <p:spPr>
                    <a:xfrm>
                      <a:off x="646200" y="268200"/>
                      <a:ext cx="74196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Ь                        АЛГОРИТМ  РАСЧЁТА                               ХАРАКТЕРИ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34" name=""/>
                    <p:cNvGrpSpPr/>
                    <p:nvPr/>
                  </p:nvGrpSpPr>
                  <p:grpSpPr>
                    <a:xfrm>
                      <a:off x="319320" y="831960"/>
                      <a:ext cx="8541000" cy="3306960"/>
                      <a:chOff x="319320" y="831960"/>
                      <a:chExt cx="8541000" cy="3306960"/>
                    </a:xfrm>
                  </p:grpSpPr>
                  <p:grpSp>
                    <p:nvGrpSpPr>
                      <p:cNvPr id="1635" name=""/>
                      <p:cNvGrpSpPr/>
                      <p:nvPr/>
                    </p:nvGrpSpPr>
                    <p:grpSpPr>
                      <a:xfrm>
                        <a:off x="333360" y="831960"/>
                        <a:ext cx="8474400" cy="824040"/>
                        <a:chOff x="333360" y="831960"/>
                        <a:chExt cx="8474400" cy="824040"/>
                      </a:xfrm>
                    </p:grpSpPr>
                    <p:sp>
                      <p:nvSpPr>
                        <p:cNvPr id="1636" name=""/>
                        <p:cNvSpPr/>
                        <p:nvPr/>
                      </p:nvSpPr>
                      <p:spPr>
                        <a:xfrm>
                          <a:off x="333360" y="831960"/>
                          <a:ext cx="8474400" cy="824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СТЕПЕНЬ ПЛАТЁЖЕ-                                    ЗАЁМНЫЕ СРЕДСТВА                 СРОКИ ВОЗМОЖНОГО ПОГАШЕНИЯ ВСЕЙ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СПОСОБНОСТИ                                          (СТР. 590 + СТР. 610) Ф. № 1            КРЕДИТОРСКОЙ ЗАДОЛЖЕННОСТИ, ЕСЛИ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ОБЩАЯ (К 9)                                                                      К 1                                  ВСЮ ВЫРУЧКУ НАПРАВЛЯТЬ НА РАСЧЁТЫ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                                                                                                                                                               </a:t>
                          </a: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С КРЕДИТОРАМИ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37" name=""/>
                        <p:cNvSpPr/>
                        <p:nvPr/>
                      </p:nvSpPr>
                      <p:spPr>
                        <a:xfrm>
                          <a:off x="2406600" y="1101600"/>
                          <a:ext cx="561960" cy="2764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К 9  = 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38" name=""/>
                        <p:cNvSpPr/>
                        <p:nvPr/>
                      </p:nvSpPr>
                      <p:spPr>
                        <a:xfrm>
                          <a:off x="3078000" y="1249200"/>
                          <a:ext cx="192276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39" name=""/>
                      <p:cNvGrpSpPr/>
                      <p:nvPr/>
                    </p:nvGrpSpPr>
                    <p:grpSpPr>
                      <a:xfrm>
                        <a:off x="357120" y="1600200"/>
                        <a:ext cx="8503200" cy="1006560"/>
                        <a:chOff x="357120" y="1600200"/>
                        <a:chExt cx="8503200" cy="1006560"/>
                      </a:xfrm>
                    </p:grpSpPr>
                    <p:sp>
                      <p:nvSpPr>
                        <p:cNvPr id="1640" name=""/>
                        <p:cNvSpPr/>
                        <p:nvPr/>
                      </p:nvSpPr>
                      <p:spPr>
                        <a:xfrm>
                          <a:off x="357120" y="1600200"/>
                          <a:ext cx="8503200" cy="100656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КОЭФФИЦИЕНТ                                                                                                      УМЕНЬШЕНИЕ ЕГО УРОВНЯ ХАРАКТЕРИ-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ЗАДОЛЖЕННОСТИ ПО                             (СТР. 590 + СТР. 610) Ф. № 1           ЗУЕТ ПЕРЕНОС СТРУКТУРЫ ДОЛГОВ В СТО-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КРЕДИТАМ (К 10)                                                             К 1                                  РОНУ ТОВАРНЫХ КРЕДИТОВ, НЕПЛАТЕ-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                                                                                                                                    </a:t>
                          </a: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ЖЕЙ  БЮДЖЕТУ И ПО ВНУТРЕННИМ ДОЛ-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                                                                                                                                    </a:t>
                          </a: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ГАМ, ЧТО ОЦЕНИВАЕТСЯ ОТРИЦАТЕЛЬНО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1" name=""/>
                        <p:cNvSpPr/>
                        <p:nvPr/>
                      </p:nvSpPr>
                      <p:spPr>
                        <a:xfrm>
                          <a:off x="2406600" y="1886040"/>
                          <a:ext cx="841320" cy="2764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К 10  = 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2" name=""/>
                        <p:cNvSpPr/>
                        <p:nvPr/>
                      </p:nvSpPr>
                      <p:spPr>
                        <a:xfrm>
                          <a:off x="3078000" y="2016000"/>
                          <a:ext cx="19796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43" name=""/>
                      <p:cNvGrpSpPr/>
                      <p:nvPr/>
                    </p:nvGrpSpPr>
                    <p:grpSpPr>
                      <a:xfrm>
                        <a:off x="335160" y="2530440"/>
                        <a:ext cx="8291520" cy="824040"/>
                        <a:chOff x="335160" y="2530440"/>
                        <a:chExt cx="8291520" cy="824040"/>
                      </a:xfrm>
                    </p:grpSpPr>
                    <p:sp>
                      <p:nvSpPr>
                        <p:cNvPr id="1644" name=""/>
                        <p:cNvSpPr/>
                        <p:nvPr/>
                      </p:nvSpPr>
                      <p:spPr>
                        <a:xfrm>
                          <a:off x="335160" y="2530440"/>
                          <a:ext cx="8291520" cy="824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КОЭФФИЦИЕНТ ЗАДОЛ-                                                                                        ПОВЫШЕНИЕ ЕГО УРОВНЯ ХАРАКТЕРИ-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ЖЕННОСТИ ПО ДРУГИМ                         (СТР.621 + СТР. 625) Ф. № 1             ЗУЕТ УВЕЛИЧЕНИЕ УДЕЛЬНОГО ВЕСА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ОРГАНИЗАЦИЯМ (К 11)                                                   К1                                   ТОВАРНЫХ РЕДИТОВ В ОБЩЕЙ СУММЕ 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                                                                                                                                                                   </a:t>
                          </a: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ДОЛГОВ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5" name=""/>
                        <p:cNvSpPr/>
                        <p:nvPr/>
                      </p:nvSpPr>
                      <p:spPr>
                        <a:xfrm>
                          <a:off x="2406600" y="2817720"/>
                          <a:ext cx="841320" cy="2764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К 11  = 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6" name=""/>
                        <p:cNvSpPr/>
                        <p:nvPr/>
                      </p:nvSpPr>
                      <p:spPr>
                        <a:xfrm>
                          <a:off x="3097080" y="2948040"/>
                          <a:ext cx="197964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647" name=""/>
                      <p:cNvSpPr/>
                      <p:nvPr/>
                    </p:nvSpPr>
                    <p:spPr>
                      <a:xfrm>
                        <a:off x="407880" y="3311640"/>
                        <a:ext cx="83217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648" name=""/>
                      <p:cNvGrpSpPr/>
                      <p:nvPr/>
                    </p:nvGrpSpPr>
                    <p:grpSpPr>
                      <a:xfrm>
                        <a:off x="319320" y="3314880"/>
                        <a:ext cx="8417880" cy="824040"/>
                        <a:chOff x="319320" y="3314880"/>
                        <a:chExt cx="8417880" cy="824040"/>
                      </a:xfrm>
                    </p:grpSpPr>
                    <p:sp>
                      <p:nvSpPr>
                        <p:cNvPr id="1649" name=""/>
                        <p:cNvSpPr/>
                        <p:nvPr/>
                      </p:nvSpPr>
                      <p:spPr>
                        <a:xfrm>
                          <a:off x="319320" y="3314880"/>
                          <a:ext cx="8417880" cy="8240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КОЭФФИЦИЕНТ ЗАДОЛ-                                                                                          ПОВЫШЕНИЕ ЕГО УРОВНЯ ХАРАКТЕРИ-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ЖЕННОСТИ ФИСКАЛЬ-                             (СТР. 623 + СТР. 624) Ф. № 1           ЗУЕТ УВЕЛИЧЕНИЕ УДЕЛЬНОГО ВЕСА ЗА-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НОЙ СИСТЕМЕ (К 12)                                                       К 1                                        ДОЛЖЕННОСТИ БЮДЖЕТУ В ОБЩЕЙ 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                                                                                                                                                                </a:t>
                          </a: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СУММЕ ДОЛГОВ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50" name=""/>
                        <p:cNvSpPr/>
                        <p:nvPr/>
                      </p:nvSpPr>
                      <p:spPr>
                        <a:xfrm>
                          <a:off x="2425680" y="3584520"/>
                          <a:ext cx="841320" cy="2764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0" lang="en-US" sz="1200" spc="-1" strike="noStrike">
                              <a:solidFill>
                                <a:srgbClr val="000000"/>
                              </a:solidFill>
                              <a:latin typeface="Times New Roman"/>
                            </a:rPr>
                            <a:t>К 12  = 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51" name=""/>
                        <p:cNvSpPr/>
                        <p:nvPr/>
                      </p:nvSpPr>
                      <p:spPr>
                        <a:xfrm>
                          <a:off x="3114720" y="3730680"/>
                          <a:ext cx="194292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652" name=""/>
                      <p:cNvSpPr/>
                      <p:nvPr/>
                    </p:nvSpPr>
                    <p:spPr>
                      <a:xfrm>
                        <a:off x="407880" y="4094280"/>
                        <a:ext cx="83044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53" name=""/>
                    <p:cNvSpPr/>
                    <p:nvPr/>
                  </p:nvSpPr>
                  <p:spPr>
                    <a:xfrm>
                      <a:off x="428760" y="243000"/>
                      <a:ext cx="83041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4" name=""/>
                    <p:cNvSpPr/>
                    <p:nvPr/>
                  </p:nvSpPr>
                  <p:spPr>
                    <a:xfrm flipV="1">
                      <a:off x="392040" y="243000"/>
                      <a:ext cx="0" cy="317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5" name=""/>
                    <p:cNvSpPr/>
                    <p:nvPr/>
                  </p:nvSpPr>
                  <p:spPr>
                    <a:xfrm flipV="1">
                      <a:off x="8715240" y="243000"/>
                      <a:ext cx="0" cy="3175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656" name=""/>
                <p:cNvGrpSpPr/>
                <p:nvPr/>
              </p:nvGrpSpPr>
              <p:grpSpPr>
                <a:xfrm>
                  <a:off x="317880" y="4100400"/>
                  <a:ext cx="8349480" cy="2354400"/>
                  <a:chOff x="317880" y="4100400"/>
                  <a:chExt cx="8349480" cy="2354400"/>
                </a:xfrm>
              </p:grpSpPr>
              <p:sp>
                <p:nvSpPr>
                  <p:cNvPr id="1657" name=""/>
                  <p:cNvSpPr/>
                  <p:nvPr/>
                </p:nvSpPr>
                <p:spPr>
                  <a:xfrm>
                    <a:off x="317880" y="4100400"/>
                    <a:ext cx="834948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КОЭФФИЦИЕНТ ВНУТ-                          (СТР. 622 + СТР. 630 + СТР. 640 +      ПОВЫШЕНИЕ ЕГО УРОВНЯ ХАРАКТЕРИ-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РЕННЕГО  ДОЛГА (К 13)                           + СТР. 650 + СТР. 660) Ф. № 1           ЗУЕТ УВЕЛИЧЕНИЕ УДЕЛЬНОГО ВЕСА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                                                                             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К 1                                   ВНУТРЕННЕГО ДОЛГА В ОБЩЕЙ СУММЕ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                                                                                                                           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ДОЛГОВ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8" name=""/>
                  <p:cNvSpPr/>
                  <p:nvPr/>
                </p:nvSpPr>
                <p:spPr>
                  <a:xfrm>
                    <a:off x="2485800" y="5126040"/>
                    <a:ext cx="5968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К 14 =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9" name=""/>
                  <p:cNvSpPr/>
                  <p:nvPr/>
                </p:nvSpPr>
                <p:spPr>
                  <a:xfrm>
                    <a:off x="320040" y="5630760"/>
                    <a:ext cx="825624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КОЭФФИЦИЕНТ ПОКРЫ-                                                                                          ПОКАЗЫВАЕТ, НАСКОЛЬКО ТЕКУЩИЕ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ТИЯ ТЕКУЩИХ ОБЯЗА-                              СТР. 290 Ф. № 1                                      ОБЯЗАТЕЛЬСТВА ПОКРЫВАЮТСЯ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ТЕЛЬСТВ ОБОРОТНЫМИ                           СТР. 690 Ф. № 1                                              ОБОРОТНЫМИ АКТИВАМИ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АКТИВАМИ (К 15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0" name=""/>
                  <p:cNvSpPr/>
                  <p:nvPr/>
                </p:nvSpPr>
                <p:spPr>
                  <a:xfrm>
                    <a:off x="2484360" y="5891040"/>
                    <a:ext cx="5968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К 15 =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44928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880" y="127080"/>
            <a:ext cx="839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ТОДИКА ФАКТОРНОГО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2880" y="944640"/>
            <a:ext cx="88711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АКТОРНЫЙ АНАЛИЗ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– КОМПЛЕКСНОЕ И СИСТЕМАТИЧЕСКОЕ ИЗУЧЕНИЕ И ИЗМЕРЕНИЕ     ВОЗДЕЙСТВИЯ ФАКТОРОВ НА ВЕЛИЧИНУ РЕЗУЛЬТАТИВНЫХ ПОАКЗАТЕЛ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ЗАДАЧИ АНАЛИЗ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ОТБОР ФАКТОРОВ ДЛЯ АНАЛИЗА ИССЛЕДУЕМЫХ ПОКАЗАТЕЛЕЙ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КЛАССИФИКАЦИЯ ФАКТОРОВ С ЦЕЛЬЮ ОБЕСПЕЧЕНИЯ СИСТЕМНОГО ПОДХОД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МОДЕЛИРОВАНИЕ ВЯЗЕЙ МЕЖДУ РЕЗУЛЬТАТИВНЫМИ И ФАКТОРНЫМИ ПОКАЗАТЕЛЯМ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РАСЧЕТ ВЛИЯНИЯ ФАКТОРОВ И ОЦЕНКА РОЛИ КАЖДОГО ИЗ НИХ В ИЗМЕНЕНИИ ВЕЛИЧИНЫ РЕЗУЛЬТАТИВНОГО ПОКАЗАТЕЛЯ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ПРАКТИЧЕСКОЕ ИСПОЛЬЗОВАНИЕ ФАКТОРНОЙ МОДЕЛИ ДЛЯ УПРАВЛЕНИЯ ЭКОНОМИЧЕС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ИМИ ПРОЦЕССАМ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83440" y="4159080"/>
            <a:ext cx="2450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ТАТИЧЕСКИ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ИНАМИЧЕ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5132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ТИПЫ ФАКТОРНОГО АНАЛИ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38560" y="5462640"/>
            <a:ext cx="3695760" cy="93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РЕТРОСПЕКТИВ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ЕРСПЕКТИВНЫ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81560" y="4119480"/>
            <a:ext cx="2528640" cy="9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РЯМО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ДЕДУКТИВНЫЙ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БРАТЫ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ИНДУКТИВНЫЙ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7840" y="4119480"/>
            <a:ext cx="2741400" cy="92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ЕТЕРМИНИРОВАН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ФУНКЦИОНАЛЬНЫЙ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ТОХАСТИЧЕ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КОРРЕЛЯЦИОННЫЙ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47840" y="5467320"/>
            <a:ext cx="41637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ДНОСТУПЕНЧАТ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МНОГОСТУПЕНЧАТ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59080" y="3944880"/>
            <a:ext cx="632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59080" y="3949560"/>
            <a:ext cx="0" cy="15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9360" y="3949560"/>
            <a:ext cx="0" cy="17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43960" y="3930480"/>
            <a:ext cx="1908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27920" y="3949560"/>
            <a:ext cx="0" cy="149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303720" y="3951360"/>
            <a:ext cx="2880" cy="153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"/>
          <p:cNvSpPr/>
          <p:nvPr/>
        </p:nvSpPr>
        <p:spPr>
          <a:xfrm flipV="1">
            <a:off x="2217600" y="243000"/>
            <a:ext cx="0" cy="207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 flipV="1">
            <a:off x="5521320" y="24264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07880" y="1166760"/>
            <a:ext cx="8307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3060720" y="1380960"/>
            <a:ext cx="1959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411120" y="4616280"/>
            <a:ext cx="828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V="1">
            <a:off x="2219400" y="3975120"/>
            <a:ext cx="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706840" y="4218120"/>
            <a:ext cx="272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931320" y="4602240"/>
            <a:ext cx="703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ПОКАЗАТЕЛИ ИСПОЛНЕНИЯ ОБЯЗАТЕЛЬСТВ ПЕРЕД БЮДЖЕТОМ И ГОСУДАРСТВЕННЫ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ЕБЮДЖЕТНЫМИ ФОНД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353160" y="243000"/>
            <a:ext cx="9063000" cy="6324480"/>
            <a:chOff x="353160" y="243000"/>
            <a:chExt cx="9063000" cy="6324480"/>
          </a:xfrm>
        </p:grpSpPr>
        <p:sp>
          <p:nvSpPr>
            <p:cNvPr id="1670" name=""/>
            <p:cNvSpPr/>
            <p:nvPr/>
          </p:nvSpPr>
          <p:spPr>
            <a:xfrm>
              <a:off x="428760" y="243000"/>
              <a:ext cx="83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V="1">
              <a:off x="392040" y="24300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V="1">
              <a:off x="8715240" y="243000"/>
              <a:ext cx="0" cy="3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11120" y="2619360"/>
              <a:ext cx="830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4" name=""/>
            <p:cNvGrpSpPr/>
            <p:nvPr/>
          </p:nvGrpSpPr>
          <p:grpSpPr>
            <a:xfrm>
              <a:off x="353160" y="268200"/>
              <a:ext cx="9063000" cy="6299280"/>
              <a:chOff x="353160" y="268200"/>
              <a:chExt cx="9063000" cy="6299280"/>
            </a:xfrm>
          </p:grpSpPr>
          <p:sp>
            <p:nvSpPr>
              <p:cNvPr id="1675" name=""/>
              <p:cNvSpPr/>
              <p:nvPr/>
            </p:nvSpPr>
            <p:spPr>
              <a:xfrm>
                <a:off x="428760" y="5075280"/>
                <a:ext cx="832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6" name=""/>
              <p:cNvGrpSpPr/>
              <p:nvPr/>
            </p:nvGrpSpPr>
            <p:grpSpPr>
              <a:xfrm>
                <a:off x="353160" y="268200"/>
                <a:ext cx="9063000" cy="6299280"/>
                <a:chOff x="353160" y="268200"/>
                <a:chExt cx="9063000" cy="6299280"/>
              </a:xfrm>
            </p:grpSpPr>
            <p:sp>
              <p:nvSpPr>
                <p:cNvPr id="1677" name=""/>
                <p:cNvSpPr/>
                <p:nvPr/>
              </p:nvSpPr>
              <p:spPr>
                <a:xfrm>
                  <a:off x="409680" y="566640"/>
                  <a:ext cx="8321400" cy="60008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8" name=""/>
                <p:cNvGrpSpPr/>
                <p:nvPr/>
              </p:nvGrpSpPr>
              <p:grpSpPr>
                <a:xfrm>
                  <a:off x="353160" y="268200"/>
                  <a:ext cx="9063000" cy="6193080"/>
                  <a:chOff x="353160" y="268200"/>
                  <a:chExt cx="9063000" cy="6193080"/>
                </a:xfrm>
              </p:grpSpPr>
              <p:sp>
                <p:nvSpPr>
                  <p:cNvPr id="1679" name=""/>
                  <p:cNvSpPr/>
                  <p:nvPr/>
                </p:nvSpPr>
                <p:spPr>
                  <a:xfrm>
                    <a:off x="646200" y="268200"/>
                    <a:ext cx="74196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</a:t>
                    </a: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ПОКАЗАТЕЛЬ                        АЛГОРИТМ  РАСЧЁТА                               ХАРАКТЕРИСТИКА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80" name=""/>
                  <p:cNvGrpSpPr/>
                  <p:nvPr/>
                </p:nvGrpSpPr>
                <p:grpSpPr>
                  <a:xfrm>
                    <a:off x="354240" y="555480"/>
                    <a:ext cx="9061920" cy="1833840"/>
                    <a:chOff x="354240" y="555480"/>
                    <a:chExt cx="9061920" cy="1833840"/>
                  </a:xfrm>
                </p:grpSpPr>
                <p:grpSp>
                  <p:nvGrpSpPr>
                    <p:cNvPr id="1681" name=""/>
                    <p:cNvGrpSpPr/>
                    <p:nvPr/>
                  </p:nvGrpSpPr>
                  <p:grpSpPr>
                    <a:xfrm>
                      <a:off x="381600" y="555480"/>
                      <a:ext cx="9034560" cy="1236960"/>
                      <a:chOff x="381600" y="555480"/>
                      <a:chExt cx="9034560" cy="1236960"/>
                    </a:xfrm>
                  </p:grpSpPr>
                  <p:sp>
                    <p:nvSpPr>
                      <p:cNvPr id="1682" name=""/>
                      <p:cNvSpPr/>
                      <p:nvPr/>
                    </p:nvSpPr>
                    <p:spPr>
                      <a:xfrm>
                        <a:off x="381600" y="555480"/>
                        <a:ext cx="8404200" cy="641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СОБСТВЕННЫЙ КАПИ-                                                                                          ОТСУТСТВИЕ ЕГО ПОКАЗЫВАЕТ, ЧТО ВСЕ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ТАЛ В ОБОРОТЕ (К 16              К 16  =  (СТР. 490 – СТР. 190) Ф. № 1 )               ОБОРОТНЫЕ АКТИВЫ СФОРМИРОВАНЫ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                                                                                                                                                  </a:t>
                        </a: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ЗА СЧЁТ ЗАЁМНЫХ СРЕДСТВ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3" name=""/>
                      <p:cNvSpPr/>
                      <p:nvPr/>
                    </p:nvSpPr>
                    <p:spPr>
                      <a:xfrm>
                        <a:off x="396360" y="1150920"/>
                        <a:ext cx="9019800" cy="641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ДОЛЯ СОБСТВЕННОГО                         (СТР. 490 – СТР. 190) Ф. № 1                    ОПРЕДЕЛЯЕТ СТЕПЕНЬ ОБЕСПЕЧЕН-                      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КАПИТАЛА В ОБОРОТ-                                 СТР. 290 Ф. № 1                              НОСТИ ОРГАНИЗАЦИИ СОБСТВЕННЫМИ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НЫХ АКТИВАХ (К 17)                                                                                                          ОБОРОТНЫМИ СРЕДСТВАМИ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4" name=""/>
                      <p:cNvSpPr/>
                      <p:nvPr/>
                    </p:nvSpPr>
                    <p:spPr>
                      <a:xfrm>
                        <a:off x="2466720" y="1262160"/>
                        <a:ext cx="635040" cy="27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К 17  =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85" name=""/>
                      <p:cNvSpPr/>
                      <p:nvPr/>
                    </p:nvSpPr>
                    <p:spPr>
                      <a:xfrm>
                        <a:off x="411120" y="1754280"/>
                        <a:ext cx="83232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686" name=""/>
                    <p:cNvSpPr/>
                    <p:nvPr/>
                  </p:nvSpPr>
                  <p:spPr>
                    <a:xfrm>
                      <a:off x="354240" y="1747800"/>
                      <a:ext cx="8413200" cy="641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                                         СТР. 490 Ф. № 1                                    ПОКАЗЫВАЕТ, КАКАЯ  ЧАСТЬ АКТИВ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НАНСОВОЙ                                           СТР. 300 Ф. № 1                                  СФОРМИРОВАНА ЗА СЧЁТ СОБСТВЕННЫ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НОМИИ (К 18)                                                                                                                СРЕДСТВ 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7" name=""/>
                    <p:cNvSpPr/>
                    <p:nvPr/>
                  </p:nvSpPr>
                  <p:spPr>
                    <a:xfrm>
                      <a:off x="2466720" y="1859040"/>
                      <a:ext cx="635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18 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8" name=""/>
                    <p:cNvSpPr/>
                    <p:nvPr/>
                  </p:nvSpPr>
                  <p:spPr>
                    <a:xfrm>
                      <a:off x="3133800" y="1978200"/>
                      <a:ext cx="112068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89" name=""/>
                    <p:cNvSpPr/>
                    <p:nvPr/>
                  </p:nvSpPr>
                  <p:spPr>
                    <a:xfrm>
                      <a:off x="411120" y="2338560"/>
                      <a:ext cx="828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690" name=""/>
                  <p:cNvSpPr/>
                  <p:nvPr/>
                </p:nvSpPr>
                <p:spPr>
                  <a:xfrm>
                    <a:off x="1584000" y="2346480"/>
                    <a:ext cx="49964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5. ПОКАЗАТЕЛИ ИНТЕНСИФИКАЦИИ ПРОЦЕССА ПРОИЗВОДСТВА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691" name=""/>
                  <p:cNvGrpSpPr/>
                  <p:nvPr/>
                </p:nvGrpSpPr>
                <p:grpSpPr>
                  <a:xfrm>
                    <a:off x="353160" y="2612880"/>
                    <a:ext cx="8372520" cy="1068840"/>
                    <a:chOff x="353160" y="2612880"/>
                    <a:chExt cx="8372520" cy="1068840"/>
                  </a:xfrm>
                </p:grpSpPr>
                <p:sp>
                  <p:nvSpPr>
                    <p:cNvPr id="1692" name=""/>
                    <p:cNvSpPr/>
                    <p:nvPr/>
                  </p:nvSpPr>
                  <p:spPr>
                    <a:xfrm>
                      <a:off x="353160" y="2625840"/>
                      <a:ext cx="8347680" cy="641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НЕМЕСЯЧНАЯ                                                    К 1                                        ХАРАКТЕРИЗУЕТ УРОВЕНЬ ПРОИЗВОДИ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РАБОТКА НА ОДНО-                                             К 3                                        ТЕЛЬНОСТИ (ИНТЕНСИВНОСТИ) ТРУ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 РАБОТНИКА (К 19)                                                                                                           РАБОТНИКОВ ПРЕДПРИ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3" name=""/>
                    <p:cNvSpPr/>
                    <p:nvPr/>
                  </p:nvSpPr>
                  <p:spPr>
                    <a:xfrm>
                      <a:off x="3136680" y="2717640"/>
                      <a:ext cx="635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19 =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4" name=""/>
                    <p:cNvSpPr/>
                    <p:nvPr/>
                  </p:nvSpPr>
                  <p:spPr>
                    <a:xfrm>
                      <a:off x="3805200" y="2857680"/>
                      <a:ext cx="2811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5" name=""/>
                    <p:cNvSpPr/>
                    <p:nvPr/>
                  </p:nvSpPr>
                  <p:spPr>
                    <a:xfrm>
                      <a:off x="2216160" y="2612880"/>
                      <a:ext cx="0" cy="1044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6" name=""/>
                    <p:cNvSpPr/>
                    <p:nvPr/>
                  </p:nvSpPr>
                  <p:spPr>
                    <a:xfrm>
                      <a:off x="5519880" y="2612880"/>
                      <a:ext cx="0" cy="1044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7" name=""/>
                    <p:cNvSpPr/>
                    <p:nvPr/>
                  </p:nvSpPr>
                  <p:spPr>
                    <a:xfrm>
                      <a:off x="411120" y="3235320"/>
                      <a:ext cx="8286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8" name=""/>
                    <p:cNvSpPr/>
                    <p:nvPr/>
                  </p:nvSpPr>
                  <p:spPr>
                    <a:xfrm>
                      <a:off x="354960" y="3222720"/>
                      <a:ext cx="8370720" cy="459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ОВАЯ ОТДАЧА                                                К 1                                             ХАРАКТЕРИЗУЕТ ИНТЕНСИВ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К 20)                                                     СТР. 190 Ф. № 1                             ИСПОЛЬЗОВАНИЯ ОСНОВНЫХ СРЕДСТ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99" name=""/>
                    <p:cNvSpPr/>
                    <p:nvPr/>
                  </p:nvSpPr>
                  <p:spPr>
                    <a:xfrm>
                      <a:off x="2746080" y="3316320"/>
                      <a:ext cx="635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20 =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0" name=""/>
                    <p:cNvSpPr/>
                    <p:nvPr/>
                  </p:nvSpPr>
                  <p:spPr>
                    <a:xfrm>
                      <a:off x="3451320" y="3460680"/>
                      <a:ext cx="108252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1" name=""/>
                    <p:cNvSpPr/>
                    <p:nvPr/>
                  </p:nvSpPr>
                  <p:spPr>
                    <a:xfrm>
                      <a:off x="392040" y="3664080"/>
                      <a:ext cx="8323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02" name=""/>
                  <p:cNvSpPr/>
                  <p:nvPr/>
                </p:nvSpPr>
                <p:spPr>
                  <a:xfrm>
                    <a:off x="1512000" y="3689280"/>
                    <a:ext cx="51580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6. ПОКАЗАТЕЛИ ИНВЕСТИЦИОННОЙ АКТИВНОСТИ ОРГАНИЗАЦИИ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03" name=""/>
                  <p:cNvGrpSpPr/>
                  <p:nvPr/>
                </p:nvGrpSpPr>
                <p:grpSpPr>
                  <a:xfrm>
                    <a:off x="356760" y="3975120"/>
                    <a:ext cx="8395200" cy="673200"/>
                    <a:chOff x="356760" y="3975120"/>
                    <a:chExt cx="8395200" cy="673200"/>
                  </a:xfrm>
                </p:grpSpPr>
                <p:sp>
                  <p:nvSpPr>
                    <p:cNvPr id="1704" name=""/>
                    <p:cNvSpPr/>
                    <p:nvPr/>
                  </p:nvSpPr>
                  <p:spPr>
                    <a:xfrm>
                      <a:off x="428760" y="3981600"/>
                      <a:ext cx="8323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5" name=""/>
                    <p:cNvSpPr/>
                    <p:nvPr/>
                  </p:nvSpPr>
                  <p:spPr>
                    <a:xfrm>
                      <a:off x="5522760" y="3975120"/>
                      <a:ext cx="0" cy="6332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6" name=""/>
                    <p:cNvSpPr/>
                    <p:nvPr/>
                  </p:nvSpPr>
                  <p:spPr>
                    <a:xfrm>
                      <a:off x="356760" y="4006800"/>
                      <a:ext cx="8241120" cy="641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                              (СТР. 130 + СТР. 135 + СТР. 140) Ф. № 1       ХАРАКТЕРИЗУЕТ ИНВЕСТИЦИО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ВЕСТИЦИОННОЙ                                      СТР. 190 Ф. № 1                                          АКТИВНОСТЬ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КТИВНОСТИ (К 2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07" name=""/>
                    <p:cNvSpPr/>
                    <p:nvPr/>
                  </p:nvSpPr>
                  <p:spPr>
                    <a:xfrm>
                      <a:off x="2147760" y="4079880"/>
                      <a:ext cx="6728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 21 =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08" name=""/>
                  <p:cNvSpPr/>
                  <p:nvPr/>
                </p:nvSpPr>
                <p:spPr>
                  <a:xfrm>
                    <a:off x="389880" y="5089680"/>
                    <a:ext cx="8251920" cy="1371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КОЭФФИЦИЕНТЫ ИСПОЛНЕНИЯ ТЕКУЩИХ ОБЯЗАТЕЛЬСТВ ПЕРЕД ФЕДЕРАЛЬНЫМ БЮДЖЕТОМ (К 22),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БЮДЖЕТОМ СУБЪЕКТА РФ (К 23), МЕСТНЫМ БЮДЖЕТОМ (К 24), ГОСУДАРСТВЕННЫМИ НЕБЮДЖЕТНЫМИ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ФОНДАМИ (К 25) И ПЕНСИОННЫМ ФОНДОМ РФ (К 26) ОПРЕДЕЛЯЮТСЯ КАК ОТНОШЕНИЕ ВЕЛИЧИНЫ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УПЛАЧЕННЫХ НАЛОГОВ (ВЗНОСОВ) К ВЕЛИЧИНЕ НАЧИСЛЕННЫХ НАЛОГОВ (ВЗНОСОВ) ЗА ТОТ ЖЕ ПЕРИОД: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                                    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НАЛОГИ (ВЗНОСЫ) УПЛАЧЕННЫЕ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                                              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НАЛОГИ (ВЗНОСЫ) НАЧИСЛЕННЫЕ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09" name=""/>
                  <p:cNvSpPr/>
                  <p:nvPr/>
                </p:nvSpPr>
                <p:spPr>
                  <a:xfrm>
                    <a:off x="1943280" y="6097680"/>
                    <a:ext cx="5252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К </a:t>
                    </a:r>
                    <a:r>
                      <a:rPr b="0" i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</a:t>
                    </a:r>
                    <a:r>
                      <a:rPr b="0" i="1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</a:t>
                    </a:r>
                    <a:r>
                      <a:rPr b="0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=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0" name=""/>
                  <p:cNvSpPr/>
                  <p:nvPr/>
                </p:nvSpPr>
                <p:spPr>
                  <a:xfrm>
                    <a:off x="2463840" y="6232680"/>
                    <a:ext cx="26114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"/>
          <p:cNvSpPr/>
          <p:nvPr/>
        </p:nvSpPr>
        <p:spPr>
          <a:xfrm>
            <a:off x="689760" y="263520"/>
            <a:ext cx="75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ГРУППИРОВКА ПРЕДПРИЯТИЙ ПО УРОВНЮ ПЛАТЕЖЕСПОСОБ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2" name=""/>
          <p:cNvGraphicFramePr/>
          <p:nvPr/>
        </p:nvGraphicFramePr>
        <p:xfrm>
          <a:off x="447840" y="836640"/>
          <a:ext cx="8366040" cy="5783400"/>
        </p:xfrm>
        <a:graphic>
          <a:graphicData uri="http://schemas.openxmlformats.org/drawingml/2006/table">
            <a:tbl>
              <a:tblPr/>
              <a:tblGrid>
                <a:gridCol w="1895400"/>
                <a:gridCol w="1301760"/>
                <a:gridCol w="1301760"/>
                <a:gridCol w="1280880"/>
                <a:gridCol w="1246320"/>
                <a:gridCol w="1339920"/>
              </a:tblGrid>
              <a:tr h="3974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НИЦЫ КЛАССОВ СОГЛАСНО КРИТЕРИЯ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НТАБЕЛЬНОСТЬ СОВОКУПНОГО КАПИТ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ВЫШЕ (50 БАЛЛ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9 - 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9,9 - 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,9 - 1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4,9 - 2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9 - 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9,9 - 5 БАЛЛ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ЕЕ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 БАЛЛ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 ТЕКУЩ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ИКВИД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ВЫШ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30 БАЛЛ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99 – 1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9,9 - 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69 – 1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9,9 -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4 – 1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9,9 - 1 БАЛ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И НИЖ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 БАЛЛ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ЭФФИЦИЕНТ ФИНАНСОВОЙ НЕЗАВИСИМ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ВЫШ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0 БАЛЛ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69 – 0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9,9 -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44 – 0,30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9,9 -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9 – 0,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5 -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ЕЕ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2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 БАЛЛ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НИЦЫ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 ВЫШ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 - 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 - 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 -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ЛЛ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"/>
          <p:cNvSpPr/>
          <p:nvPr/>
        </p:nvSpPr>
        <p:spPr>
          <a:xfrm>
            <a:off x="0" y="233280"/>
            <a:ext cx="914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ТИПЫ  ПРОЦЕДУР  И ФОРМЫ ФИНАНСОВОГО ОЗДОРОВЛЕНИЯ  НЕСОСТОЯТЕЛЬНЫХ ПРЕДПРИЯТ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4" name=""/>
          <p:cNvGrpSpPr/>
          <p:nvPr/>
        </p:nvGrpSpPr>
        <p:grpSpPr>
          <a:xfrm>
            <a:off x="720" y="885960"/>
            <a:ext cx="8732160" cy="5179680"/>
            <a:chOff x="720" y="885960"/>
            <a:chExt cx="8732160" cy="5179680"/>
          </a:xfrm>
        </p:grpSpPr>
        <p:grpSp>
          <p:nvGrpSpPr>
            <p:cNvPr id="1715" name=""/>
            <p:cNvGrpSpPr/>
            <p:nvPr/>
          </p:nvGrpSpPr>
          <p:grpSpPr>
            <a:xfrm>
              <a:off x="615600" y="885960"/>
              <a:ext cx="1997280" cy="531720"/>
              <a:chOff x="615600" y="885960"/>
              <a:chExt cx="1997280" cy="531720"/>
            </a:xfrm>
          </p:grpSpPr>
          <p:sp>
            <p:nvSpPr>
              <p:cNvPr id="1716" name=""/>
              <p:cNvSpPr/>
              <p:nvPr/>
            </p:nvSpPr>
            <p:spPr>
              <a:xfrm>
                <a:off x="615960" y="885960"/>
                <a:ext cx="1996920" cy="531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615600" y="885960"/>
                <a:ext cx="1953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РЕШЕНИЕ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АРБИТРАЖНОГО СУД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8" name=""/>
            <p:cNvGrpSpPr/>
            <p:nvPr/>
          </p:nvGrpSpPr>
          <p:grpSpPr>
            <a:xfrm>
              <a:off x="2539080" y="885960"/>
              <a:ext cx="2386440" cy="531720"/>
              <a:chOff x="2539080" y="885960"/>
              <a:chExt cx="2386440" cy="531720"/>
            </a:xfrm>
          </p:grpSpPr>
          <p:sp>
            <p:nvSpPr>
              <p:cNvPr id="1719" name=""/>
              <p:cNvSpPr/>
              <p:nvPr/>
            </p:nvSpPr>
            <p:spPr>
              <a:xfrm>
                <a:off x="2928600" y="885960"/>
                <a:ext cx="1996920" cy="531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2539080" y="885960"/>
                <a:ext cx="2337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НЕСОСТОЯТЕЛЬНОСТЬ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             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ДОЛЖНИК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5187960" y="885960"/>
              <a:ext cx="3341520" cy="531720"/>
              <a:chOff x="5187960" y="885960"/>
              <a:chExt cx="3341520" cy="531720"/>
            </a:xfrm>
          </p:grpSpPr>
          <p:sp>
            <p:nvSpPr>
              <p:cNvPr id="1722" name=""/>
              <p:cNvSpPr/>
              <p:nvPr/>
            </p:nvSpPr>
            <p:spPr>
              <a:xfrm>
                <a:off x="5187960" y="885960"/>
                <a:ext cx="3341520" cy="531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5277960" y="885960"/>
                <a:ext cx="32515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ОФИЦИАЛЬНОЕ ЗАЯВЛЕНИЕ  ДОЛЖНИК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О  ДОБРОВОЛЬНОЙ  ЛИКВИДАЦИИ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4" name=""/>
            <p:cNvGrpSpPr/>
            <p:nvPr/>
          </p:nvGrpSpPr>
          <p:grpSpPr>
            <a:xfrm>
              <a:off x="3618000" y="2639880"/>
              <a:ext cx="1996920" cy="641520"/>
              <a:chOff x="3618000" y="2639880"/>
              <a:chExt cx="1996920" cy="641520"/>
            </a:xfrm>
          </p:grpSpPr>
          <p:sp>
            <p:nvSpPr>
              <p:cNvPr id="1725" name=""/>
              <p:cNvSpPr/>
              <p:nvPr/>
            </p:nvSpPr>
            <p:spPr>
              <a:xfrm>
                <a:off x="3618000" y="2639880"/>
                <a:ext cx="1996920" cy="635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728880" y="2639880"/>
                <a:ext cx="181620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ПРИНУДИТЕЛЬНА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ЛИКВИДАЦ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ПО РЕШЕНИЮ СУДА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720" y="1779480"/>
              <a:ext cx="8732160" cy="550800"/>
              <a:chOff x="720" y="1779480"/>
              <a:chExt cx="8732160" cy="550800"/>
            </a:xfrm>
          </p:grpSpPr>
          <p:grpSp>
            <p:nvGrpSpPr>
              <p:cNvPr id="1728" name=""/>
              <p:cNvGrpSpPr/>
              <p:nvPr/>
            </p:nvGrpSpPr>
            <p:grpSpPr>
              <a:xfrm>
                <a:off x="720" y="1779480"/>
                <a:ext cx="2405880" cy="531720"/>
                <a:chOff x="720" y="1779480"/>
                <a:chExt cx="2405880" cy="531720"/>
              </a:xfrm>
            </p:grpSpPr>
            <p:sp>
              <p:nvSpPr>
                <p:cNvPr id="1729" name=""/>
                <p:cNvSpPr/>
                <p:nvPr/>
              </p:nvSpPr>
              <p:spPr>
                <a:xfrm>
                  <a:off x="409680" y="1779480"/>
                  <a:ext cx="1996920" cy="531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720" y="1798200"/>
                  <a:ext cx="23889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РЕОРГАНИЗАЦИОННЫЕ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ЦЕДУРЫ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1" name=""/>
              <p:cNvGrpSpPr/>
              <p:nvPr/>
            </p:nvGrpSpPr>
            <p:grpSpPr>
              <a:xfrm>
                <a:off x="6364440" y="1779480"/>
                <a:ext cx="2368440" cy="531720"/>
                <a:chOff x="6364440" y="1779480"/>
                <a:chExt cx="2368440" cy="531720"/>
              </a:xfrm>
            </p:grpSpPr>
            <p:sp>
              <p:nvSpPr>
                <p:cNvPr id="1732" name=""/>
                <p:cNvSpPr/>
                <p:nvPr/>
              </p:nvSpPr>
              <p:spPr>
                <a:xfrm>
                  <a:off x="6735600" y="1779480"/>
                  <a:ext cx="1997280" cy="531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3" name=""/>
                <p:cNvSpPr/>
                <p:nvPr/>
              </p:nvSpPr>
              <p:spPr>
                <a:xfrm>
                  <a:off x="6364440" y="1817280"/>
                  <a:ext cx="20156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МИРОВОЕ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СОГЛАШЕН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4" name=""/>
              <p:cNvGrpSpPr/>
              <p:nvPr/>
            </p:nvGrpSpPr>
            <p:grpSpPr>
              <a:xfrm>
                <a:off x="2539080" y="1779480"/>
                <a:ext cx="2388600" cy="550800"/>
                <a:chOff x="2539080" y="1779480"/>
                <a:chExt cx="2388600" cy="550800"/>
              </a:xfrm>
            </p:grpSpPr>
            <p:sp>
              <p:nvSpPr>
                <p:cNvPr id="1735" name=""/>
                <p:cNvSpPr/>
                <p:nvPr/>
              </p:nvSpPr>
              <p:spPr>
                <a:xfrm>
                  <a:off x="2913120" y="1779480"/>
                  <a:ext cx="2014560" cy="550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2539080" y="1817280"/>
                  <a:ext cx="23050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ЛИКВИДАЦИОННЫЕ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ЦЕДУРЫ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37" name=""/>
            <p:cNvGrpSpPr/>
            <p:nvPr/>
          </p:nvGrpSpPr>
          <p:grpSpPr>
            <a:xfrm>
              <a:off x="5743080" y="2603520"/>
              <a:ext cx="2559600" cy="1728720"/>
              <a:chOff x="5743080" y="2603520"/>
              <a:chExt cx="2559600" cy="1728720"/>
            </a:xfrm>
          </p:grpSpPr>
          <p:grpSp>
            <p:nvGrpSpPr>
              <p:cNvPr id="1738" name=""/>
              <p:cNvGrpSpPr/>
              <p:nvPr/>
            </p:nvGrpSpPr>
            <p:grpSpPr>
              <a:xfrm>
                <a:off x="5820120" y="2603520"/>
                <a:ext cx="2388960" cy="531720"/>
                <a:chOff x="5820120" y="2603520"/>
                <a:chExt cx="2388960" cy="531720"/>
              </a:xfrm>
            </p:grpSpPr>
            <p:sp>
              <p:nvSpPr>
                <p:cNvPr id="1739" name=""/>
                <p:cNvSpPr/>
                <p:nvPr/>
              </p:nvSpPr>
              <p:spPr>
                <a:xfrm>
                  <a:off x="6211800" y="2603520"/>
                  <a:ext cx="1997280" cy="531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5820120" y="2603520"/>
                  <a:ext cx="23356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ОТСРОЧКА ПЛАТЕЖЕЙ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КРЕДИТОРОВ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1" name=""/>
              <p:cNvGrpSpPr/>
              <p:nvPr/>
            </p:nvGrpSpPr>
            <p:grpSpPr>
              <a:xfrm>
                <a:off x="5978160" y="3198960"/>
                <a:ext cx="2230920" cy="531720"/>
                <a:chOff x="5978160" y="3198960"/>
                <a:chExt cx="2230920" cy="53172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6211800" y="3198960"/>
                  <a:ext cx="1997280" cy="531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5978160" y="3311640"/>
                  <a:ext cx="2062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СКИДКА С ДОЛГОВ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4" name=""/>
              <p:cNvGrpSpPr/>
              <p:nvPr/>
            </p:nvGrpSpPr>
            <p:grpSpPr>
              <a:xfrm>
                <a:off x="5743080" y="3800520"/>
                <a:ext cx="2559600" cy="531720"/>
                <a:chOff x="5743080" y="3800520"/>
                <a:chExt cx="2559600" cy="531720"/>
              </a:xfrm>
            </p:grpSpPr>
            <p:sp>
              <p:nvSpPr>
                <p:cNvPr id="1745" name=""/>
                <p:cNvSpPr/>
                <p:nvPr/>
              </p:nvSpPr>
              <p:spPr>
                <a:xfrm>
                  <a:off x="6208560" y="3800520"/>
                  <a:ext cx="1997280" cy="531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5743080" y="3838680"/>
                  <a:ext cx="25596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СНИЖЕНИЕ НЕДОИМОК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О ПЛАТЕЖАМ В БЮДЖЕТ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47" name=""/>
            <p:cNvGrpSpPr/>
            <p:nvPr/>
          </p:nvGrpSpPr>
          <p:grpSpPr>
            <a:xfrm>
              <a:off x="3544920" y="3700440"/>
              <a:ext cx="2279520" cy="824040"/>
              <a:chOff x="3544920" y="3700440"/>
              <a:chExt cx="2279520" cy="824040"/>
            </a:xfrm>
          </p:grpSpPr>
          <p:sp>
            <p:nvSpPr>
              <p:cNvPr id="1748" name=""/>
              <p:cNvSpPr/>
              <p:nvPr/>
            </p:nvSpPr>
            <p:spPr>
              <a:xfrm>
                <a:off x="3618000" y="3700440"/>
                <a:ext cx="1996920" cy="634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3544920" y="3700440"/>
                <a:ext cx="2279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ДОБРОВОЛЬНАЯ            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ЛИКВИДАЦИЯ ПОД КОНТРОЛЕМ КРЕДИТОРОВ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0" name=""/>
            <p:cNvGrpSpPr/>
            <p:nvPr/>
          </p:nvGrpSpPr>
          <p:grpSpPr>
            <a:xfrm>
              <a:off x="836280" y="2639880"/>
              <a:ext cx="2071800" cy="1700640"/>
              <a:chOff x="836280" y="2639880"/>
              <a:chExt cx="2071800" cy="1700640"/>
            </a:xfrm>
          </p:grpSpPr>
          <p:grpSp>
            <p:nvGrpSpPr>
              <p:cNvPr id="1751" name=""/>
              <p:cNvGrpSpPr/>
              <p:nvPr/>
            </p:nvGrpSpPr>
            <p:grpSpPr>
              <a:xfrm>
                <a:off x="911160" y="2639880"/>
                <a:ext cx="1996920" cy="641520"/>
                <a:chOff x="911160" y="2639880"/>
                <a:chExt cx="1996920" cy="641520"/>
              </a:xfrm>
            </p:grpSpPr>
            <p:sp>
              <p:nvSpPr>
                <p:cNvPr id="1752" name=""/>
                <p:cNvSpPr/>
                <p:nvPr/>
              </p:nvSpPr>
              <p:spPr>
                <a:xfrm>
                  <a:off x="911160" y="2639880"/>
                  <a:ext cx="1996920" cy="63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3" name=""/>
                <p:cNvSpPr/>
                <p:nvPr/>
              </p:nvSpPr>
              <p:spPr>
                <a:xfrm>
                  <a:off x="911520" y="2639880"/>
                  <a:ext cx="165312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ОЗДОРОВЛЕН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ФИНАНСОВ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ЕДПРИЯТ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4" name=""/>
              <p:cNvGrpSpPr/>
              <p:nvPr/>
            </p:nvGrpSpPr>
            <p:grpSpPr>
              <a:xfrm>
                <a:off x="836280" y="3695760"/>
                <a:ext cx="2070000" cy="644760"/>
                <a:chOff x="836280" y="3695760"/>
                <a:chExt cx="2070000" cy="644760"/>
              </a:xfrm>
            </p:grpSpPr>
            <p:sp>
              <p:nvSpPr>
                <p:cNvPr id="1755" name=""/>
                <p:cNvSpPr/>
                <p:nvPr/>
              </p:nvSpPr>
              <p:spPr>
                <a:xfrm>
                  <a:off x="909360" y="3695760"/>
                  <a:ext cx="1996920" cy="639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836280" y="3699000"/>
                  <a:ext cx="2035440" cy="641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ВНЕШНЕЕ УПРАВЛЕН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ИМУЩЕСТВОМ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ДОЛЖНИК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57" name=""/>
            <p:cNvGrpSpPr/>
            <p:nvPr/>
          </p:nvGrpSpPr>
          <p:grpSpPr>
            <a:xfrm>
              <a:off x="2930400" y="5646600"/>
              <a:ext cx="3341520" cy="419040"/>
              <a:chOff x="2930400" y="5646600"/>
              <a:chExt cx="3341520" cy="419040"/>
            </a:xfrm>
          </p:grpSpPr>
          <p:sp>
            <p:nvSpPr>
              <p:cNvPr id="1758" name=""/>
              <p:cNvSpPr/>
              <p:nvPr/>
            </p:nvSpPr>
            <p:spPr>
              <a:xfrm>
                <a:off x="2930400" y="5646600"/>
                <a:ext cx="3341520" cy="419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094200" y="5721120"/>
                <a:ext cx="3085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ПЛАН ФИНАНСОВОГО ОЗДОРОВЛ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0" name=""/>
            <p:cNvSpPr/>
            <p:nvPr/>
          </p:nvSpPr>
          <p:spPr>
            <a:xfrm>
              <a:off x="2612880" y="1138320"/>
              <a:ext cx="29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>
              <a:off x="4908600" y="1136520"/>
              <a:ext cx="27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231920" y="1585800"/>
              <a:ext cx="660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H="1">
              <a:off x="1230480" y="1566720"/>
              <a:ext cx="144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H="1">
              <a:off x="7816320" y="1585800"/>
              <a:ext cx="180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 flipH="1">
              <a:off x="3804840" y="1585800"/>
              <a:ext cx="180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H="1">
              <a:off x="4010040" y="1400040"/>
              <a:ext cx="144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7" name=""/>
            <p:cNvGrpSpPr/>
            <p:nvPr/>
          </p:nvGrpSpPr>
          <p:grpSpPr>
            <a:xfrm>
              <a:off x="3321000" y="2351160"/>
              <a:ext cx="298440" cy="1679400"/>
              <a:chOff x="3321000" y="2351160"/>
              <a:chExt cx="298440" cy="1679400"/>
            </a:xfrm>
          </p:grpSpPr>
          <p:sp>
            <p:nvSpPr>
              <p:cNvPr id="1768" name=""/>
              <p:cNvSpPr/>
              <p:nvPr/>
            </p:nvSpPr>
            <p:spPr>
              <a:xfrm>
                <a:off x="3321000" y="2351160"/>
                <a:ext cx="0" cy="167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3321000" y="4030560"/>
                <a:ext cx="29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321000" y="2967120"/>
                <a:ext cx="29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1" name=""/>
            <p:cNvSpPr/>
            <p:nvPr/>
          </p:nvSpPr>
          <p:spPr>
            <a:xfrm>
              <a:off x="615960" y="2309760"/>
              <a:ext cx="0" cy="22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15960" y="3989520"/>
              <a:ext cx="29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15960" y="2925720"/>
              <a:ext cx="29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508960" y="2328840"/>
              <a:ext cx="0" cy="220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8191440" y="406872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H="1">
              <a:off x="8191440" y="343368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8172360" y="2854440"/>
              <a:ext cx="30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8" name=""/>
            <p:cNvGrpSpPr/>
            <p:nvPr/>
          </p:nvGrpSpPr>
          <p:grpSpPr>
            <a:xfrm>
              <a:off x="614520" y="4714920"/>
              <a:ext cx="7930800" cy="547200"/>
              <a:chOff x="614520" y="4714920"/>
              <a:chExt cx="7930800" cy="547200"/>
            </a:xfrm>
          </p:grpSpPr>
          <p:grpSp>
            <p:nvGrpSpPr>
              <p:cNvPr id="1779" name=""/>
              <p:cNvGrpSpPr/>
              <p:nvPr/>
            </p:nvGrpSpPr>
            <p:grpSpPr>
              <a:xfrm>
                <a:off x="614520" y="4730400"/>
                <a:ext cx="1493640" cy="531720"/>
                <a:chOff x="614520" y="4730400"/>
                <a:chExt cx="1493640" cy="531720"/>
              </a:xfrm>
            </p:grpSpPr>
            <p:sp>
              <p:nvSpPr>
                <p:cNvPr id="1780" name=""/>
                <p:cNvSpPr/>
                <p:nvPr/>
              </p:nvSpPr>
              <p:spPr>
                <a:xfrm>
                  <a:off x="614520" y="4730400"/>
                  <a:ext cx="1493640" cy="5317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1" name=""/>
                <p:cNvSpPr/>
                <p:nvPr/>
              </p:nvSpPr>
              <p:spPr>
                <a:xfrm>
                  <a:off x="653400" y="4768200"/>
                  <a:ext cx="14104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НА СРЕДСТВА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СОБСТВЕННИК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2" name=""/>
              <p:cNvGrpSpPr/>
              <p:nvPr/>
            </p:nvGrpSpPr>
            <p:grpSpPr>
              <a:xfrm>
                <a:off x="7051680" y="4714920"/>
                <a:ext cx="1493640" cy="531360"/>
                <a:chOff x="7051680" y="4714920"/>
                <a:chExt cx="1493640" cy="531360"/>
              </a:xfrm>
            </p:grpSpPr>
            <p:sp>
              <p:nvSpPr>
                <p:cNvPr id="1783" name=""/>
                <p:cNvSpPr/>
                <p:nvPr/>
              </p:nvSpPr>
              <p:spPr>
                <a:xfrm>
                  <a:off x="7051680" y="4714920"/>
                  <a:ext cx="1493640" cy="531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7089840" y="4752720"/>
                  <a:ext cx="13816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НА СРЕДСТВА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ДРУГИХ ЛИЦ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5" name=""/>
              <p:cNvGrpSpPr/>
              <p:nvPr/>
            </p:nvGrpSpPr>
            <p:grpSpPr>
              <a:xfrm>
                <a:off x="2741760" y="4714920"/>
                <a:ext cx="1493640" cy="531360"/>
                <a:chOff x="2741760" y="4714920"/>
                <a:chExt cx="1493640" cy="531360"/>
              </a:xfrm>
            </p:grpSpPr>
            <p:sp>
              <p:nvSpPr>
                <p:cNvPr id="1786" name=""/>
                <p:cNvSpPr/>
                <p:nvPr/>
              </p:nvSpPr>
              <p:spPr>
                <a:xfrm>
                  <a:off x="2741760" y="4714920"/>
                  <a:ext cx="1493640" cy="531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2779920" y="4752720"/>
                  <a:ext cx="13438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НА СРЕДСТВ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БЮДЖЕТ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8" name=""/>
              <p:cNvGrpSpPr/>
              <p:nvPr/>
            </p:nvGrpSpPr>
            <p:grpSpPr>
              <a:xfrm>
                <a:off x="4983120" y="4714920"/>
                <a:ext cx="1493640" cy="531360"/>
                <a:chOff x="4983120" y="4714920"/>
                <a:chExt cx="1493640" cy="531360"/>
              </a:xfrm>
            </p:grpSpPr>
            <p:sp>
              <p:nvSpPr>
                <p:cNvPr id="1789" name=""/>
                <p:cNvSpPr/>
                <p:nvPr/>
              </p:nvSpPr>
              <p:spPr>
                <a:xfrm>
                  <a:off x="4983120" y="4714920"/>
                  <a:ext cx="1493640" cy="5313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0" name=""/>
                <p:cNvSpPr/>
                <p:nvPr/>
              </p:nvSpPr>
              <p:spPr>
                <a:xfrm>
                  <a:off x="5021280" y="4752720"/>
                  <a:ext cx="13816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НА СРЕДСТВА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КРЕДИТОРА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91" name=""/>
            <p:cNvSpPr/>
            <p:nvPr/>
          </p:nvSpPr>
          <p:spPr>
            <a:xfrm>
              <a:off x="633240" y="4516560"/>
              <a:ext cx="787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H="1">
              <a:off x="1399680" y="4535640"/>
              <a:ext cx="180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 flipH="1">
              <a:off x="3471840" y="4537080"/>
              <a:ext cx="1440" cy="1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>
              <a:off x="5710320" y="4535640"/>
              <a:ext cx="144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>
              <a:off x="7856640" y="4537080"/>
              <a:ext cx="144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417680" y="5262480"/>
              <a:ext cx="0" cy="1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3487680" y="5262480"/>
              <a:ext cx="0" cy="1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5726160" y="5262480"/>
              <a:ext cx="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872480" y="5261040"/>
              <a:ext cx="0" cy="16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400040" y="5430960"/>
              <a:ext cx="645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4535640" y="5450040"/>
              <a:ext cx="1440" cy="18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2" name=""/>
          <p:cNvGrpSpPr/>
          <p:nvPr/>
        </p:nvGrpSpPr>
        <p:grpSpPr>
          <a:xfrm>
            <a:off x="446040" y="447840"/>
            <a:ext cx="8248680" cy="5799240"/>
            <a:chOff x="446040" y="447840"/>
            <a:chExt cx="8248680" cy="5799240"/>
          </a:xfrm>
        </p:grpSpPr>
        <p:grpSp>
          <p:nvGrpSpPr>
            <p:cNvPr id="1803" name=""/>
            <p:cNvGrpSpPr/>
            <p:nvPr/>
          </p:nvGrpSpPr>
          <p:grpSpPr>
            <a:xfrm>
              <a:off x="2927520" y="447840"/>
              <a:ext cx="3284280" cy="411120"/>
              <a:chOff x="2927520" y="447840"/>
              <a:chExt cx="3284280" cy="411120"/>
            </a:xfrm>
          </p:grpSpPr>
          <p:sp>
            <p:nvSpPr>
              <p:cNvPr id="1804" name=""/>
              <p:cNvSpPr/>
              <p:nvPr/>
            </p:nvSpPr>
            <p:spPr>
              <a:xfrm>
                <a:off x="3038400" y="498600"/>
                <a:ext cx="3123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ПЛАН ФИНАНСОВОГО  ОЗДОРОВЛЕНИЯ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2927520" y="447840"/>
                <a:ext cx="3284280" cy="411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6" name=""/>
            <p:cNvGrpSpPr/>
            <p:nvPr/>
          </p:nvGrpSpPr>
          <p:grpSpPr>
            <a:xfrm>
              <a:off x="5410080" y="1157400"/>
              <a:ext cx="3284640" cy="411120"/>
              <a:chOff x="5410080" y="1157400"/>
              <a:chExt cx="3284640" cy="411120"/>
            </a:xfrm>
          </p:grpSpPr>
          <p:sp>
            <p:nvSpPr>
              <p:cNvPr id="1807" name=""/>
              <p:cNvSpPr/>
              <p:nvPr/>
            </p:nvSpPr>
            <p:spPr>
              <a:xfrm>
                <a:off x="5542200" y="1227240"/>
                <a:ext cx="2672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   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ВНУТРЕННИЕ  ИСТОЧНИКИ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410080" y="1157400"/>
                <a:ext cx="3284640" cy="411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9" name=""/>
            <p:cNvGrpSpPr/>
            <p:nvPr/>
          </p:nvGrpSpPr>
          <p:grpSpPr>
            <a:xfrm>
              <a:off x="446040" y="1163520"/>
              <a:ext cx="3284640" cy="411120"/>
              <a:chOff x="446040" y="1163520"/>
              <a:chExt cx="3284640" cy="411120"/>
            </a:xfrm>
          </p:grpSpPr>
          <p:sp>
            <p:nvSpPr>
              <p:cNvPr id="1810" name=""/>
              <p:cNvSpPr/>
              <p:nvPr/>
            </p:nvSpPr>
            <p:spPr>
              <a:xfrm>
                <a:off x="559440" y="1233360"/>
                <a:ext cx="2544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      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ВНЕШНИЕ  ИСТОЧНИКИ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46040" y="1163520"/>
                <a:ext cx="3284640" cy="411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2" name=""/>
            <p:cNvGrpSpPr/>
            <p:nvPr/>
          </p:nvGrpSpPr>
          <p:grpSpPr>
            <a:xfrm>
              <a:off x="541440" y="1898640"/>
              <a:ext cx="7629480" cy="4348440"/>
              <a:chOff x="541440" y="1898640"/>
              <a:chExt cx="7629480" cy="4348440"/>
            </a:xfrm>
          </p:grpSpPr>
          <p:grpSp>
            <p:nvGrpSpPr>
              <p:cNvPr id="1813" name=""/>
              <p:cNvGrpSpPr/>
              <p:nvPr/>
            </p:nvGrpSpPr>
            <p:grpSpPr>
              <a:xfrm>
                <a:off x="541440" y="1911240"/>
                <a:ext cx="3767040" cy="411120"/>
                <a:chOff x="541440" y="1911240"/>
                <a:chExt cx="3767040" cy="411120"/>
              </a:xfrm>
            </p:grpSpPr>
            <p:sp>
              <p:nvSpPr>
                <p:cNvPr id="1814" name=""/>
                <p:cNvSpPr/>
                <p:nvPr/>
              </p:nvSpPr>
              <p:spPr>
                <a:xfrm>
                  <a:off x="541440" y="2000160"/>
                  <a:ext cx="37134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ВЫПУСК НОВЫХ АКЦИЙ И ОБЛИГАЦИЙ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5" name=""/>
                <p:cNvSpPr/>
                <p:nvPr/>
              </p:nvSpPr>
              <p:spPr>
                <a:xfrm>
                  <a:off x="1023840" y="1911240"/>
                  <a:ext cx="3284640" cy="411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6" name=""/>
              <p:cNvGrpSpPr/>
              <p:nvPr/>
            </p:nvGrpSpPr>
            <p:grpSpPr>
              <a:xfrm>
                <a:off x="1023840" y="2428920"/>
                <a:ext cx="3284640" cy="459000"/>
                <a:chOff x="1023840" y="2428920"/>
                <a:chExt cx="3284640" cy="459000"/>
              </a:xfrm>
            </p:grpSpPr>
            <p:sp>
              <p:nvSpPr>
                <p:cNvPr id="1817" name=""/>
                <p:cNvSpPr/>
                <p:nvPr/>
              </p:nvSpPr>
              <p:spPr>
                <a:xfrm>
                  <a:off x="1193400" y="2428920"/>
                  <a:ext cx="27547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СЛИЯНИЕ НЕСОСТОЯТЕЛЬНОГО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ЕДПРИЯТИЯ С ДРУГИМ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1023840" y="2452680"/>
                  <a:ext cx="3284640" cy="411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9" name=""/>
              <p:cNvGrpSpPr/>
              <p:nvPr/>
            </p:nvGrpSpPr>
            <p:grpSpPr>
              <a:xfrm>
                <a:off x="1023840" y="3027240"/>
                <a:ext cx="3284640" cy="459000"/>
                <a:chOff x="1023840" y="3027240"/>
                <a:chExt cx="3284640" cy="459000"/>
              </a:xfrm>
            </p:grpSpPr>
            <p:sp>
              <p:nvSpPr>
                <p:cNvPr id="1820" name=""/>
                <p:cNvSpPr/>
                <p:nvPr/>
              </p:nvSpPr>
              <p:spPr>
                <a:xfrm>
                  <a:off x="1155600" y="3027240"/>
                  <a:ext cx="29088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ЕДОСТАВЛЕНИЕ БАНКОВСКИХ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КРЕДИТОВ И ДОТАЦИЙ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1" name=""/>
                <p:cNvSpPr/>
                <p:nvPr/>
              </p:nvSpPr>
              <p:spPr>
                <a:xfrm>
                  <a:off x="1023840" y="3030480"/>
                  <a:ext cx="3284640" cy="411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2" name=""/>
              <p:cNvGrpSpPr/>
              <p:nvPr/>
            </p:nvGrpSpPr>
            <p:grpSpPr>
              <a:xfrm>
                <a:off x="1023840" y="3552840"/>
                <a:ext cx="3284640" cy="411120"/>
                <a:chOff x="1023840" y="3552840"/>
                <a:chExt cx="3284640" cy="41112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1135800" y="3622680"/>
                  <a:ext cx="27896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РЕСТРУКТУРИЗАЦИЯ ДОЛГОВ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1023840" y="3552840"/>
                  <a:ext cx="3284640" cy="411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5" name=""/>
              <p:cNvGrpSpPr/>
              <p:nvPr/>
            </p:nvGrpSpPr>
            <p:grpSpPr>
              <a:xfrm>
                <a:off x="1023840" y="4113360"/>
                <a:ext cx="3284640" cy="411120"/>
                <a:chOff x="1023840" y="4113360"/>
                <a:chExt cx="3284640" cy="41112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1137960" y="4183200"/>
                  <a:ext cx="1882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ЛИЗИНГ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1023840" y="4113360"/>
                  <a:ext cx="3284640" cy="411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1023840" y="4691160"/>
                <a:ext cx="3284640" cy="411120"/>
                <a:chOff x="1023840" y="4691160"/>
                <a:chExt cx="3284640" cy="411120"/>
              </a:xfrm>
            </p:grpSpPr>
            <p:sp>
              <p:nvSpPr>
                <p:cNvPr id="1829" name=""/>
                <p:cNvSpPr/>
                <p:nvPr/>
              </p:nvSpPr>
              <p:spPr>
                <a:xfrm>
                  <a:off x="1136160" y="4761000"/>
                  <a:ext cx="29394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ФАКТОРИНГ И ДОГОВОР-ЦЕСС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0" name=""/>
                <p:cNvSpPr/>
                <p:nvPr/>
              </p:nvSpPr>
              <p:spPr>
                <a:xfrm>
                  <a:off x="1023840" y="4691160"/>
                  <a:ext cx="3284640" cy="411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1" name=""/>
              <p:cNvGrpSpPr/>
              <p:nvPr/>
            </p:nvGrpSpPr>
            <p:grpSpPr>
              <a:xfrm>
                <a:off x="1023840" y="5229360"/>
                <a:ext cx="3284640" cy="459000"/>
                <a:chOff x="1023840" y="5229360"/>
                <a:chExt cx="3284640" cy="459000"/>
              </a:xfrm>
            </p:grpSpPr>
            <p:sp>
              <p:nvSpPr>
                <p:cNvPr id="1832" name=""/>
                <p:cNvSpPr/>
                <p:nvPr/>
              </p:nvSpPr>
              <p:spPr>
                <a:xfrm>
                  <a:off x="1287720" y="5229360"/>
                  <a:ext cx="278064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ВРЕМЕННЫЙ ОТКАЗ ОТ ВЫПЛАТЫ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ДИВИДЕНДОВ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>
                  <a:off x="1023840" y="5232240"/>
                  <a:ext cx="3284640" cy="411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4" name=""/>
              <p:cNvGrpSpPr/>
              <p:nvPr/>
            </p:nvGrpSpPr>
            <p:grpSpPr>
              <a:xfrm>
                <a:off x="596160" y="5788080"/>
                <a:ext cx="3712320" cy="459000"/>
                <a:chOff x="596160" y="5788080"/>
                <a:chExt cx="3712320" cy="459000"/>
              </a:xfrm>
            </p:grpSpPr>
            <p:sp>
              <p:nvSpPr>
                <p:cNvPr id="1835" name=""/>
                <p:cNvSpPr/>
                <p:nvPr/>
              </p:nvSpPr>
              <p:spPr>
                <a:xfrm>
                  <a:off x="596160" y="5788080"/>
                  <a:ext cx="36525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ВРЕМЕННЫЙ ОТКАЗ  ОТ СОЦИАЛЬНЫХ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ГРАММ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6" name=""/>
                <p:cNvSpPr/>
                <p:nvPr/>
              </p:nvSpPr>
              <p:spPr>
                <a:xfrm>
                  <a:off x="1023840" y="5811840"/>
                  <a:ext cx="3284640" cy="411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7" name=""/>
              <p:cNvGrpSpPr/>
              <p:nvPr/>
            </p:nvGrpSpPr>
            <p:grpSpPr>
              <a:xfrm>
                <a:off x="4812480" y="1898640"/>
                <a:ext cx="3340080" cy="459000"/>
                <a:chOff x="4812480" y="1898640"/>
                <a:chExt cx="3340080" cy="459000"/>
              </a:xfrm>
            </p:grpSpPr>
            <p:sp>
              <p:nvSpPr>
                <p:cNvPr id="1838" name=""/>
                <p:cNvSpPr/>
                <p:nvPr/>
              </p:nvSpPr>
              <p:spPr>
                <a:xfrm>
                  <a:off x="4812480" y="1898640"/>
                  <a:ext cx="33400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ОВЫШЕНИЕ КАЧЕСТВА И КОНКУРЕНТО 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СПОСОБНОСТИ ПРОДУКЦ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4830840" y="1905120"/>
                  <a:ext cx="3284640" cy="411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0" name=""/>
              <p:cNvGrpSpPr/>
              <p:nvPr/>
            </p:nvGrpSpPr>
            <p:grpSpPr>
              <a:xfrm>
                <a:off x="4830840" y="3027240"/>
                <a:ext cx="3284640" cy="411120"/>
                <a:chOff x="4830840" y="3027240"/>
                <a:chExt cx="3284640" cy="411120"/>
              </a:xfrm>
            </p:grpSpPr>
            <p:sp>
              <p:nvSpPr>
                <p:cNvPr id="1841" name=""/>
                <p:cNvSpPr/>
                <p:nvPr/>
              </p:nvSpPr>
              <p:spPr>
                <a:xfrm>
                  <a:off x="4943880" y="3098880"/>
                  <a:ext cx="29804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СОКРАЩЕНИЕ ПОСТОЯННЫХ ЗАТРАТ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4830840" y="3027240"/>
                  <a:ext cx="3284640" cy="411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3" name=""/>
              <p:cNvGrpSpPr/>
              <p:nvPr/>
            </p:nvGrpSpPr>
            <p:grpSpPr>
              <a:xfrm>
                <a:off x="4830840" y="3541680"/>
                <a:ext cx="3284640" cy="459000"/>
                <a:chOff x="4830840" y="3541680"/>
                <a:chExt cx="3284640" cy="459000"/>
              </a:xfrm>
            </p:grpSpPr>
            <p:sp>
              <p:nvSpPr>
                <p:cNvPr id="1844" name=""/>
                <p:cNvSpPr/>
                <p:nvPr/>
              </p:nvSpPr>
              <p:spPr>
                <a:xfrm>
                  <a:off x="5054040" y="3541680"/>
                  <a:ext cx="277776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БОЛЕЕ ПОЛНОЕ ИСПОЛЬЗОВАНИЕ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ОИЗВОДСТВЕННОЙ МОЩНОСТ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>
                  <a:off x="4830840" y="3546360"/>
                  <a:ext cx="3284640" cy="411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6" name=""/>
              <p:cNvGrpSpPr/>
              <p:nvPr/>
            </p:nvGrpSpPr>
            <p:grpSpPr>
              <a:xfrm>
                <a:off x="4830840" y="4102200"/>
                <a:ext cx="3284640" cy="459000"/>
                <a:chOff x="4830840" y="4102200"/>
                <a:chExt cx="3284640" cy="459000"/>
              </a:xfrm>
            </p:grpSpPr>
            <p:sp>
              <p:nvSpPr>
                <p:cNvPr id="1847" name=""/>
                <p:cNvSpPr/>
                <p:nvPr/>
              </p:nvSpPr>
              <p:spPr>
                <a:xfrm>
                  <a:off x="4944600" y="4102200"/>
                  <a:ext cx="30078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УМЕНЬШЕНИЕ ДОЛИ ПОТРЕБЛЯЕМОЙ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ПРИБЫЛ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8" name=""/>
                <p:cNvSpPr/>
                <p:nvPr/>
              </p:nvSpPr>
              <p:spPr>
                <a:xfrm>
                  <a:off x="4830840" y="4106880"/>
                  <a:ext cx="3284640" cy="411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9" name=""/>
              <p:cNvGrpSpPr/>
              <p:nvPr/>
            </p:nvGrpSpPr>
            <p:grpSpPr>
              <a:xfrm>
                <a:off x="4830840" y="4687920"/>
                <a:ext cx="3284640" cy="459000"/>
                <a:chOff x="4830840" y="4687920"/>
                <a:chExt cx="3284640" cy="459000"/>
              </a:xfrm>
            </p:grpSpPr>
            <p:sp>
              <p:nvSpPr>
                <p:cNvPr id="1850" name=""/>
                <p:cNvSpPr/>
                <p:nvPr/>
              </p:nvSpPr>
              <p:spPr>
                <a:xfrm>
                  <a:off x="5185440" y="4687920"/>
                  <a:ext cx="25704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СНИЖЕНИЕ ИНВЕСТИЦИОННОЙ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АКТИВНОСТ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1" name=""/>
                <p:cNvSpPr/>
                <p:nvPr/>
              </p:nvSpPr>
              <p:spPr>
                <a:xfrm>
                  <a:off x="4830840" y="4692600"/>
                  <a:ext cx="3284640" cy="411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2" name=""/>
              <p:cNvGrpSpPr/>
              <p:nvPr/>
            </p:nvGrpSpPr>
            <p:grpSpPr>
              <a:xfrm>
                <a:off x="4830840" y="5213520"/>
                <a:ext cx="3284640" cy="459000"/>
                <a:chOff x="4830840" y="5213520"/>
                <a:chExt cx="3284640" cy="459000"/>
              </a:xfrm>
            </p:grpSpPr>
            <p:sp>
              <p:nvSpPr>
                <p:cNvPr id="1853" name=""/>
                <p:cNvSpPr/>
                <p:nvPr/>
              </p:nvSpPr>
              <p:spPr>
                <a:xfrm>
                  <a:off x="5111640" y="5213520"/>
                  <a:ext cx="27730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РЕАЛИЗАЦИЯ НЕИСПОЛЬЗУЕМОГО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ИМУЩЕСТВА И Т.Д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4830840" y="5235480"/>
                  <a:ext cx="3284640" cy="411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5" name=""/>
              <p:cNvGrpSpPr/>
              <p:nvPr/>
            </p:nvGrpSpPr>
            <p:grpSpPr>
              <a:xfrm>
                <a:off x="4762440" y="2417760"/>
                <a:ext cx="3408480" cy="459000"/>
                <a:chOff x="4762440" y="2417760"/>
                <a:chExt cx="3408480" cy="459000"/>
              </a:xfrm>
            </p:grpSpPr>
            <p:sp>
              <p:nvSpPr>
                <p:cNvPr id="1856" name=""/>
                <p:cNvSpPr/>
                <p:nvPr/>
              </p:nvSpPr>
              <p:spPr>
                <a:xfrm>
                  <a:off x="4830840" y="2444760"/>
                  <a:ext cx="3284640" cy="411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4762440" y="2417760"/>
                  <a:ext cx="340848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СНИЖЕНИЕ СЕБЕСТОИМОСТИ ПРОДУКЦИИ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ЗА СЧЁТ РЕСУРСОСБЕРЕЖЕНИЯ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58" name=""/>
            <p:cNvSpPr/>
            <p:nvPr/>
          </p:nvSpPr>
          <p:spPr>
            <a:xfrm>
              <a:off x="1920960" y="67932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213600" y="687240"/>
              <a:ext cx="99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920960" y="690480"/>
              <a:ext cx="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219800" y="690480"/>
              <a:ext cx="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95440" y="1585800"/>
              <a:ext cx="0" cy="440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595440" y="599112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95440" y="541332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14520" y="487188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14520" y="431172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14520" y="3753000"/>
              <a:ext cx="41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98320" y="3211560"/>
              <a:ext cx="41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98320" y="2670120"/>
              <a:ext cx="41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98320" y="2109960"/>
              <a:ext cx="41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8543880" y="1568520"/>
              <a:ext cx="0" cy="38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 flipH="1">
              <a:off x="8098920" y="2116080"/>
              <a:ext cx="4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 flipH="1">
              <a:off x="8098920" y="2684520"/>
              <a:ext cx="4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8098920" y="3218040"/>
              <a:ext cx="4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8098920" y="3768840"/>
              <a:ext cx="42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 flipH="1">
              <a:off x="8115480" y="4314960"/>
              <a:ext cx="42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8115480" y="4876920"/>
              <a:ext cx="42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8096400" y="5425920"/>
              <a:ext cx="42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"/>
          <p:cNvSpPr/>
          <p:nvPr/>
        </p:nvSpPr>
        <p:spPr>
          <a:xfrm>
            <a:off x="6329520" y="685800"/>
            <a:ext cx="18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80880" y="380880"/>
            <a:ext cx="838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АЗДЕЛЫ И ТЕМЫ КУР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80880" y="1600200"/>
            <a:ext cx="4419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ТЕОРИЯ ЭКОНОМИЧЕСК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НАЛИЗ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80880" y="3276720"/>
            <a:ext cx="4419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380880" y="4952880"/>
            <a:ext cx="4419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УПРАВЛЕНЧЕСКИЙ АНАЛ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5334120" y="1143000"/>
            <a:ext cx="3429000" cy="166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5334120" y="3048120"/>
            <a:ext cx="34290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АНАЛИЗ ПРОИЗВОДСТВ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334120" y="5029200"/>
            <a:ext cx="342900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593640" y="3429000"/>
            <a:ext cx="37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ФИНАНСОВЫЙ АНАЛ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ЛАССИФИКАЦИЯ ФАКТОРОВ В ЭКОНОМИЧЕСКОМ АНАЛИЗ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04640" y="571680"/>
            <a:ext cx="8329680" cy="617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23000" y="579600"/>
            <a:ext cx="0" cy="613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77760" y="561960"/>
            <a:ext cx="343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ЛАССИФИКАЦИОННЫЙ ПРИЗНА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648400" y="561960"/>
            <a:ext cx="22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ГРУППЫ ФАКТОРО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4640" y="85572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9080" y="1100160"/>
            <a:ext cx="209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 ПРИРОД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06880" y="809640"/>
            <a:ext cx="5827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ИРОДНО-КЛИМА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ОЦИАЛЬНО-ЭКОНОМ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ИЗВОДСТВЕННО-ЭКОНОМ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4640" y="1533600"/>
            <a:ext cx="82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4640" y="1630440"/>
            <a:ext cx="41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 СТЕПЕНИ ВОЗДЕЙСТВИЯ НА РЕЗУЛЬТА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21360" y="1550880"/>
            <a:ext cx="18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СНОВ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ТОРОСТЕП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4640" y="2038320"/>
            <a:ext cx="835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4040" y="2428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4640" y="2136600"/>
            <a:ext cx="453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  ЗАВИСИМОСТИ ОТ КОЛЛЕКТИ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54760" y="2077920"/>
            <a:ext cx="27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ЪЕКТИВ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УБЪЕКТИВ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04640" y="2604960"/>
            <a:ext cx="8272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4640" y="2681280"/>
            <a:ext cx="424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 ОТНОШЕНИЮ К ОБЪЕКТУ ИССЛЕД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41880" y="2622600"/>
            <a:ext cx="14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НУТРЕН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НЕШ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04640" y="3127320"/>
            <a:ext cx="833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04640" y="3222720"/>
            <a:ext cx="60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 СТЕПЕНИ  РАСПРОСТРАНЕН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6960" y="3129120"/>
            <a:ext cx="34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Щ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ПЕЦИФ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4640" y="3635280"/>
            <a:ext cx="82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1600" y="3693960"/>
            <a:ext cx="23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 ВРЕМЕНИ ДЕЙСТВ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40200" y="3654360"/>
            <a:ext cx="382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ТОЯН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ЕРЕМ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5520" y="41418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3040" y="4219560"/>
            <a:ext cx="252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 ХАРАКТЕРУ ДЕЙСТВ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40200" y="4162320"/>
            <a:ext cx="385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ЭКСТЕНСИВ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ТЕНСИВ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25520" y="4667400"/>
            <a:ext cx="831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347840" y="5192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04640" y="4784760"/>
            <a:ext cx="38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 СВОЙСТВАМ ОТРАЖАЕМЫХ ЯВЛЕ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530680" y="519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40200" y="4648320"/>
            <a:ext cx="391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ОЛИЧЕСТВ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АЧЕСТВ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3200" y="5154480"/>
            <a:ext cx="82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9760" y="5229360"/>
            <a:ext cx="13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 СОСТАВ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84640" y="5153040"/>
            <a:ext cx="131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СТ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ЛОЖ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800" y="5622840"/>
            <a:ext cx="832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4480" y="5738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000" y="5815080"/>
            <a:ext cx="142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 ИЕРАРХ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043600" y="5638680"/>
            <a:ext cx="368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ЕРВОГО ПОРЯД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ТОРОГО, ТРЕТЬЕГО ПОРЯДКА И Т.Д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07880" y="6165720"/>
            <a:ext cx="832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1600" y="6243480"/>
            <a:ext cx="550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 ВОЗМОЖНОСТИ ИЗМЕРЕНИЯ ПОКАЗАТЕЛ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46760" y="6222960"/>
            <a:ext cx="3751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ЗМЕРИМ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НЕИЗМЕРИМ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76800" y="236520"/>
            <a:ext cx="598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ОДЕЛИРОВАНИЕ В ФАКТОРНОМ АНАЛИЗ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6600" y="925560"/>
            <a:ext cx="85550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АДДИТИВНЫЕ МОДЕЛИ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i = X1 + X2 + X3 +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.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+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МУЛЬТИПЛИКАТИВ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ОДЕЛИ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i = X1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X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X3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…. *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X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КРАТНЫЕ МОДЕЛИ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. КОМБИНИРОВАННЫ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ДЕ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6600" y="3610080"/>
            <a:ext cx="3314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МЕТОДЫ ПРЕОБРАЗОВАНИЯ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ДЛИН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СШИР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ОКРАЩ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612880" y="3979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30320" y="3824280"/>
            <a:ext cx="707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            ЗП          МЗ            А          Нак.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 = Об.Пр.= Об.Пр +  Об.Пр +  Об.Пр +  Об.П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13040" y="4503600"/>
            <a:ext cx="70912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.Пр     Об.Пр. * Д      Об.Пр.     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р. г.=  ЧР    =     ЧР * Д      =     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*  ЧР  =  Выр. дн. * 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60560" y="4202280"/>
            <a:ext cx="7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71800" y="4202280"/>
            <a:ext cx="66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44880" y="4202280"/>
            <a:ext cx="73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934240" y="4202280"/>
            <a:ext cx="69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26400" y="420228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16080" y="4940280"/>
            <a:ext cx="68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08600" y="4940280"/>
            <a:ext cx="128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22840" y="4940280"/>
            <a:ext cx="73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595920" y="4940280"/>
            <a:ext cx="4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51200" y="5349960"/>
            <a:ext cx="7481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  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ЕНТАБЕЛЬНОСТЬ  ПРОДА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  =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т. К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= Ст. 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  В  = 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ПИТАЛОЕМКОСТЬ ПРОДУК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29000" y="5757840"/>
            <a:ext cx="662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62480" y="5757840"/>
            <a:ext cx="11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60800" y="5757840"/>
            <a:ext cx="377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98920" y="2938320"/>
            <a:ext cx="52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898640" y="312840"/>
            <a:ext cx="5443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МЕТОДЫ ЭКОНОМИЧЕСКОГО АНАЛИЗ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7960" y="1166760"/>
            <a:ext cx="1847880" cy="9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ТРАДИЦИО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38360" y="1166760"/>
            <a:ext cx="2052720" cy="9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ЕТЕРМИНИ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РОВАНН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АКТОРНОГ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54520" y="1166760"/>
            <a:ext cx="1827360" cy="9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ТОХАСТИЧЕС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КОГ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ФАКТОРНОГ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6720" y="1166760"/>
            <a:ext cx="1992240" cy="95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ОПТИМИЗАЦИ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ПОКАЗАТЕЛЕ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7960" y="2670120"/>
            <a:ext cx="1847880" cy="37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РАВН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ТНОСИТЕЛЬНЫ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ЕЛИЧ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РЕДНИ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ЕЛИЧИ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ГРАФИЧЕСК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ГРУППИРОВ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АЛАНСОВ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538360" y="2670120"/>
            <a:ext cx="205272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ЦЕП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ДСТАНОВ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ДЕКСНЫЙ МЕТ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БСОЛЮТ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ЗНИЦ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ТНОСИТЕЛЬНЫ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РАЗНИЦ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НТЕГРАЛЬ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ПОРЦИОНАЛЬ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Е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754520" y="2670120"/>
            <a:ext cx="182736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ОРРЕЛЯЦИОН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ДИСПЕРСИОН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КОМПОНЕНТ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ФАКТОРНЫ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86720" y="2670120"/>
            <a:ext cx="1992240" cy="371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ЭКОНОМИКО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ТЕМАТИЧЕСК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ЕТОД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РОГРАММ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ЕОР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ССОВ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БСЛУЖИ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ТЕОРИЯ  ИГ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ССЛЕДОВА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ПЕРАЦ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320840" y="942840"/>
            <a:ext cx="646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3680" y="2112840"/>
            <a:ext cx="0" cy="56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10320" y="2133720"/>
            <a:ext cx="0" cy="56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63040" y="93492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10320" y="934920"/>
            <a:ext cx="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14680" y="211284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9040" y="211284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95600" y="95580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20840" y="934920"/>
            <a:ext cx="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12:55:59Z</dcterms:created>
  <dc:creator>Юля</dc:creator>
  <dc:description/>
  <dc:language>en-US</dc:language>
  <cp:lastModifiedBy> Sofia Kotova</cp:lastModifiedBy>
  <dcterms:modified xsi:type="dcterms:W3CDTF">2006-05-17T05:00:51Z</dcterms:modified>
  <cp:revision>58</cp:revision>
  <dc:subject/>
  <dc:title>Презентация PowerPoint</dc:title>
</cp:coreProperties>
</file>