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D49F-E48D-4BDA-B267-51F87376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6C2-1CC3-4F95-B578-0595F856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B0D-F2C3-472E-91E5-758371362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C0E1-77FD-4808-AE8F-4D544E91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D435-CD26-482D-851B-FAFC1325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5BF9-E937-4AA8-8E23-8D1F9C7C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CC7B-05DC-471C-8601-F10D44F9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C1A2-65D4-4491-9B5E-65B0E1B9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5785-095C-46CF-983E-A059627D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B5E1B-68CA-4ED4-8BB4-7844CE27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7C83-3696-49C1-A6A0-DE2C4AD4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0AD9-E0E4-4640-97D8-A04A4FF1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E5A8-E078-4DE8-B0B6-EB05B6C6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2B2D-EF0D-4672-B0B3-AF63CF59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72326-52F5-4957-96B9-FE07F070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3D7F-12BA-4C5B-A730-9726F83E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C9D6-BF02-45D3-B2F8-61A9F04B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C3EB-BEF4-4CF6-AC04-D295F169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95BAE-3CB8-4D5E-8B56-ACE0F871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0CF62-D897-4331-9EC2-FD7CDE88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52D32-CEF1-4036-B9B9-F7A0EB8D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BADCC-6893-40D2-8464-7BDCCCD4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8A70-26D8-4697-9D70-5B432A18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5D492-5A97-427C-AAF0-EE7B4673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4AE9-E970-47A8-8551-F38CF8A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2F7C4-56A2-400C-888E-00FB36C7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AC924-0595-4749-8CC3-83101AF9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F0784-2D11-4DA0-8055-09C6F43C5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EB09A-8D09-4951-8001-68BEDFF7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AB770-5363-4151-B4E6-6EDBB378F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33CE0-08A2-4587-BBF2-DA6AD0FB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AFA62-D64D-451A-B815-96A0E9B7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8D809-8204-4521-84CA-C418F1AF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32B5-6705-41D2-B7BC-4CB0B9B3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41FAC-5B36-4F82-B2D4-1FB3CCAB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94D5E-9850-4E4A-A158-3D0FDC43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22D55-0D61-4908-9D81-2872C01F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43962-74FC-4C54-9E41-629A3EDD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7040B-7C20-4021-B80F-B6BC723C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0F0CC-9B9F-413C-8091-6E014E4D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6C2C2-F2F1-4116-ADF4-B1A175CB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2F40-CB39-46E9-9B0C-C5B44520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CF78A-C448-49C1-861F-733E0880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32737-0A83-43B2-9CB9-270EDA60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C9FF-A12C-4636-B176-A8BBB393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DD7AE-AF96-4902-8949-47463173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F75A6-339A-4AE1-AEE6-BC59EFF5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970D5-577B-40EA-A7AE-B2FE0C53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B836A-BCB0-4520-B902-3DE49CE0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4157D-D8D1-4102-A94B-47B41A11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7B08D-024F-4C5E-B7EC-6E08EA72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873CC-CFC8-4DA3-9863-2299480C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45889-B05D-48AA-BE0E-3CAB7A5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C9BAF-616B-48DC-9F12-8BC7B195C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60CD5-1C50-4343-89F8-41D64EF83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7B03-2DC6-42D3-B799-0FF3B890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8226A-8F58-4CCD-9D23-A0BDC9F0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8F72-8856-4BE5-841A-95D33A52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6F9-6475-4438-B2AD-CD254A80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E33-6CE3-4397-9939-AC63225D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9C4F-491E-4C63-98E8-E64346A77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0142-14D4-42DB-915D-A9AF56C3F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68E9-5AAA-4292-9DEA-325F272E2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AFF1-0A33-4DC5-85C1-A49D20051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8BE61-0BB7-4BE2-A660-9FDC93FBDC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755640" y="260280"/>
            <a:ext cx="7920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15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"Молочная страна"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80" name=""/>
          <p:cNvSpPr/>
          <p:nvPr/>
        </p:nvSpPr>
        <p:spPr>
          <a:xfrm>
            <a:off x="1403280" y="3429000"/>
            <a:ext cx="6337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Monotype Corsiva"/>
              </a:rPr>
              <a:t>план по выпуску молоч</a:t>
            </a: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н</a:t>
            </a:r>
            <a:r>
              <a:rPr b="1" i="1" lang="en-US" sz="6000" spc="-1" strike="noStrike">
                <a:solidFill>
                  <a:srgbClr val="ffffff"/>
                </a:solidFill>
                <a:latin typeface="Monotype Corsiva"/>
              </a:rPr>
              <a:t>ой продукции на ноябрь 2004 г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900"/>
                            </p:stCondLst>
                            <p:childTnLst>
                              <p:par>
                                <p:cTn id="1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2349360"/>
          <a:ext cx="9143640" cy="4032000"/>
        </p:xfrm>
        <a:graphic>
          <a:graphicData uri="http://schemas.openxmlformats.org/drawingml/2006/table">
            <a:tbl>
              <a:tblPr/>
              <a:tblGrid>
                <a:gridCol w="1054440"/>
                <a:gridCol w="1002600"/>
                <a:gridCol w="920160"/>
                <a:gridCol w="1081080"/>
                <a:gridCol w="1324800"/>
                <a:gridCol w="1782720"/>
                <a:gridCol w="1120680"/>
                <a:gridCol w="8571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Затраты ресурсов на выпуск одной единици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Прибыль  от реализации одной единици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Программа выпуска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Общая прибы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олоко(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сахар(кг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время(час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еньги(рубли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Питьевые йогурт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358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Кефир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3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Молочный кокте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4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Жидкий шокола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 Cyr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Наличие ресурс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Огранич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Ито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993300"/>
                          </a:solidFill>
                          <a:latin typeface="Arial Cyr"/>
                        </a:rPr>
                        <a:t>504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ff"/>
                    </a:solidFill>
                  </a:tcPr>
                </a:tc>
              </a:tr>
            </a:tbl>
          </a:graphicData>
        </a:graphic>
      </p:graphicFrame>
      <p:sp>
        <p:nvSpPr>
          <p:cNvPr id="314" name=""/>
          <p:cNvSpPr txBox="1"/>
          <p:nvPr/>
        </p:nvSpPr>
        <p:spPr>
          <a:xfrm>
            <a:off x="755640" y="260280"/>
            <a:ext cx="7848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Расчет выпуска продукции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</p:spTree>
  </p:cSld>
  <p:transition advTm="1000"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4" nodeType="afterEffect" fill="hold" presetClass="exit" presetID="55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" presetSubtype="10">
                                  <p:stCondLst>
                                    <p:cond delay="3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324000" y="404640"/>
          <a:ext cx="8604000" cy="6075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04640"/>
                    <a:ext cx="86040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000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mph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4" dur="indefinite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nodeType="after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 rot="310800">
            <a:off x="610920" y="-603000"/>
            <a:ext cx="7848360" cy="299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оптимальный выпуск продукции в день: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2421000"/>
            <a:ext cx="8675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Mincho"/>
              </a:rPr>
              <a:t>Питьевые йогурты-79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Mincho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MS Mincho"/>
              </a:rPr>
              <a:t>Кефир-27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Mincho"/>
              </a:rPr>
              <a:t>Молочные коктейли-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S Mincho"/>
              </a:rPr>
              <a:t>Жидкий шоколад-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4100"/>
                            </p:stCondLst>
                            <p:childTnLst>
                              <p:par>
                                <p:cTn id="376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3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0" y="260280"/>
            <a:ext cx="9144000" cy="17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man Old Style"/>
              </a:rPr>
              <a:t>Требования к производству на ближайшие 5 лет:</a:t>
            </a:r>
            <a:endParaRPr b="1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20" name=""/>
          <p:cNvSpPr/>
          <p:nvPr/>
        </p:nvSpPr>
        <p:spPr>
          <a:xfrm>
            <a:off x="611280" y="1916280"/>
            <a:ext cx="8064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-закупить новое высокотехнологичное оборуд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-провести курсы по повышению квалифик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-инвестировать исследования по разработке новых продуктов и улучшению качества стар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-внедрение в производство новой прод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5" nodeType="afterEffect" fill="hold" presetClass="exit" presetID="35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35">
                                  <p:stCondLst>
                                    <p:cond delay="2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00000" y="-316080"/>
            <a:ext cx="7632720" cy="234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2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Bookman Old Style"/>
              </a:rPr>
              <a:t>Сбыт продукции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  <p:sp>
        <p:nvSpPr>
          <p:cNvPr id="322" name=""/>
          <p:cNvSpPr/>
          <p:nvPr/>
        </p:nvSpPr>
        <p:spPr>
          <a:xfrm>
            <a:off x="539640" y="234936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9640" y="206064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7ab"/>
                </a:solidFill>
                <a:latin typeface="Bookman Old Style"/>
              </a:rPr>
              <a:t>в сети  продуктовых магазинов «Рубль», «Юпитер», «Хрумстик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7ab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ff57ab"/>
                </a:solidFill>
                <a:latin typeface="Bookman Old Style"/>
              </a:rPr>
              <a:t>в  мелких частных продуктовых магазин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57ab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ff57ab"/>
                </a:solidFill>
                <a:latin typeface="Bookman Old Style"/>
              </a:rPr>
              <a:t>в фирменных молочных киоск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100"/>
                            </p:stCondLst>
                            <p:childTnLst>
                              <p:par>
                                <p:cTn id="436" nodeType="afterEffect" fill="hold" presetClass="exit" presetID="55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7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35">
                                  <p:stCondLst>
                                    <p:cond delay="20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200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24000" y="260280"/>
            <a:ext cx="8640720" cy="88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b6001"/>
                </a:solidFill>
                <a:latin typeface="Monotype Corsiva"/>
              </a:rPr>
              <a:t>По расчетным данным проект окупится за меся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xit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242100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b7"/>
                </a:solidFill>
                <a:latin typeface="Bookman Old Style"/>
              </a:rPr>
              <a:t>Подготовку проекта рекомендовано поруч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9b7"/>
                </a:solidFill>
                <a:latin typeface="Bookman Old Style"/>
              </a:rPr>
              <a:t>Проект разработан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16360" y="3500280"/>
            <a:ext cx="622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8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8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2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11280" y="907920"/>
            <a:ext cx="7777080" cy="89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600" spc="-1" strike="noStrike">
                <a:solidFill>
                  <a:srgbClr val="ffcccc"/>
                </a:solidFill>
                <a:latin typeface="Monotype Corsiva"/>
              </a:rPr>
              <a:t>Спасибо за внимание</a:t>
            </a:r>
            <a:endParaRPr b="0" lang="en-US" sz="1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9000"/>
                            </p:stCondLst>
                            <p:childTnLst>
                              <p:par>
                                <p:cTn id="50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8000"/>
                            </p:stCondLst>
                            <p:childTnLst>
                              <p:par>
                                <p:cTn id="516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9900"/>
            </a:gs>
            <a:gs pos="100000">
              <a:srgbClr val="ff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9280" y="2602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9280" y="1052640"/>
            <a:ext cx="8569440" cy="51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Российское предприятие, занимается производством  молочной продукции. Было основано в 1991г.  В настоящее время кисломолочная продукция фирмы  занимает  27  место среди  ведущих аналог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Для повышения своего имиджа и  удовлетворения спроса  потребителей   возникла потребность в производстве новых видов продукции и улучшения стар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4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b7001"/>
            </a:gs>
            <a:gs pos="100000">
              <a:srgbClr val="ff57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484360" y="189000"/>
            <a:ext cx="37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рево целей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48000" y="2492280"/>
            <a:ext cx="295272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роизводство качествен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экологически чистой продукц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соответствующей ведущим аналог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76360" y="1268280"/>
            <a:ext cx="2735280" cy="1224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Максимизация прибы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79640" y="5229360"/>
            <a:ext cx="2808360" cy="1224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азработка новой продукци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модернизация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2360" y="4076640"/>
            <a:ext cx="2737080" cy="1081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Анализ и 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ры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229360"/>
            <a:ext cx="3024360" cy="1295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Выработка оптим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лана выпуска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1268280"/>
            <a:ext cx="2737080" cy="12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Удержание и улучш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позиций на  рын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молочной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80000" y="234936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580000" y="2421000"/>
            <a:ext cx="2872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859280" y="3789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3708000" y="5013360"/>
            <a:ext cx="3589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5516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2a7"/>
            </a:gs>
            <a:gs pos="100000">
              <a:srgbClr val="b76a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50920" y="404640"/>
            <a:ext cx="8351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0033"/>
                </a:solidFill>
                <a:latin typeface="Bookman Old Style"/>
              </a:rPr>
              <a:t>Фирма предлагает к производству  четыре вида  новой продукции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ffa7b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 rot="184200">
            <a:off x="1763280" y="0"/>
            <a:ext cx="59752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onotype Corsiva"/>
              </a:rPr>
              <a:t>Питьевые йогурты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omic Sans MS"/>
              </a:rPr>
              <a:t>(Кисломолочный продукт с натуральными фруктами содержащий ценные биокультуры и витами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1916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Исследование рынка показ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2349360"/>
            <a:ext cx="89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MS Mincho"/>
              </a:rPr>
              <a:t>аналогичная продукция  на данный момент пользуется высоким спрос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S Mincho"/>
              </a:rPr>
              <a:t>разнообразие вку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MS Mincho"/>
              </a:rPr>
              <a:t>не уступает по качеству аналогам ведущих произ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580"/>
                            </p:stCondLst>
                            <p:childTnLst>
                              <p:par>
                                <p:cTn id="134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3080"/>
                            </p:stCondLst>
                            <p:childTnLst>
                              <p:par>
                                <p:cTn id="142" nodeType="after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55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0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55">
                                  <p:stCondLst>
                                    <p:cond delay="1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5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58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7be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619280" y="189000"/>
            <a:ext cx="5688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Кефир+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301" name=""/>
          <p:cNvSpPr/>
          <p:nvPr/>
        </p:nvSpPr>
        <p:spPr>
          <a:xfrm>
            <a:off x="250920" y="184464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-468360" y="1773360"/>
            <a:ext cx="10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0032"/>
                </a:solidFill>
                <a:latin typeface="Arial Unicode MS"/>
              </a:rPr>
              <a:t>(Кисломолочный продукт, содержащий бифидокультур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206064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Исследование рынка показа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79280" y="2637000"/>
            <a:ext cx="8964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данный продукт всегда пользовался спросом,  также спрос повышает новшест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высокое содержание  бифидобакте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Monotype Corsiva"/>
              </a:rPr>
              <a:t>не уступает по качеству аналогам ведущих произв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3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750"/>
                            </p:stCondLst>
                            <p:childTnLst>
                              <p:par>
                                <p:cTn id="197" nodeType="after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xit" presetID="3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39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547640" y="-316080"/>
            <a:ext cx="6220080" cy="212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Monotype Corsiva"/>
              </a:rPr>
              <a:t>Молочные коктейли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1700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(Продукт из цельного  стерилизованного молока, с натуральными фруктовыми наполнителями, содержит лактозу и витамин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00" y="2349360"/>
            <a:ext cx="849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00ba"/>
                </a:solidFill>
                <a:latin typeface="Arial"/>
              </a:rPr>
              <a:t>продукт пользуется высоким спрос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00ba"/>
                </a:solidFill>
                <a:latin typeface="Arial"/>
              </a:rPr>
              <a:t>недавно появился на ры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00ba"/>
                </a:solidFill>
                <a:latin typeface="Arial"/>
              </a:rPr>
              <a:t>разнообразие вку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00ba"/>
                </a:solidFill>
                <a:latin typeface="Arial"/>
              </a:rPr>
              <a:t>мало анал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00ba"/>
                </a:solidFill>
                <a:latin typeface="Arial"/>
              </a:rPr>
              <a:t>не уступает по качеству аналогам ведущих производител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7" nodeType="afterEffect" fill="hold" presetClass="exit" presetID="4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4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8" presetSubtype="16">
                                  <p:stCondLst>
                                    <p:cond delay="1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254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eec94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835280" y="-747720"/>
            <a:ext cx="5019480" cy="25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Bookman Old Style"/>
              </a:rPr>
              <a:t>Жидкий шоколад 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170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0032"/>
                </a:solidFill>
                <a:latin typeface="Comic Sans MS"/>
              </a:rPr>
              <a:t>(Продукт из цельного стерилизованного молока и кака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2205000"/>
            <a:ext cx="864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S Mincho"/>
              </a:rPr>
              <a:t>продукт  в ближайшее время появится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S Mincho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S Mincho"/>
              </a:rPr>
              <a:t>не существует  аналог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S Mincho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S Mincho"/>
              </a:rPr>
              <a:t>высокий потенциал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920"/>
                            </p:stCondLst>
                            <p:childTnLst>
                              <p:par>
                                <p:cTn id="272" nodeType="afterEffect" fill="hold" presetClass="entr" presetID="4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270"/>
                            </p:stCondLst>
                            <p:childTnLst>
                              <p:par>
                                <p:cTn id="280" nodeType="afterEffect" fill="hold" presetClass="exit" presetID="5" presetSubtype="10">
                                  <p:stCondLst>
                                    <p:cond delay="200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5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187280" y="0"/>
            <a:ext cx="691380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Bookman Old Style"/>
              </a:rPr>
              <a:t>Сырьевая база: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335772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600 литров моло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5 килограмм сахара в ден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dissolve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xit" presetID="8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9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8" presetSubtype="16">
                                  <p:stCondLst>
                                    <p:cond delay="1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31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7T08:21:58Z</dcterms:created>
  <dc:creator>Ирина</dc:creator>
  <dc:description/>
  <dc:language>en-US</dc:language>
  <cp:lastModifiedBy>Ирина</cp:lastModifiedBy>
  <dcterms:modified xsi:type="dcterms:W3CDTF">2005-12-04T18:13:28Z</dcterms:modified>
  <cp:revision>7</cp:revision>
  <dc:subject/>
  <dc:title>Слайд 1</dc:title>
</cp:coreProperties>
</file>