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531-B15F-407C-9FF3-75073960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4BD-29BF-4A36-8B9A-30E02F4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8CD-5537-4D35-A955-149F2F39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4B5-894F-4818-9B39-BA58BBBA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046-952F-459F-ACF7-58619CB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55E-3709-48FD-9D57-87C261E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AE3-6D38-4446-BB17-4877A741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307-CBDE-4537-9A0A-AC38BCDF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295-A363-4D20-B9DA-BB01E2B4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4A8-CCA5-4B33-B49B-C9FF469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8A2-AEF9-420E-BB7E-F1710EA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0DD-2309-422C-8716-567FA65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B88-C7BC-4D31-8A74-58BD20AD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835280" y="33336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39640" y="54936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я рекламной компан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1989000"/>
            <a:ext cx="6840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ые цели и задачи, которые должны быть решены при создании рекла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3500280"/>
            <a:ext cx="6696360" cy="178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образа услуги,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будить к  совершению поку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гнуть высокой общественной репу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ить долгосрочные двухсторонни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59280" y="69228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 должн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2205000"/>
            <a:ext cx="49690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работать печатную рекл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азетно - журналь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диорекл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лерекл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ружную рекл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кламу на 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также выставки и презент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4000" y="1844640"/>
            <a:ext cx="54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ли все выше перечисленные задачи будут выполнены успешно, то наши туры будут более востребованными и их реализация будет наилучш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47640" y="2602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четы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475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87480" y="2655720"/>
            <a:ext cx="52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70200">
            <a:off x="-396720" y="4436640"/>
            <a:ext cx="59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6626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95640" y="155736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Мы подсчитали, что наши затраты окупятся через пол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95280" y="1628640"/>
            <a:ext cx="84978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155736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5920" y="333360"/>
            <a:ext cx="8372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уристическое агентство «bon voyage»</a:t>
            </a:r>
            <a:endParaRPr b="0" lang="en-US" sz="1800" spc="1" strike="noStrike">
              <a:ln w="1908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0536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698480"/>
            <a:ext cx="8064720" cy="456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ристическая фир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 voyag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образована в 1991 год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с находится по адресу: Санкт-Петербург, ул. Маяковского, д. 3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ы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812)-275-9587, (812)-275-9589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кс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812)-272-9100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цензия № В 349775 выдана 30 октября 2000 го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еет сертификат Госстандарта России № 0171969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оло 240 фирм являются постоянными агентами нашей т/ф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/ф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 voyag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постоянный участник международных туристских выставок в Санкт-Петербург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1991 г. т/ф занималась въездным туризмом. Принимала гостей как из различных городов России, так и стран ближнего и дальнего зарубежь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1993 г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 voyag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еженедельно начал отправлять туристов в Грецию, Голландию, Францию, на Кипр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1995 г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 voyage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рганизатором чартерных программ на Кипр. В 1997 г. т/ф принимала участие в чартерной программе на Ниццу. В 1997,1998 гг. были организованы чартерные рейсы в Париж. С 1998 г. мы работаем с Сейшельскими островам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стоящее время приоритетным направлением нашей фирмы является отправка туристов в следующие страны: Кипр, Египет, Турция, Франция, Тунис, Таиланд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63640" y="3333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Дерево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81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ксимизация приб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2160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836640"/>
            <a:ext cx="21603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1413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1341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119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р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836640"/>
            <a:ext cx="223200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14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2924280"/>
            <a:ext cx="208764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5013360"/>
            <a:ext cx="208764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5300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084640"/>
            <a:ext cx="1511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лючение нов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19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414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013360"/>
            <a:ext cx="21603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5157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ламн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2924280"/>
            <a:ext cx="180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ка новых маршру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1052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363640" y="551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013360"/>
            <a:ext cx="216072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0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лизация 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3964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58920" y="184464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333360"/>
            <a:ext cx="50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лан модер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184464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573360"/>
            <a:ext cx="6480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упка нового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07664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интерн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квалификации сотруд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557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качества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50920" y="83664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та на закупку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6697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836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лиз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2637000"/>
            <a:ext cx="554364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протяжении последних лет появилось множество конкурентов на рынке туризма. Для повышения прибыли необходим анализ рынка. Нужно вычислить самые востребованные и прибыльные 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08000" y="105264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ка новых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708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565360"/>
            <a:ext cx="6985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привлечения большей клиентуры требуются новые маршруты, которые позволят посетить и увидеть как можно более интересных и достопримечательных мест. Наш мир очень прекрасен и разнообразен и мы хотим дать возможность нашим клиентам увидеть его во всей кра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2690640"/>
            <a:ext cx="5329080" cy="261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4360" y="836640"/>
            <a:ext cx="76327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 статистике самыми популярными странами для отдыха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8000" y="62064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лючение новых догов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62864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овыми гост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2492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овыми аэрофл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78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овыми туропера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9417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новыми экскурсионными агент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70028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256536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933720"/>
            <a:ext cx="2890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08464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09:47:51Z</dcterms:created>
  <dc:creator>Irina</dc:creator>
  <dc:description/>
  <dc:language>en-US</dc:language>
  <cp:lastModifiedBy>Ирина</cp:lastModifiedBy>
  <dcterms:modified xsi:type="dcterms:W3CDTF">2005-12-04T18:11:25Z</dcterms:modified>
  <cp:revision>39</cp:revision>
  <dc:subject/>
  <dc:title>Слайд 1</dc:title>
</cp:coreProperties>
</file>