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0B1-F8A1-4E14-A7AD-B0D44F63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1FB-7A0A-4ECB-8842-F9229E94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CC0-3142-40A1-B638-21AA8516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572-7318-42CE-BB5A-02D680D8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21F2-8E71-4545-AA40-7A422ED9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6AB5-F1C9-483F-8132-1599EABC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CF84-FB83-4334-957D-B334A0D2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614B-7B4B-4AA5-8F4D-825A814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BC3-B588-489F-9D8A-E0B244D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E577-363E-4F59-A79A-4037DDDC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FB28-2A9C-45E9-9D91-C019259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9D9-2DDB-4FAD-9BDE-0880A767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17A-C35A-4F3B-B316-DE03330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12FA-BC75-46B9-94B7-30DA3AB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BFA7-282A-401C-859B-60AFC1EB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7A4B-E42C-4432-B351-AEB48ADA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1DF9-F28B-4923-A58D-81DD4FA5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1393-F854-4A25-97F4-F1060A0F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E9EA-2507-4371-814E-64A87BAD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C984-536D-42A8-9171-679EE8A3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C3A8-2307-466C-A893-8089FD8C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1FD4-2DB4-48CC-9869-79DECBFC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60F-FDE9-45C6-925F-F5A7C9B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57D5-9503-4679-B6D4-13407943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99F34-0327-419D-905E-2668469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0F1B-27D8-4DF3-BDA7-C733A9C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2939-11D8-4290-9330-D0BA012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3A4E-243D-4C03-A5C0-7CC48AC1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6EEC-EDA6-4889-8160-D6AE09B8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2543-C2CA-4400-B6AB-5A5C2535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90E-C891-42B3-80F9-B54D56AD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31A-75AF-4959-8AD5-FFA4825A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F81-5AFB-46E6-926D-8F6A0249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7BD-69B8-4A9E-9FC7-DD906D59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4CB-8870-4348-84CD-7F7D4F7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FE7-411E-44D6-8D2E-D1B4092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7E29-0386-4891-B7ED-79ECEC65A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634C-8284-45B1-8C17-84134D243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340B-EF27-4A62-91D7-A70890C6C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55640" y="260280"/>
            <a:ext cx="792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"Молочная страна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3429000"/>
            <a:ext cx="633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Monotype Corsiva"/>
              </a:rPr>
              <a:t>план по выпуску молоч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н</a:t>
            </a:r>
            <a:r>
              <a:rPr b="1" i="1" lang="en-US" sz="6000" spc="-1" strike="noStrike">
                <a:solidFill>
                  <a:srgbClr val="ffffff"/>
                </a:solidFill>
                <a:latin typeface="Monotype Corsiva"/>
              </a:rPr>
              <a:t>ой продукции на ноябрь 2004 г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 rot="310800">
            <a:off x="610920" y="-603000"/>
            <a:ext cx="7848360" cy="29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тимальный выпуск продукции в день: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42100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Питьевые йогурты-7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Кефир-2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Молочные коктейли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Жидкий шоколад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100"/>
                            </p:stCondLst>
                            <p:childTnLst>
                              <p:par>
                                <p:cTn id="30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3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4000" y="0"/>
            <a:ext cx="85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Требования к производству: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91628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закупить новое высокотехнологичное 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провести курсы по повышению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инвестировать исследования по разработке новых продуктов и улучшению качества ста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xit" presetID="3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35">
                                  <p:stCondLst>
                                    <p:cond delay="2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900000" y="-316080"/>
            <a:ext cx="7632720" cy="23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Bookman Old Style"/>
              </a:rPr>
              <a:t>Сбыт продукции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2349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06064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в сети  продуктовых магазинов «Рубль», «Юпитер», «Хрумсти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в  мелких частных продуктовых магази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в фирменных молочных киос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100"/>
                            </p:stCondLst>
                            <p:childTnLst>
                              <p:par>
                                <p:cTn id="365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5">
                                  <p:stCondLst>
                                    <p:cond delay="2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4000" y="260280"/>
            <a:ext cx="86407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6001"/>
                </a:solidFill>
                <a:latin typeface="Monotype Corsiva"/>
              </a:rPr>
              <a:t>По расчетным данным проект окупится за меся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xit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24210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b7"/>
                </a:solidFill>
                <a:latin typeface="Bookman Old Style"/>
              </a:rPr>
              <a:t>Подготовку проекта рекомендовано пор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b7"/>
                </a:solidFill>
                <a:latin typeface="Bookman Old Style"/>
              </a:rPr>
              <a:t>Проект разработ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3640" y="76500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cc"/>
                </a:solidFill>
                <a:latin typeface="Monotype Corsiva"/>
              </a:rPr>
              <a:t>Лось Александр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3500280"/>
            <a:ext cx="62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3836880"/>
            <a:ext cx="50036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cc"/>
                </a:solidFill>
                <a:latin typeface="Monotype Corsiva"/>
              </a:rPr>
              <a:t>Молочникову А.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cc"/>
                </a:solidFill>
                <a:latin typeface="Monotype Corsiva"/>
              </a:rPr>
              <a:t>Крупкину Т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cc"/>
                </a:solidFill>
                <a:latin typeface="Monotype Corsiva"/>
              </a:rPr>
              <a:t>Жевиной А.П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1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907920"/>
            <a:ext cx="7777080" cy="89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cccc"/>
                </a:solidFill>
                <a:latin typeface="Monotype Corsiva"/>
              </a:rPr>
              <a:t>Спасибо за внимание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7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Bookman Old Style"/>
              </a:rPr>
              <a:t>Фирма предлагает к производству  четыре вида продукции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ffa7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 rot="184200">
            <a:off x="1763280" y="0"/>
            <a:ext cx="597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Питьевые йогурты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(Кисломолочный продукт с натуральными фруктами содержащий ценные биокультуры и витами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16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Исследование рынка показ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234936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MS Mincho"/>
              </a:rPr>
              <a:t>аналогичная продукция  на данный момент пользуется высоким спр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S Mincho"/>
              </a:rPr>
              <a:t>разнообразие вк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S Mincho"/>
              </a:rPr>
              <a:t>не уступает по качеству аналогам ведущих произ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80"/>
                            </p:stCondLst>
                            <p:childTnLst>
                              <p:par>
                                <p:cTn id="63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80"/>
                            </p:stCondLst>
                            <p:childTnLst>
                              <p:par>
                                <p:cTn id="7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55">
                                  <p:stCondLst>
                                    <p:cond delay="1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5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7be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19280" y="189000"/>
            <a:ext cx="5688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ефир+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84464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468360" y="1773360"/>
            <a:ext cx="10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0032"/>
                </a:solidFill>
                <a:latin typeface="Arial Unicode MS"/>
              </a:rPr>
              <a:t>(Кисломолочный продукт, содержащий бифидокуль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60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сследование рынка показ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263700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данный продукт всегда пользовался спросом,  также спрос повышает новшест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ысокое содержание  бифидобакте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не уступает по качеству аналогам ведущих произв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750"/>
                            </p:stCondLst>
                            <p:childTnLst>
                              <p:par>
                                <p:cTn id="126" nodeType="after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47640" y="-316080"/>
            <a:ext cx="6220080" cy="21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олочные коктейли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00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Продукт из цельного  стерилизованного молока, с натуральными фруктовыми наполнителями, содержит лактозу и витам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2349360"/>
            <a:ext cx="84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продукт пользуется высоким спро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недавно появился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разнообразие вк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мало анал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не уступает по качеству аналогам ведущих произв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xit" presetID="4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4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8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eec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835280" y="-747720"/>
            <a:ext cx="5019480" cy="25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Жидкий шоколад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70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0032"/>
                </a:solidFill>
                <a:latin typeface="Comic Sans MS"/>
              </a:rPr>
              <a:t>(Продукт из цельного стерилизованного молока и кака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205000"/>
            <a:ext cx="864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продукт  в ближайшее время появится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не существует  ана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S Mincho"/>
              </a:rPr>
              <a:t>высокий потенциал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92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270"/>
                            </p:stCondLst>
                            <p:childTnLst>
                              <p:par>
                                <p:cTn id="209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187280" y="0"/>
            <a:ext cx="691380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ырьевая база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335772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600 литров мол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5 килограмм сахара в де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2349360"/>
          <a:ext cx="9143640" cy="4032000"/>
        </p:xfrm>
        <a:graphic>
          <a:graphicData uri="http://schemas.openxmlformats.org/drawingml/2006/table">
            <a:tbl>
              <a:tblPr/>
              <a:tblGrid>
                <a:gridCol w="1054440"/>
                <a:gridCol w="1002600"/>
                <a:gridCol w="920160"/>
                <a:gridCol w="1081080"/>
                <a:gridCol w="1324800"/>
                <a:gridCol w="1782720"/>
                <a:gridCol w="1120680"/>
                <a:gridCol w="8571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Затраты ресурсов на выпуск одной единици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Прибыль  от реализации одной единици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Программа выпуска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Общ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олоко(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ахар(к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ремя(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еньги(рубл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Питьевые йогу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35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Кефир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3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Молочный кок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4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Жидкий шокол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Наличие ресур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Ограни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50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 txBox="1"/>
          <p:nvPr/>
        </p:nvSpPr>
        <p:spPr>
          <a:xfrm>
            <a:off x="755640" y="260280"/>
            <a:ext cx="784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асчет выпуска продукци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advTm="1000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24000" y="404640"/>
          <a:ext cx="8604000" cy="607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86040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8:21:58Z</dcterms:created>
  <dc:creator>Ирина</dc:creator>
  <dc:description/>
  <dc:language>en-US</dc:language>
  <cp:lastModifiedBy>Ирина</cp:lastModifiedBy>
  <dcterms:modified xsi:type="dcterms:W3CDTF">2004-10-19T17:06:34Z</dcterms:modified>
  <cp:revision>5</cp:revision>
  <dc:subject/>
  <dc:title>Слайд 1</dc:title>
</cp:coreProperties>
</file>